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17B-F706-416E-9655-C08CBA8A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60B-4127-420F-85B0-E042A40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D08-8397-43AB-9643-7CAE3017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70E-1A03-4623-BFAC-3CE6B40B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BC6-7991-486C-80A6-F245957C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E15-6BF7-4B59-8594-F24F7A73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77A-739B-48C9-962E-F908D1C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7B7-E8AF-4C11-AFA2-763FA6A9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DA2-C39E-4E6C-819B-1A98CB56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8EC-2826-48F7-98F5-D11C19F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847-0C5D-4FF3-9178-709951DB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0CF-AC55-45F5-B3BC-B9DE3FC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143-9013-43F0-A148-69F76DDDC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10) + (7 x 60) + (3 x 30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0000" y="0"/>
            <a:ext cx="6804000" cy="305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6588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8764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060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836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400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177336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2472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4036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32720" y="256536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5600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5164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203640" y="3284640"/>
            <a:ext cx="3096720" cy="1121400"/>
            <a:chOff x="3203640" y="3284640"/>
            <a:chExt cx="3096720" cy="1121400"/>
          </a:xfrm>
        </p:grpSpPr>
        <p:sp>
          <p:nvSpPr>
            <p:cNvPr id="327" name=""/>
            <p:cNvSpPr/>
            <p:nvPr/>
          </p:nvSpPr>
          <p:spPr>
            <a:xfrm>
              <a:off x="3203640" y="3340080"/>
              <a:ext cx="2257200" cy="1065960"/>
            </a:xfrm>
            <a:custGeom>
              <a:avLst/>
              <a:gdLst/>
              <a:ahLst/>
              <a:rect l="l" t="t" r="r" b="b"/>
              <a:pathLst>
                <a:path w="4069" h="1439">
                  <a:moveTo>
                    <a:pt x="16768" y="16644"/>
                  </a:moveTo>
                  <a:cubicBezTo>
                    <a:pt x="16775" y="16673"/>
                    <a:pt x="16785" y="16689"/>
                    <a:pt x="16793" y="16718"/>
                  </a:cubicBezTo>
                  <a:cubicBezTo>
                    <a:pt x="16825" y="16667"/>
                    <a:pt x="16821" y="16607"/>
                    <a:pt x="16842" y="16545"/>
                  </a:cubicBezTo>
                  <a:cubicBezTo>
                    <a:pt x="16876" y="16445"/>
                    <a:pt x="16917" y="16365"/>
                    <a:pt x="16966" y="16272"/>
                  </a:cubicBezTo>
                  <a:cubicBezTo>
                    <a:pt x="16994" y="16219"/>
                    <a:pt x="16977" y="16210"/>
                    <a:pt x="17016" y="16197"/>
                  </a:cubicBezTo>
                  <a:cubicBezTo>
                    <a:pt x="17062" y="16273"/>
                    <a:pt x="17049" y="16357"/>
                    <a:pt x="17066" y="16446"/>
                  </a:cubicBezTo>
                  <a:cubicBezTo>
                    <a:pt x="17080" y="16518"/>
                    <a:pt x="17090" y="16570"/>
                    <a:pt x="17090" y="16644"/>
                  </a:cubicBezTo>
                </a:path>
                <a:path w="4069" h="1439">
                  <a:moveTo>
                    <a:pt x="17090" y="16594"/>
                  </a:moveTo>
                  <a:cubicBezTo>
                    <a:pt x="17055" y="16514"/>
                    <a:pt x="17055" y="16503"/>
                    <a:pt x="16966" y="16495"/>
                  </a:cubicBezTo>
                  <a:cubicBezTo>
                    <a:pt x="16933" y="16495"/>
                    <a:pt x="16917" y="16495"/>
                    <a:pt x="16892" y="16495"/>
                  </a:cubicBezTo>
                </a:path>
                <a:path w="4069" h="1439">
                  <a:moveTo>
                    <a:pt x="17239" y="16272"/>
                  </a:moveTo>
                  <a:cubicBezTo>
                    <a:pt x="17231" y="16272"/>
                    <a:pt x="17222" y="16272"/>
                    <a:pt x="17214" y="16272"/>
                  </a:cubicBezTo>
                  <a:cubicBezTo>
                    <a:pt x="17260" y="16272"/>
                    <a:pt x="17273" y="16252"/>
                    <a:pt x="17314" y="16247"/>
                  </a:cubicBezTo>
                  <a:cubicBezTo>
                    <a:pt x="17322" y="16247"/>
                    <a:pt x="17330" y="16247"/>
                    <a:pt x="17338" y="16247"/>
                  </a:cubicBezTo>
                </a:path>
                <a:path w="4069" h="1439">
                  <a:moveTo>
                    <a:pt x="17462" y="16049"/>
                  </a:moveTo>
                  <a:cubicBezTo>
                    <a:pt x="17485" y="16026"/>
                    <a:pt x="17489" y="16018"/>
                    <a:pt x="17512" y="16024"/>
                  </a:cubicBezTo>
                  <a:cubicBezTo>
                    <a:pt x="17522" y="16103"/>
                    <a:pt x="17537" y="16163"/>
                    <a:pt x="17537" y="16247"/>
                  </a:cubicBezTo>
                </a:path>
                <a:path w="4069" h="1439">
                  <a:moveTo>
                    <a:pt x="17835" y="16396"/>
                  </a:moveTo>
                  <a:cubicBezTo>
                    <a:pt x="17843" y="16388"/>
                    <a:pt x="17851" y="16379"/>
                    <a:pt x="17859" y="16371"/>
                  </a:cubicBezTo>
                  <a:cubicBezTo>
                    <a:pt x="17805" y="16371"/>
                    <a:pt x="17780" y="16391"/>
                    <a:pt x="17735" y="16396"/>
                  </a:cubicBezTo>
                  <a:cubicBezTo>
                    <a:pt x="17711" y="16396"/>
                    <a:pt x="17702" y="16396"/>
                    <a:pt x="17686" y="16396"/>
                  </a:cubicBezTo>
                </a:path>
                <a:path w="4069" h="1439">
                  <a:moveTo>
                    <a:pt x="17835" y="16470"/>
                  </a:moveTo>
                  <a:cubicBezTo>
                    <a:pt x="17859" y="16495"/>
                    <a:pt x="17867" y="16504"/>
                    <a:pt x="17884" y="16520"/>
                  </a:cubicBezTo>
                  <a:cubicBezTo>
                    <a:pt x="17851" y="16520"/>
                    <a:pt x="17818" y="16520"/>
                    <a:pt x="17785" y="16520"/>
                  </a:cubicBezTo>
                </a:path>
                <a:path w="4069" h="1439">
                  <a:moveTo>
                    <a:pt x="18852" y="15776"/>
                  </a:moveTo>
                  <a:cubicBezTo>
                    <a:pt x="18852" y="15713"/>
                    <a:pt x="18875" y="15854"/>
                    <a:pt x="18876" y="15875"/>
                  </a:cubicBezTo>
                  <a:cubicBezTo>
                    <a:pt x="18878" y="15933"/>
                    <a:pt x="18876" y="15991"/>
                    <a:pt x="18876" y="16049"/>
                  </a:cubicBezTo>
                </a:path>
                <a:path w="4069" h="1439">
                  <a:moveTo>
                    <a:pt x="19546" y="16247"/>
                  </a:moveTo>
                  <a:cubicBezTo>
                    <a:pt x="19571" y="16247"/>
                    <a:pt x="19579" y="16247"/>
                    <a:pt x="19596" y="16247"/>
                  </a:cubicBezTo>
                  <a:cubicBezTo>
                    <a:pt x="19539" y="16247"/>
                    <a:pt x="19499" y="16263"/>
                    <a:pt x="19447" y="16272"/>
                  </a:cubicBezTo>
                  <a:cubicBezTo>
                    <a:pt x="19376" y="16284"/>
                    <a:pt x="19295" y="16294"/>
                    <a:pt x="19224" y="16297"/>
                  </a:cubicBezTo>
                  <a:cubicBezTo>
                    <a:pt x="19151" y="16300"/>
                    <a:pt x="19047" y="16302"/>
                    <a:pt x="18976" y="16321"/>
                  </a:cubicBezTo>
                  <a:cubicBezTo>
                    <a:pt x="18892" y="16343"/>
                    <a:pt x="18815" y="16383"/>
                    <a:pt x="18728" y="16396"/>
                  </a:cubicBezTo>
                  <a:cubicBezTo>
                    <a:pt x="18654" y="16407"/>
                    <a:pt x="18577" y="16417"/>
                    <a:pt x="18504" y="16421"/>
                  </a:cubicBezTo>
                  <a:cubicBezTo>
                    <a:pt x="18427" y="16425"/>
                    <a:pt x="18342" y="16400"/>
                    <a:pt x="18281" y="16446"/>
                  </a:cubicBezTo>
                </a:path>
                <a:path w="4069" h="1439">
                  <a:moveTo>
                    <a:pt x="18331" y="16818"/>
                  </a:moveTo>
                  <a:cubicBezTo>
                    <a:pt x="18375" y="16818"/>
                    <a:pt x="18306" y="16820"/>
                    <a:pt x="18281" y="16842"/>
                  </a:cubicBezTo>
                  <a:cubicBezTo>
                    <a:pt x="18233" y="16884"/>
                    <a:pt x="18231" y="16903"/>
                    <a:pt x="18231" y="16966"/>
                  </a:cubicBezTo>
                  <a:cubicBezTo>
                    <a:pt x="18283" y="16966"/>
                    <a:pt x="18294" y="16955"/>
                    <a:pt x="18331" y="16917"/>
                  </a:cubicBezTo>
                  <a:cubicBezTo>
                    <a:pt x="18355" y="16892"/>
                    <a:pt x="18363" y="16883"/>
                    <a:pt x="18380" y="16867"/>
                  </a:cubicBezTo>
                  <a:cubicBezTo>
                    <a:pt x="18390" y="16908"/>
                    <a:pt x="18398" y="16931"/>
                    <a:pt x="18430" y="16942"/>
                  </a:cubicBezTo>
                </a:path>
                <a:path w="4069" h="1439">
                  <a:moveTo>
                    <a:pt x="18554" y="16842"/>
                  </a:moveTo>
                  <a:cubicBezTo>
                    <a:pt x="18554" y="16803"/>
                    <a:pt x="18517" y="16863"/>
                    <a:pt x="18504" y="16892"/>
                  </a:cubicBezTo>
                  <a:cubicBezTo>
                    <a:pt x="18504" y="16917"/>
                    <a:pt x="18504" y="16925"/>
                    <a:pt x="18529" y="16917"/>
                  </a:cubicBezTo>
                  <a:cubicBezTo>
                    <a:pt x="18566" y="16868"/>
                    <a:pt x="18576" y="16808"/>
                    <a:pt x="18579" y="16743"/>
                  </a:cubicBezTo>
                  <a:cubicBezTo>
                    <a:pt x="18581" y="16685"/>
                    <a:pt x="18579" y="16611"/>
                    <a:pt x="18579" y="16669"/>
                  </a:cubicBezTo>
                  <a:cubicBezTo>
                    <a:pt x="18579" y="16745"/>
                    <a:pt x="18574" y="16798"/>
                    <a:pt x="18604" y="16867"/>
                  </a:cubicBezTo>
                  <a:cubicBezTo>
                    <a:pt x="18612" y="16884"/>
                    <a:pt x="18620" y="16900"/>
                    <a:pt x="18628" y="16917"/>
                  </a:cubicBezTo>
                </a:path>
                <a:path w="4069" h="1439">
                  <a:moveTo>
                    <a:pt x="18827" y="16818"/>
                  </a:moveTo>
                  <a:cubicBezTo>
                    <a:pt x="18872" y="16807"/>
                    <a:pt x="18897" y="16793"/>
                    <a:pt x="18951" y="16793"/>
                  </a:cubicBezTo>
                </a:path>
                <a:path w="4069" h="1439">
                  <a:moveTo>
                    <a:pt x="19124" y="16545"/>
                  </a:moveTo>
                  <a:cubicBezTo>
                    <a:pt x="19132" y="16520"/>
                    <a:pt x="19141" y="16495"/>
                    <a:pt x="19149" y="16470"/>
                  </a:cubicBezTo>
                  <a:cubicBezTo>
                    <a:pt x="19149" y="16557"/>
                    <a:pt x="19128" y="16632"/>
                    <a:pt x="19124" y="16718"/>
                  </a:cubicBezTo>
                  <a:cubicBezTo>
                    <a:pt x="19124" y="16770"/>
                    <a:pt x="19123" y="16788"/>
                    <a:pt x="19100" y="16818"/>
                  </a:cubicBezTo>
                  <a:cubicBezTo>
                    <a:pt x="19120" y="16798"/>
                    <a:pt x="19165" y="16728"/>
                    <a:pt x="19199" y="16743"/>
                  </a:cubicBezTo>
                  <a:cubicBezTo>
                    <a:pt x="19225" y="16754"/>
                    <a:pt x="19238" y="16817"/>
                    <a:pt x="19224" y="16842"/>
                  </a:cubicBezTo>
                  <a:cubicBezTo>
                    <a:pt x="19199" y="16886"/>
                    <a:pt x="19168" y="16892"/>
                    <a:pt x="19124" y="16892"/>
                  </a:cubicBezTo>
                </a:path>
                <a:path w="4069" h="1439">
                  <a:moveTo>
                    <a:pt x="19348" y="16718"/>
                  </a:moveTo>
                  <a:cubicBezTo>
                    <a:pt x="19348" y="16662"/>
                    <a:pt x="19325" y="16768"/>
                    <a:pt x="19323" y="16793"/>
                  </a:cubicBezTo>
                  <a:cubicBezTo>
                    <a:pt x="19317" y="16857"/>
                    <a:pt x="19337" y="16862"/>
                    <a:pt x="19397" y="16867"/>
                  </a:cubicBezTo>
                  <a:cubicBezTo>
                    <a:pt x="19430" y="16867"/>
                    <a:pt x="19447" y="16867"/>
                    <a:pt x="19472" y="16867"/>
                  </a:cubicBezTo>
                </a:path>
                <a:path w="4069" h="1439">
                  <a:moveTo>
                    <a:pt x="20613" y="15801"/>
                  </a:moveTo>
                  <a:cubicBezTo>
                    <a:pt x="20655" y="15821"/>
                    <a:pt x="20594" y="15823"/>
                    <a:pt x="20563" y="15850"/>
                  </a:cubicBezTo>
                  <a:cubicBezTo>
                    <a:pt x="20522" y="15886"/>
                    <a:pt x="20538" y="15948"/>
                    <a:pt x="20538" y="15999"/>
                  </a:cubicBezTo>
                  <a:cubicBezTo>
                    <a:pt x="20589" y="15973"/>
                    <a:pt x="20651" y="15895"/>
                    <a:pt x="20662" y="15825"/>
                  </a:cubicBezTo>
                  <a:cubicBezTo>
                    <a:pt x="20676" y="15738"/>
                    <a:pt x="20704" y="15640"/>
                    <a:pt x="20712" y="15553"/>
                  </a:cubicBezTo>
                  <a:cubicBezTo>
                    <a:pt x="20718" y="15486"/>
                    <a:pt x="20710" y="15689"/>
                    <a:pt x="20712" y="15701"/>
                  </a:cubicBezTo>
                  <a:cubicBezTo>
                    <a:pt x="20725" y="15781"/>
                    <a:pt x="20754" y="15852"/>
                    <a:pt x="20786" y="15925"/>
                  </a:cubicBezTo>
                </a:path>
                <a:path w="4069" h="1439">
                  <a:moveTo>
                    <a:pt x="20389" y="16694"/>
                  </a:moveTo>
                  <a:cubicBezTo>
                    <a:pt x="20397" y="16686"/>
                    <a:pt x="20406" y="16677"/>
                    <a:pt x="20414" y="16669"/>
                  </a:cubicBezTo>
                  <a:cubicBezTo>
                    <a:pt x="20367" y="16669"/>
                    <a:pt x="20335" y="16689"/>
                    <a:pt x="20290" y="16694"/>
                  </a:cubicBezTo>
                  <a:cubicBezTo>
                    <a:pt x="20265" y="16694"/>
                    <a:pt x="20257" y="16694"/>
                    <a:pt x="20241" y="16694"/>
                  </a:cubicBezTo>
                </a:path>
                <a:path w="4069" h="1439">
                  <a:moveTo>
                    <a:pt x="20662" y="16619"/>
                  </a:moveTo>
                  <a:cubicBezTo>
                    <a:pt x="20750" y="16580"/>
                    <a:pt x="20713" y="16586"/>
                    <a:pt x="20762" y="16570"/>
                  </a:cubicBezTo>
                  <a:cubicBezTo>
                    <a:pt x="20722" y="16609"/>
                    <a:pt x="20669" y="16648"/>
                    <a:pt x="20638" y="16694"/>
                  </a:cubicBezTo>
                  <a:cubicBezTo>
                    <a:pt x="20595" y="16758"/>
                    <a:pt x="20604" y="16823"/>
                    <a:pt x="20687" y="16842"/>
                  </a:cubicBezTo>
                  <a:cubicBezTo>
                    <a:pt x="20743" y="16855"/>
                    <a:pt x="20786" y="16836"/>
                    <a:pt x="20836" y="16818"/>
                  </a:cubicBezTo>
                </a:path>
                <a:path w="4069" h="1439">
                  <a:moveTo>
                    <a:pt x="20141" y="15553"/>
                  </a:moveTo>
                  <a:cubicBezTo>
                    <a:pt x="20151" y="15523"/>
                    <a:pt x="20173" y="15510"/>
                    <a:pt x="20166" y="15528"/>
                  </a:cubicBezTo>
                  <a:cubicBezTo>
                    <a:pt x="20151" y="15565"/>
                    <a:pt x="20137" y="15591"/>
                    <a:pt x="20117" y="15627"/>
                  </a:cubicBezTo>
                  <a:cubicBezTo>
                    <a:pt x="20086" y="15683"/>
                    <a:pt x="20081" y="15746"/>
                    <a:pt x="20042" y="15801"/>
                  </a:cubicBezTo>
                  <a:cubicBezTo>
                    <a:pt x="20008" y="15849"/>
                    <a:pt x="19996" y="15936"/>
                    <a:pt x="19993" y="15999"/>
                  </a:cubicBezTo>
                  <a:cubicBezTo>
                    <a:pt x="19989" y="16096"/>
                    <a:pt x="19957" y="16178"/>
                    <a:pt x="19943" y="16272"/>
                  </a:cubicBezTo>
                  <a:cubicBezTo>
                    <a:pt x="19931" y="16354"/>
                    <a:pt x="19921" y="16438"/>
                    <a:pt x="19918" y="16520"/>
                  </a:cubicBezTo>
                  <a:cubicBezTo>
                    <a:pt x="19915" y="16600"/>
                    <a:pt x="19902" y="16697"/>
                    <a:pt x="19943" y="16768"/>
                  </a:cubicBezTo>
                  <a:cubicBezTo>
                    <a:pt x="19971" y="16817"/>
                    <a:pt x="20004" y="16842"/>
                    <a:pt x="20042" y="16867"/>
                  </a:cubicBezTo>
                  <a:cubicBezTo>
                    <a:pt x="20065" y="16890"/>
                    <a:pt x="20069" y="16898"/>
                    <a:pt x="20092" y="16892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76920" y="3284640"/>
              <a:ext cx="523440" cy="974520"/>
            </a:xfrm>
            <a:custGeom>
              <a:avLst/>
              <a:gdLst/>
              <a:ahLst/>
              <a:rect l="l" t="t" r="r" b="b"/>
              <a:pathLst>
                <a:path w="944" h="1316">
                  <a:moveTo>
                    <a:pt x="21406" y="15825"/>
                  </a:moveTo>
                  <a:cubicBezTo>
                    <a:pt x="21406" y="15833"/>
                    <a:pt x="21406" y="15842"/>
                    <a:pt x="21406" y="15850"/>
                  </a:cubicBezTo>
                  <a:cubicBezTo>
                    <a:pt x="21452" y="15850"/>
                    <a:pt x="21465" y="15830"/>
                    <a:pt x="21506" y="15825"/>
                  </a:cubicBezTo>
                  <a:cubicBezTo>
                    <a:pt x="21556" y="15819"/>
                    <a:pt x="21617" y="15810"/>
                    <a:pt x="21630" y="15850"/>
                  </a:cubicBezTo>
                </a:path>
                <a:path w="944" h="1316">
                  <a:moveTo>
                    <a:pt x="21779" y="15627"/>
                  </a:moveTo>
                  <a:cubicBezTo>
                    <a:pt x="21786" y="15611"/>
                    <a:pt x="21803" y="15521"/>
                    <a:pt x="21803" y="15577"/>
                  </a:cubicBezTo>
                  <a:cubicBezTo>
                    <a:pt x="21791" y="15642"/>
                    <a:pt x="21762" y="15712"/>
                    <a:pt x="21754" y="15776"/>
                  </a:cubicBezTo>
                  <a:cubicBezTo>
                    <a:pt x="21748" y="15823"/>
                    <a:pt x="21754" y="15877"/>
                    <a:pt x="21754" y="15925"/>
                  </a:cubicBezTo>
                  <a:cubicBezTo>
                    <a:pt x="21795" y="15873"/>
                    <a:pt x="21805" y="15832"/>
                    <a:pt x="21878" y="15825"/>
                  </a:cubicBezTo>
                  <a:cubicBezTo>
                    <a:pt x="21925" y="15820"/>
                    <a:pt x="21967" y="15880"/>
                    <a:pt x="21952" y="15925"/>
                  </a:cubicBezTo>
                  <a:cubicBezTo>
                    <a:pt x="21934" y="15978"/>
                    <a:pt x="21884" y="16020"/>
                    <a:pt x="21828" y="16024"/>
                  </a:cubicBezTo>
                  <a:cubicBezTo>
                    <a:pt x="21777" y="16024"/>
                    <a:pt x="21758" y="16023"/>
                    <a:pt x="21729" y="15999"/>
                  </a:cubicBezTo>
                </a:path>
                <a:path w="944" h="1316">
                  <a:moveTo>
                    <a:pt x="21779" y="16594"/>
                  </a:moveTo>
                  <a:cubicBezTo>
                    <a:pt x="21779" y="16586"/>
                    <a:pt x="21779" y="16578"/>
                    <a:pt x="21779" y="16570"/>
                  </a:cubicBezTo>
                  <a:cubicBezTo>
                    <a:pt x="21718" y="16585"/>
                    <a:pt x="21716" y="16620"/>
                    <a:pt x="21679" y="16669"/>
                  </a:cubicBezTo>
                  <a:cubicBezTo>
                    <a:pt x="21641" y="16719"/>
                    <a:pt x="21634" y="16716"/>
                    <a:pt x="21654" y="16768"/>
                  </a:cubicBezTo>
                  <a:cubicBezTo>
                    <a:pt x="21709" y="16754"/>
                    <a:pt x="21716" y="16711"/>
                    <a:pt x="21754" y="16669"/>
                  </a:cubicBezTo>
                  <a:cubicBezTo>
                    <a:pt x="21807" y="16610"/>
                    <a:pt x="21848" y="16667"/>
                    <a:pt x="21878" y="16718"/>
                  </a:cubicBezTo>
                  <a:cubicBezTo>
                    <a:pt x="21886" y="16735"/>
                    <a:pt x="21895" y="16751"/>
                    <a:pt x="21903" y="16768"/>
                  </a:cubicBezTo>
                </a:path>
                <a:path w="944" h="1316">
                  <a:moveTo>
                    <a:pt x="22051" y="15453"/>
                  </a:moveTo>
                  <a:cubicBezTo>
                    <a:pt x="22097" y="15453"/>
                    <a:pt x="22116" y="15446"/>
                    <a:pt x="22151" y="15478"/>
                  </a:cubicBezTo>
                  <a:cubicBezTo>
                    <a:pt x="22200" y="15523"/>
                    <a:pt x="22245" y="15568"/>
                    <a:pt x="22275" y="15627"/>
                  </a:cubicBezTo>
                  <a:cubicBezTo>
                    <a:pt x="22315" y="15704"/>
                    <a:pt x="22341" y="15789"/>
                    <a:pt x="22349" y="15875"/>
                  </a:cubicBezTo>
                  <a:cubicBezTo>
                    <a:pt x="22361" y="15997"/>
                    <a:pt x="22356" y="16129"/>
                    <a:pt x="22324" y="16247"/>
                  </a:cubicBezTo>
                  <a:cubicBezTo>
                    <a:pt x="22299" y="16341"/>
                    <a:pt x="22257" y="16429"/>
                    <a:pt x="22225" y="16520"/>
                  </a:cubicBezTo>
                  <a:cubicBezTo>
                    <a:pt x="22200" y="16591"/>
                    <a:pt x="22152" y="16654"/>
                    <a:pt x="22126" y="16718"/>
                  </a:cubicBezTo>
                  <a:cubicBezTo>
                    <a:pt x="22126" y="16726"/>
                    <a:pt x="22126" y="16735"/>
                    <a:pt x="22126" y="16743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 flipV="1">
            <a:off x="2340000" y="4508640"/>
            <a:ext cx="172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5157720"/>
            <a:ext cx="316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 – bc = deter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tells us about the 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84720" y="5157720"/>
            <a:ext cx="4248000" cy="1295640"/>
          </a:xfrm>
          <a:prstGeom prst="wedgeRectCallout">
            <a:avLst>
              <a:gd name="adj1" fmla="val -43759"/>
              <a:gd name="adj2" fmla="val 77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= 0: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es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= 1: A is “singu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: A is “non-singu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09800" y="3313080"/>
            <a:ext cx="320400" cy="231840"/>
          </a:xfrm>
          <a:custGeom>
            <a:avLst/>
            <a:gdLst/>
            <a:ahLst/>
            <a:rect l="l" t="t" r="r" b="b"/>
            <a:pathLst>
              <a:path w="894" h="645">
                <a:moveTo>
                  <a:pt x="2927" y="9624"/>
                </a:moveTo>
                <a:cubicBezTo>
                  <a:pt x="2894" y="9646"/>
                  <a:pt x="2847" y="9681"/>
                  <a:pt x="2828" y="9723"/>
                </a:cubicBezTo>
                <a:cubicBezTo>
                  <a:pt x="2828" y="9751"/>
                  <a:pt x="2826" y="9762"/>
                  <a:pt x="2803" y="9773"/>
                </a:cubicBezTo>
                <a:cubicBezTo>
                  <a:pt x="2860" y="9703"/>
                  <a:pt x="2891" y="9608"/>
                  <a:pt x="2927" y="9525"/>
                </a:cubicBezTo>
                <a:cubicBezTo>
                  <a:pt x="2978" y="9406"/>
                  <a:pt x="2992" y="9302"/>
                  <a:pt x="3076" y="9203"/>
                </a:cubicBezTo>
                <a:cubicBezTo>
                  <a:pt x="3145" y="9288"/>
                  <a:pt x="3153" y="9393"/>
                  <a:pt x="3175" y="9500"/>
                </a:cubicBezTo>
                <a:cubicBezTo>
                  <a:pt x="3199" y="9616"/>
                  <a:pt x="3212" y="9732"/>
                  <a:pt x="3225" y="9847"/>
                </a:cubicBezTo>
              </a:path>
              <a:path w="894" h="645">
                <a:moveTo>
                  <a:pt x="3225" y="9798"/>
                </a:moveTo>
                <a:cubicBezTo>
                  <a:pt x="3185" y="9725"/>
                  <a:pt x="3161" y="9653"/>
                  <a:pt x="3076" y="9624"/>
                </a:cubicBezTo>
                <a:cubicBezTo>
                  <a:pt x="3036" y="9610"/>
                  <a:pt x="2970" y="9624"/>
                  <a:pt x="2927" y="9624"/>
                </a:cubicBezTo>
              </a:path>
              <a:path w="894" h="645">
                <a:moveTo>
                  <a:pt x="3671" y="9451"/>
                </a:moveTo>
                <a:cubicBezTo>
                  <a:pt x="3679" y="9451"/>
                  <a:pt x="3688" y="9451"/>
                  <a:pt x="3696" y="9451"/>
                </a:cubicBezTo>
                <a:cubicBezTo>
                  <a:pt x="3639" y="9451"/>
                  <a:pt x="3593" y="9466"/>
                  <a:pt x="3547" y="9475"/>
                </a:cubicBezTo>
                <a:cubicBezTo>
                  <a:pt x="3530" y="9475"/>
                  <a:pt x="3514" y="9475"/>
                  <a:pt x="3497" y="9475"/>
                </a:cubicBezTo>
              </a:path>
              <a:path w="894" h="645">
                <a:moveTo>
                  <a:pt x="3621" y="9550"/>
                </a:moveTo>
                <a:cubicBezTo>
                  <a:pt x="3666" y="9610"/>
                  <a:pt x="3637" y="9615"/>
                  <a:pt x="3572" y="962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54120" y="2973240"/>
            <a:ext cx="857160" cy="679680"/>
          </a:xfrm>
          <a:custGeom>
            <a:avLst/>
            <a:gdLst/>
            <a:ahLst/>
            <a:rect l="l" t="t" r="r" b="b"/>
            <a:pathLst>
              <a:path w="2382" h="1886">
                <a:moveTo>
                  <a:pt x="4936" y="8806"/>
                </a:moveTo>
                <a:cubicBezTo>
                  <a:pt x="4961" y="8806"/>
                  <a:pt x="4986" y="8806"/>
                  <a:pt x="5011" y="8806"/>
                </a:cubicBezTo>
                <a:cubicBezTo>
                  <a:pt x="5011" y="8767"/>
                  <a:pt x="5027" y="8736"/>
                  <a:pt x="4986" y="8731"/>
                </a:cubicBezTo>
                <a:cubicBezTo>
                  <a:pt x="4918" y="8723"/>
                  <a:pt x="4894" y="8751"/>
                  <a:pt x="4862" y="8806"/>
                </a:cubicBezTo>
                <a:cubicBezTo>
                  <a:pt x="4823" y="8871"/>
                  <a:pt x="4787" y="8942"/>
                  <a:pt x="4837" y="9004"/>
                </a:cubicBezTo>
                <a:cubicBezTo>
                  <a:pt x="4882" y="9060"/>
                  <a:pt x="4944" y="9012"/>
                  <a:pt x="4961" y="8954"/>
                </a:cubicBezTo>
                <a:cubicBezTo>
                  <a:pt x="4969" y="8925"/>
                  <a:pt x="4973" y="8837"/>
                  <a:pt x="5035" y="8855"/>
                </a:cubicBezTo>
                <a:cubicBezTo>
                  <a:pt x="5089" y="8871"/>
                  <a:pt x="5114" y="8922"/>
                  <a:pt x="5159" y="8954"/>
                </a:cubicBezTo>
              </a:path>
              <a:path w="2382" h="1886">
                <a:moveTo>
                  <a:pt x="5928" y="8260"/>
                </a:moveTo>
                <a:cubicBezTo>
                  <a:pt x="5928" y="8434"/>
                  <a:pt x="5928" y="8607"/>
                  <a:pt x="5928" y="8781"/>
                </a:cubicBezTo>
                <a:cubicBezTo>
                  <a:pt x="5963" y="8746"/>
                  <a:pt x="5988" y="8679"/>
                  <a:pt x="6028" y="8657"/>
                </a:cubicBezTo>
                <a:cubicBezTo>
                  <a:pt x="6098" y="8618"/>
                  <a:pt x="6123" y="8681"/>
                  <a:pt x="6127" y="8731"/>
                </a:cubicBezTo>
                <a:cubicBezTo>
                  <a:pt x="6135" y="8830"/>
                  <a:pt x="6080" y="8785"/>
                  <a:pt x="6028" y="8806"/>
                </a:cubicBezTo>
                <a:cubicBezTo>
                  <a:pt x="6020" y="8814"/>
                  <a:pt x="6011" y="8822"/>
                  <a:pt x="6003" y="8830"/>
                </a:cubicBezTo>
              </a:path>
              <a:path w="2382" h="1886">
                <a:moveTo>
                  <a:pt x="5085" y="9649"/>
                </a:moveTo>
                <a:cubicBezTo>
                  <a:pt x="5021" y="9665"/>
                  <a:pt x="5014" y="9708"/>
                  <a:pt x="5011" y="9773"/>
                </a:cubicBezTo>
                <a:cubicBezTo>
                  <a:pt x="5009" y="9820"/>
                  <a:pt x="4992" y="9928"/>
                  <a:pt x="5060" y="9947"/>
                </a:cubicBezTo>
                <a:cubicBezTo>
                  <a:pt x="5112" y="9947"/>
                  <a:pt x="5130" y="9946"/>
                  <a:pt x="5159" y="9922"/>
                </a:cubicBezTo>
              </a:path>
              <a:path w="2382" h="1886">
                <a:moveTo>
                  <a:pt x="6003" y="9525"/>
                </a:moveTo>
                <a:cubicBezTo>
                  <a:pt x="5993" y="9564"/>
                  <a:pt x="5978" y="9580"/>
                  <a:pt x="5978" y="9624"/>
                </a:cubicBezTo>
                <a:cubicBezTo>
                  <a:pt x="5978" y="9669"/>
                  <a:pt x="5975" y="9682"/>
                  <a:pt x="6003" y="9699"/>
                </a:cubicBezTo>
                <a:cubicBezTo>
                  <a:pt x="6060" y="9699"/>
                  <a:pt x="6093" y="9661"/>
                  <a:pt x="6102" y="9599"/>
                </a:cubicBezTo>
                <a:cubicBezTo>
                  <a:pt x="6120" y="9471"/>
                  <a:pt x="6117" y="9297"/>
                  <a:pt x="6077" y="9178"/>
                </a:cubicBezTo>
                <a:cubicBezTo>
                  <a:pt x="6077" y="9111"/>
                  <a:pt x="6086" y="9261"/>
                  <a:pt x="6102" y="9327"/>
                </a:cubicBezTo>
                <a:cubicBezTo>
                  <a:pt x="6122" y="9413"/>
                  <a:pt x="6144" y="9494"/>
                  <a:pt x="6176" y="9575"/>
                </a:cubicBezTo>
              </a:path>
              <a:path w="2382" h="1886">
                <a:moveTo>
                  <a:pt x="6375" y="8384"/>
                </a:moveTo>
                <a:cubicBezTo>
                  <a:pt x="6422" y="8318"/>
                  <a:pt x="6401" y="8357"/>
                  <a:pt x="6449" y="8310"/>
                </a:cubicBezTo>
                <a:cubicBezTo>
                  <a:pt x="6502" y="8343"/>
                  <a:pt x="6538" y="8369"/>
                  <a:pt x="6573" y="8434"/>
                </a:cubicBezTo>
                <a:cubicBezTo>
                  <a:pt x="6654" y="8585"/>
                  <a:pt x="6691" y="8736"/>
                  <a:pt x="6697" y="8905"/>
                </a:cubicBezTo>
                <a:cubicBezTo>
                  <a:pt x="6704" y="9088"/>
                  <a:pt x="6716" y="9326"/>
                  <a:pt x="6648" y="9500"/>
                </a:cubicBezTo>
                <a:cubicBezTo>
                  <a:pt x="6601" y="9620"/>
                  <a:pt x="6519" y="9740"/>
                  <a:pt x="6449" y="9847"/>
                </a:cubicBezTo>
              </a:path>
              <a:path w="2382" h="1886">
                <a:moveTo>
                  <a:pt x="4415" y="8582"/>
                </a:moveTo>
                <a:cubicBezTo>
                  <a:pt x="4441" y="8512"/>
                  <a:pt x="4436" y="8509"/>
                  <a:pt x="4465" y="8458"/>
                </a:cubicBezTo>
                <a:cubicBezTo>
                  <a:pt x="4447" y="8494"/>
                  <a:pt x="4406" y="8588"/>
                  <a:pt x="4390" y="8657"/>
                </a:cubicBezTo>
                <a:cubicBezTo>
                  <a:pt x="4353" y="8822"/>
                  <a:pt x="4319" y="8985"/>
                  <a:pt x="4316" y="9153"/>
                </a:cubicBezTo>
                <a:cubicBezTo>
                  <a:pt x="4312" y="9333"/>
                  <a:pt x="4307" y="9526"/>
                  <a:pt x="4366" y="9699"/>
                </a:cubicBezTo>
                <a:cubicBezTo>
                  <a:pt x="4411" y="9833"/>
                  <a:pt x="4449" y="9982"/>
                  <a:pt x="4539" y="10096"/>
                </a:cubicBezTo>
                <a:cubicBezTo>
                  <a:pt x="4556" y="10112"/>
                  <a:pt x="4572" y="10129"/>
                  <a:pt x="4589" y="10145"/>
                </a:cubicBezTo>
              </a:path>
              <a:path w="2382" h="1886">
                <a:moveTo>
                  <a:pt x="5407" y="9054"/>
                </a:moveTo>
                <a:cubicBezTo>
                  <a:pt x="5415" y="9078"/>
                  <a:pt x="5439" y="9101"/>
                  <a:pt x="5457" y="9128"/>
                </a:cubicBezTo>
                <a:cubicBezTo>
                  <a:pt x="5488" y="9175"/>
                  <a:pt x="5528" y="9200"/>
                  <a:pt x="5556" y="9252"/>
                </a:cubicBezTo>
                <a:cubicBezTo>
                  <a:pt x="5585" y="9306"/>
                  <a:pt x="5624" y="9350"/>
                  <a:pt x="5655" y="9401"/>
                </a:cubicBezTo>
                <a:cubicBezTo>
                  <a:pt x="5682" y="9447"/>
                  <a:pt x="5710" y="9473"/>
                  <a:pt x="5730" y="9500"/>
                </a:cubicBezTo>
                <a:cubicBezTo>
                  <a:pt x="5752" y="9522"/>
                  <a:pt x="5757" y="9531"/>
                  <a:pt x="5779" y="9525"/>
                </a:cubicBezTo>
                <a:cubicBezTo>
                  <a:pt x="5779" y="9474"/>
                  <a:pt x="5790" y="9467"/>
                  <a:pt x="5804" y="9426"/>
                </a:cubicBezTo>
                <a:cubicBezTo>
                  <a:pt x="5819" y="9380"/>
                  <a:pt x="5790" y="9360"/>
                  <a:pt x="5779" y="9327"/>
                </a:cubicBezTo>
                <a:cubicBezTo>
                  <a:pt x="5761" y="9274"/>
                  <a:pt x="5779" y="9354"/>
                  <a:pt x="5779" y="9376"/>
                </a:cubicBezTo>
                <a:cubicBezTo>
                  <a:pt x="5779" y="9450"/>
                  <a:pt x="5779" y="9525"/>
                  <a:pt x="5779" y="9599"/>
                </a:cubicBezTo>
                <a:cubicBezTo>
                  <a:pt x="5739" y="9599"/>
                  <a:pt x="5713" y="9589"/>
                  <a:pt x="5680" y="9575"/>
                </a:cubicBezTo>
                <a:cubicBezTo>
                  <a:pt x="5631" y="9554"/>
                  <a:pt x="5629" y="9550"/>
                  <a:pt x="5581" y="9550"/>
                </a:cubicBezTo>
              </a:path>
              <a:path w="2382" h="1886">
                <a:moveTo>
                  <a:pt x="5358" y="9128"/>
                </a:moveTo>
                <a:cubicBezTo>
                  <a:pt x="5366" y="9120"/>
                  <a:pt x="5375" y="9111"/>
                  <a:pt x="5383" y="9103"/>
                </a:cubicBezTo>
                <a:cubicBezTo>
                  <a:pt x="5360" y="9134"/>
                  <a:pt x="5337" y="9164"/>
                  <a:pt x="5333" y="9203"/>
                </a:cubicBezTo>
                <a:cubicBezTo>
                  <a:pt x="5328" y="9243"/>
                  <a:pt x="5308" y="9221"/>
                  <a:pt x="5308" y="9277"/>
                </a:cubicBezTo>
                <a:cubicBezTo>
                  <a:pt x="5308" y="9344"/>
                  <a:pt x="5308" y="9238"/>
                  <a:pt x="5308" y="9227"/>
                </a:cubicBezTo>
                <a:cubicBezTo>
                  <a:pt x="5308" y="9160"/>
                  <a:pt x="5315" y="9132"/>
                  <a:pt x="5333" y="9079"/>
                </a:cubicBezTo>
                <a:cubicBezTo>
                  <a:pt x="5348" y="9036"/>
                  <a:pt x="5320" y="9011"/>
                  <a:pt x="5383" y="9004"/>
                </a:cubicBezTo>
                <a:cubicBezTo>
                  <a:pt x="5407" y="9001"/>
                  <a:pt x="5488" y="9042"/>
                  <a:pt x="5507" y="9054"/>
                </a:cubicBezTo>
                <a:cubicBezTo>
                  <a:pt x="5542" y="9075"/>
                  <a:pt x="5541" y="9093"/>
                  <a:pt x="5581" y="910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8040" y="173196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1687" y="5060"/>
                </a:moveTo>
                <a:cubicBezTo>
                  <a:pt x="1740" y="5060"/>
                  <a:pt x="1798" y="5055"/>
                  <a:pt x="1836" y="5011"/>
                </a:cubicBezTo>
                <a:cubicBezTo>
                  <a:pt x="1853" y="4991"/>
                  <a:pt x="1894" y="4860"/>
                  <a:pt x="1885" y="4837"/>
                </a:cubicBezTo>
                <a:cubicBezTo>
                  <a:pt x="1877" y="4829"/>
                  <a:pt x="1868" y="4820"/>
                  <a:pt x="1860" y="4812"/>
                </a:cubicBezTo>
                <a:cubicBezTo>
                  <a:pt x="1804" y="4826"/>
                  <a:pt x="1783" y="4880"/>
                  <a:pt x="1761" y="4936"/>
                </a:cubicBezTo>
                <a:cubicBezTo>
                  <a:pt x="1738" y="4995"/>
                  <a:pt x="1704" y="5112"/>
                  <a:pt x="1761" y="5159"/>
                </a:cubicBezTo>
                <a:cubicBezTo>
                  <a:pt x="1809" y="5199"/>
                  <a:pt x="1878" y="5184"/>
                  <a:pt x="1935" y="5184"/>
                </a:cubicBezTo>
              </a:path>
              <a:path w="869" h="572">
                <a:moveTo>
                  <a:pt x="2133" y="5085"/>
                </a:moveTo>
                <a:cubicBezTo>
                  <a:pt x="2158" y="5085"/>
                  <a:pt x="2166" y="5085"/>
                  <a:pt x="2183" y="5085"/>
                </a:cubicBezTo>
              </a:path>
              <a:path w="869" h="572">
                <a:moveTo>
                  <a:pt x="2431" y="4936"/>
                </a:moveTo>
                <a:cubicBezTo>
                  <a:pt x="2451" y="4896"/>
                  <a:pt x="2460" y="4890"/>
                  <a:pt x="2456" y="4862"/>
                </a:cubicBezTo>
                <a:cubicBezTo>
                  <a:pt x="2401" y="4876"/>
                  <a:pt x="2383" y="4909"/>
                  <a:pt x="2356" y="4961"/>
                </a:cubicBezTo>
                <a:cubicBezTo>
                  <a:pt x="2325" y="5020"/>
                  <a:pt x="2323" y="5014"/>
                  <a:pt x="2356" y="5060"/>
                </a:cubicBezTo>
                <a:cubicBezTo>
                  <a:pt x="2378" y="5031"/>
                  <a:pt x="2392" y="4978"/>
                  <a:pt x="2431" y="4961"/>
                </a:cubicBezTo>
                <a:cubicBezTo>
                  <a:pt x="2456" y="4961"/>
                  <a:pt x="2464" y="4961"/>
                  <a:pt x="2480" y="4961"/>
                </a:cubicBezTo>
                <a:cubicBezTo>
                  <a:pt x="2516" y="5043"/>
                  <a:pt x="2572" y="5141"/>
                  <a:pt x="2555" y="5234"/>
                </a:cubicBezTo>
                <a:cubicBezTo>
                  <a:pt x="2542" y="5304"/>
                  <a:pt x="2494" y="5377"/>
                  <a:pt x="2431" y="5383"/>
                </a:cubicBezTo>
                <a:cubicBezTo>
                  <a:pt x="2338" y="5392"/>
                  <a:pt x="2289" y="5374"/>
                  <a:pt x="2208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17720" y="1812960"/>
            <a:ext cx="3636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2828" y="5060"/>
                </a:moveTo>
                <a:cubicBezTo>
                  <a:pt x="2885" y="5041"/>
                  <a:pt x="2892" y="5032"/>
                  <a:pt x="2927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92080" y="2133720"/>
            <a:ext cx="196920" cy="26028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2580" y="6176"/>
                </a:moveTo>
                <a:cubicBezTo>
                  <a:pt x="2609" y="6154"/>
                  <a:pt x="2686" y="6143"/>
                  <a:pt x="2654" y="6127"/>
                </a:cubicBezTo>
                <a:cubicBezTo>
                  <a:pt x="2622" y="6111"/>
                  <a:pt x="2547" y="6157"/>
                  <a:pt x="2530" y="6176"/>
                </a:cubicBezTo>
                <a:cubicBezTo>
                  <a:pt x="2480" y="6234"/>
                  <a:pt x="2461" y="6315"/>
                  <a:pt x="2505" y="6375"/>
                </a:cubicBezTo>
                <a:cubicBezTo>
                  <a:pt x="2513" y="6383"/>
                  <a:pt x="2522" y="6392"/>
                  <a:pt x="2530" y="6400"/>
                </a:cubicBezTo>
                <a:cubicBezTo>
                  <a:pt x="2563" y="6383"/>
                  <a:pt x="2612" y="6320"/>
                  <a:pt x="2629" y="6276"/>
                </a:cubicBezTo>
                <a:cubicBezTo>
                  <a:pt x="2653" y="6216"/>
                  <a:pt x="2707" y="6276"/>
                  <a:pt x="2753" y="6300"/>
                </a:cubicBezTo>
                <a:cubicBezTo>
                  <a:pt x="2802" y="6326"/>
                  <a:pt x="2814" y="6355"/>
                  <a:pt x="2853" y="6375"/>
                </a:cubicBezTo>
              </a:path>
              <a:path w="547" h="721">
                <a:moveTo>
                  <a:pt x="2654" y="5978"/>
                </a:moveTo>
                <a:cubicBezTo>
                  <a:pt x="2776" y="5929"/>
                  <a:pt x="2888" y="5886"/>
                  <a:pt x="2977" y="6028"/>
                </a:cubicBezTo>
                <a:cubicBezTo>
                  <a:pt x="3066" y="6170"/>
                  <a:pt x="3043" y="6380"/>
                  <a:pt x="2977" y="6524"/>
                </a:cubicBezTo>
                <a:cubicBezTo>
                  <a:pt x="2927" y="6598"/>
                  <a:pt x="2910" y="6623"/>
                  <a:pt x="2853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160720"/>
            <a:ext cx="509400" cy="206280"/>
          </a:xfrm>
          <a:custGeom>
            <a:avLst/>
            <a:gdLst/>
            <a:ahLst/>
            <a:rect l="l" t="t" r="r" b="b"/>
            <a:pathLst>
              <a:path w="1415" h="571">
                <a:moveTo>
                  <a:pt x="3497" y="6102"/>
                </a:moveTo>
                <a:cubicBezTo>
                  <a:pt x="3516" y="6045"/>
                  <a:pt x="3507" y="6020"/>
                  <a:pt x="3547" y="6028"/>
                </a:cubicBezTo>
                <a:cubicBezTo>
                  <a:pt x="3547" y="6132"/>
                  <a:pt x="3563" y="6224"/>
                  <a:pt x="3572" y="6325"/>
                </a:cubicBezTo>
                <a:cubicBezTo>
                  <a:pt x="3579" y="6410"/>
                  <a:pt x="3597" y="6488"/>
                  <a:pt x="3597" y="6573"/>
                </a:cubicBezTo>
              </a:path>
              <a:path w="1415" h="571">
                <a:moveTo>
                  <a:pt x="3820" y="6052"/>
                </a:moveTo>
                <a:cubicBezTo>
                  <a:pt x="3828" y="6044"/>
                  <a:pt x="3837" y="6036"/>
                  <a:pt x="3845" y="6028"/>
                </a:cubicBezTo>
                <a:cubicBezTo>
                  <a:pt x="3770" y="6028"/>
                  <a:pt x="3717" y="6046"/>
                  <a:pt x="3646" y="6077"/>
                </a:cubicBezTo>
                <a:cubicBezTo>
                  <a:pt x="3603" y="6095"/>
                  <a:pt x="3587" y="6117"/>
                  <a:pt x="3547" y="6127"/>
                </a:cubicBezTo>
              </a:path>
              <a:path w="1415" h="571">
                <a:moveTo>
                  <a:pt x="3721" y="6251"/>
                </a:moveTo>
                <a:cubicBezTo>
                  <a:pt x="3737" y="6251"/>
                  <a:pt x="3754" y="6251"/>
                  <a:pt x="3770" y="6251"/>
                </a:cubicBezTo>
                <a:cubicBezTo>
                  <a:pt x="3731" y="6281"/>
                  <a:pt x="3672" y="6289"/>
                  <a:pt x="3621" y="6300"/>
                </a:cubicBezTo>
                <a:cubicBezTo>
                  <a:pt x="3597" y="6300"/>
                  <a:pt x="3588" y="6300"/>
                  <a:pt x="3572" y="6300"/>
                </a:cubicBezTo>
              </a:path>
              <a:path w="1415" h="571">
                <a:moveTo>
                  <a:pt x="3919" y="6375"/>
                </a:moveTo>
                <a:cubicBezTo>
                  <a:pt x="3944" y="6375"/>
                  <a:pt x="3952" y="6375"/>
                  <a:pt x="3969" y="6375"/>
                </a:cubicBezTo>
                <a:cubicBezTo>
                  <a:pt x="3969" y="6408"/>
                  <a:pt x="3969" y="6441"/>
                  <a:pt x="3969" y="6474"/>
                </a:cubicBezTo>
              </a:path>
              <a:path w="1415" h="571">
                <a:moveTo>
                  <a:pt x="3944" y="6226"/>
                </a:moveTo>
                <a:cubicBezTo>
                  <a:pt x="3944" y="6158"/>
                  <a:pt x="3925" y="6142"/>
                  <a:pt x="3969" y="6127"/>
                </a:cubicBezTo>
              </a:path>
              <a:path w="1415" h="571">
                <a:moveTo>
                  <a:pt x="4118" y="6325"/>
                </a:moveTo>
                <a:cubicBezTo>
                  <a:pt x="4146" y="6383"/>
                  <a:pt x="4168" y="6450"/>
                  <a:pt x="4192" y="6499"/>
                </a:cubicBezTo>
                <a:cubicBezTo>
                  <a:pt x="4200" y="6507"/>
                  <a:pt x="4209" y="6516"/>
                  <a:pt x="4217" y="6524"/>
                </a:cubicBezTo>
                <a:cubicBezTo>
                  <a:pt x="4217" y="6460"/>
                  <a:pt x="4227" y="6428"/>
                  <a:pt x="4266" y="6375"/>
                </a:cubicBezTo>
                <a:cubicBezTo>
                  <a:pt x="4301" y="6328"/>
                  <a:pt x="4322" y="6310"/>
                  <a:pt x="4366" y="6350"/>
                </a:cubicBezTo>
                <a:cubicBezTo>
                  <a:pt x="4398" y="6379"/>
                  <a:pt x="4435" y="6408"/>
                  <a:pt x="4440" y="6449"/>
                </a:cubicBezTo>
                <a:cubicBezTo>
                  <a:pt x="4440" y="6457"/>
                  <a:pt x="4440" y="6466"/>
                  <a:pt x="4440" y="6474"/>
                </a:cubicBezTo>
              </a:path>
              <a:path w="1415" h="571">
                <a:moveTo>
                  <a:pt x="4589" y="6350"/>
                </a:moveTo>
                <a:cubicBezTo>
                  <a:pt x="4589" y="6333"/>
                  <a:pt x="4589" y="6317"/>
                  <a:pt x="4589" y="6300"/>
                </a:cubicBezTo>
                <a:cubicBezTo>
                  <a:pt x="4547" y="6314"/>
                  <a:pt x="4542" y="6370"/>
                  <a:pt x="4539" y="6424"/>
                </a:cubicBezTo>
                <a:cubicBezTo>
                  <a:pt x="4539" y="6474"/>
                  <a:pt x="4539" y="6491"/>
                  <a:pt x="4539" y="6524"/>
                </a:cubicBezTo>
                <a:cubicBezTo>
                  <a:pt x="4620" y="6563"/>
                  <a:pt x="4620" y="6419"/>
                  <a:pt x="4638" y="6350"/>
                </a:cubicBezTo>
                <a:cubicBezTo>
                  <a:pt x="4666" y="6241"/>
                  <a:pt x="4663" y="6140"/>
                  <a:pt x="4663" y="6028"/>
                </a:cubicBezTo>
                <a:cubicBezTo>
                  <a:pt x="4663" y="6020"/>
                  <a:pt x="4663" y="6011"/>
                  <a:pt x="4663" y="6003"/>
                </a:cubicBezTo>
                <a:cubicBezTo>
                  <a:pt x="4729" y="6085"/>
                  <a:pt x="4734" y="6184"/>
                  <a:pt x="4787" y="6276"/>
                </a:cubicBezTo>
                <a:cubicBezTo>
                  <a:pt x="4859" y="6371"/>
                  <a:pt x="4882" y="6400"/>
                  <a:pt x="4911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89080" y="1820880"/>
            <a:ext cx="455760" cy="768240"/>
          </a:xfrm>
          <a:custGeom>
            <a:avLst/>
            <a:gdLst/>
            <a:ahLst/>
            <a:rect l="l" t="t" r="r" b="b"/>
            <a:pathLst>
              <a:path w="1266" h="2134">
                <a:moveTo>
                  <a:pt x="6573" y="5556"/>
                </a:moveTo>
                <a:cubicBezTo>
                  <a:pt x="6565" y="5564"/>
                  <a:pt x="6556" y="5573"/>
                  <a:pt x="6548" y="5581"/>
                </a:cubicBezTo>
                <a:cubicBezTo>
                  <a:pt x="6534" y="5576"/>
                  <a:pt x="6484" y="5540"/>
                  <a:pt x="6499" y="5507"/>
                </a:cubicBezTo>
                <a:cubicBezTo>
                  <a:pt x="6525" y="5449"/>
                  <a:pt x="6583" y="5397"/>
                  <a:pt x="6648" y="5383"/>
                </a:cubicBezTo>
                <a:cubicBezTo>
                  <a:pt x="6721" y="5367"/>
                  <a:pt x="6776" y="5410"/>
                  <a:pt x="6796" y="5482"/>
                </a:cubicBezTo>
                <a:cubicBezTo>
                  <a:pt x="6816" y="5556"/>
                  <a:pt x="6789" y="5644"/>
                  <a:pt x="6747" y="5705"/>
                </a:cubicBezTo>
                <a:cubicBezTo>
                  <a:pt x="6728" y="5733"/>
                  <a:pt x="6672" y="5760"/>
                  <a:pt x="6697" y="5804"/>
                </a:cubicBezTo>
                <a:cubicBezTo>
                  <a:pt x="6730" y="5863"/>
                  <a:pt x="6798" y="5809"/>
                  <a:pt x="6846" y="5829"/>
                </a:cubicBezTo>
                <a:cubicBezTo>
                  <a:pt x="6878" y="5843"/>
                  <a:pt x="6911" y="5862"/>
                  <a:pt x="6896" y="5904"/>
                </a:cubicBezTo>
                <a:cubicBezTo>
                  <a:pt x="6869" y="5980"/>
                  <a:pt x="6843" y="5978"/>
                  <a:pt x="6772" y="5978"/>
                </a:cubicBezTo>
                <a:cubicBezTo>
                  <a:pt x="6764" y="5978"/>
                  <a:pt x="6755" y="5978"/>
                  <a:pt x="6747" y="5978"/>
                </a:cubicBezTo>
              </a:path>
              <a:path w="1266" h="2134">
                <a:moveTo>
                  <a:pt x="6325" y="6772"/>
                </a:moveTo>
                <a:cubicBezTo>
                  <a:pt x="6333" y="6772"/>
                  <a:pt x="6342" y="6772"/>
                  <a:pt x="6350" y="6772"/>
                </a:cubicBezTo>
                <a:cubicBezTo>
                  <a:pt x="6302" y="6772"/>
                  <a:pt x="6241" y="6772"/>
                  <a:pt x="6201" y="6796"/>
                </a:cubicBezTo>
                <a:cubicBezTo>
                  <a:pt x="6163" y="6819"/>
                  <a:pt x="6173" y="6821"/>
                  <a:pt x="6127" y="6821"/>
                </a:cubicBezTo>
              </a:path>
              <a:path w="1266" h="2134">
                <a:moveTo>
                  <a:pt x="6598" y="6697"/>
                </a:moveTo>
                <a:cubicBezTo>
                  <a:pt x="6598" y="6644"/>
                  <a:pt x="6611" y="6636"/>
                  <a:pt x="6648" y="6598"/>
                </a:cubicBezTo>
                <a:cubicBezTo>
                  <a:pt x="6688" y="6557"/>
                  <a:pt x="6732" y="6523"/>
                  <a:pt x="6796" y="6548"/>
                </a:cubicBezTo>
                <a:cubicBezTo>
                  <a:pt x="6878" y="6580"/>
                  <a:pt x="6830" y="6645"/>
                  <a:pt x="6821" y="6697"/>
                </a:cubicBezTo>
                <a:cubicBezTo>
                  <a:pt x="6808" y="6776"/>
                  <a:pt x="6754" y="6809"/>
                  <a:pt x="6747" y="6896"/>
                </a:cubicBezTo>
                <a:cubicBezTo>
                  <a:pt x="6747" y="6904"/>
                  <a:pt x="6747" y="6913"/>
                  <a:pt x="6747" y="6921"/>
                </a:cubicBezTo>
                <a:cubicBezTo>
                  <a:pt x="6804" y="6921"/>
                  <a:pt x="6843" y="6905"/>
                  <a:pt x="6896" y="6896"/>
                </a:cubicBezTo>
                <a:cubicBezTo>
                  <a:pt x="6951" y="6887"/>
                  <a:pt x="7013" y="6896"/>
                  <a:pt x="7069" y="6896"/>
                </a:cubicBezTo>
              </a:path>
              <a:path w="1266" h="2134">
                <a:moveTo>
                  <a:pt x="5804" y="5060"/>
                </a:moveTo>
                <a:cubicBezTo>
                  <a:pt x="5831" y="5087"/>
                  <a:pt x="5852" y="5106"/>
                  <a:pt x="5854" y="5159"/>
                </a:cubicBezTo>
                <a:cubicBezTo>
                  <a:pt x="5857" y="5223"/>
                  <a:pt x="5877" y="5271"/>
                  <a:pt x="5879" y="5333"/>
                </a:cubicBezTo>
                <a:cubicBezTo>
                  <a:pt x="5885" y="5486"/>
                  <a:pt x="5883" y="5630"/>
                  <a:pt x="5904" y="5779"/>
                </a:cubicBezTo>
                <a:cubicBezTo>
                  <a:pt x="5934" y="5990"/>
                  <a:pt x="5899" y="6213"/>
                  <a:pt x="5928" y="6424"/>
                </a:cubicBezTo>
                <a:cubicBezTo>
                  <a:pt x="5950" y="6586"/>
                  <a:pt x="5935" y="6760"/>
                  <a:pt x="5953" y="6921"/>
                </a:cubicBezTo>
                <a:cubicBezTo>
                  <a:pt x="5963" y="7009"/>
                  <a:pt x="5953" y="7104"/>
                  <a:pt x="5953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3040" y="1946160"/>
            <a:ext cx="276120" cy="500040"/>
          </a:xfrm>
          <a:custGeom>
            <a:avLst/>
            <a:gdLst/>
            <a:ahLst/>
            <a:rect l="l" t="t" r="r" b="b"/>
            <a:pathLst>
              <a:path w="770" h="1390">
                <a:moveTo>
                  <a:pt x="8186" y="5432"/>
                </a:moveTo>
                <a:cubicBezTo>
                  <a:pt x="8196" y="5463"/>
                  <a:pt x="8240" y="5471"/>
                  <a:pt x="8285" y="5457"/>
                </a:cubicBezTo>
                <a:cubicBezTo>
                  <a:pt x="8362" y="5434"/>
                  <a:pt x="8370" y="5407"/>
                  <a:pt x="8458" y="5407"/>
                </a:cubicBezTo>
                <a:cubicBezTo>
                  <a:pt x="8483" y="5407"/>
                  <a:pt x="8491" y="5407"/>
                  <a:pt x="8508" y="5407"/>
                </a:cubicBezTo>
                <a:cubicBezTo>
                  <a:pt x="8508" y="5489"/>
                  <a:pt x="8467" y="5515"/>
                  <a:pt x="8434" y="5581"/>
                </a:cubicBezTo>
                <a:cubicBezTo>
                  <a:pt x="8390" y="5669"/>
                  <a:pt x="8339" y="5754"/>
                  <a:pt x="8334" y="5854"/>
                </a:cubicBezTo>
                <a:cubicBezTo>
                  <a:pt x="8334" y="5895"/>
                  <a:pt x="8334" y="5903"/>
                  <a:pt x="8334" y="5928"/>
                </a:cubicBezTo>
              </a:path>
              <a:path w="770" h="1390">
                <a:moveTo>
                  <a:pt x="7838" y="6648"/>
                </a:moveTo>
                <a:cubicBezTo>
                  <a:pt x="7830" y="6648"/>
                  <a:pt x="7821" y="6648"/>
                  <a:pt x="7813" y="6648"/>
                </a:cubicBezTo>
                <a:cubicBezTo>
                  <a:pt x="7871" y="6648"/>
                  <a:pt x="7929" y="6648"/>
                  <a:pt x="7987" y="6648"/>
                </a:cubicBezTo>
              </a:path>
              <a:path w="770" h="1390">
                <a:moveTo>
                  <a:pt x="8285" y="6524"/>
                </a:moveTo>
                <a:cubicBezTo>
                  <a:pt x="8326" y="6482"/>
                  <a:pt x="8350" y="6457"/>
                  <a:pt x="8310" y="6499"/>
                </a:cubicBezTo>
                <a:cubicBezTo>
                  <a:pt x="8303" y="6525"/>
                  <a:pt x="8267" y="6566"/>
                  <a:pt x="8285" y="6598"/>
                </a:cubicBezTo>
                <a:cubicBezTo>
                  <a:pt x="8297" y="6620"/>
                  <a:pt x="8389" y="6645"/>
                  <a:pt x="8409" y="6648"/>
                </a:cubicBezTo>
                <a:cubicBezTo>
                  <a:pt x="8467" y="6656"/>
                  <a:pt x="8545" y="6629"/>
                  <a:pt x="8582" y="6697"/>
                </a:cubicBezTo>
                <a:cubicBezTo>
                  <a:pt x="8599" y="6728"/>
                  <a:pt x="8564" y="6788"/>
                  <a:pt x="8533" y="6796"/>
                </a:cubicBezTo>
                <a:cubicBezTo>
                  <a:pt x="8455" y="6818"/>
                  <a:pt x="8343" y="6796"/>
                  <a:pt x="8260" y="6796"/>
                </a:cubicBezTo>
              </a:path>
              <a:path w="770" h="1390">
                <a:moveTo>
                  <a:pt x="8508" y="6499"/>
                </a:moveTo>
                <a:cubicBezTo>
                  <a:pt x="8508" y="6474"/>
                  <a:pt x="8508" y="6449"/>
                  <a:pt x="8508" y="6424"/>
                </a:cubicBezTo>
                <a:cubicBezTo>
                  <a:pt x="8450" y="6424"/>
                  <a:pt x="8392" y="6424"/>
                  <a:pt x="8334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24160" y="1812960"/>
            <a:ext cx="81000" cy="679320"/>
          </a:xfrm>
          <a:custGeom>
            <a:avLst/>
            <a:gdLst/>
            <a:ahLst/>
            <a:rect l="l" t="t" r="r" b="b"/>
            <a:pathLst>
              <a:path w="225" h="1887">
                <a:moveTo>
                  <a:pt x="8954" y="5060"/>
                </a:moveTo>
                <a:cubicBezTo>
                  <a:pt x="8977" y="5037"/>
                  <a:pt x="8981" y="5029"/>
                  <a:pt x="9004" y="5035"/>
                </a:cubicBezTo>
                <a:cubicBezTo>
                  <a:pt x="9009" y="5092"/>
                  <a:pt x="9021" y="5132"/>
                  <a:pt x="9029" y="5184"/>
                </a:cubicBezTo>
                <a:cubicBezTo>
                  <a:pt x="9062" y="5392"/>
                  <a:pt x="9031" y="5621"/>
                  <a:pt x="9054" y="5829"/>
                </a:cubicBezTo>
                <a:cubicBezTo>
                  <a:pt x="9063" y="5914"/>
                  <a:pt x="9059" y="5994"/>
                  <a:pt x="9079" y="6077"/>
                </a:cubicBezTo>
                <a:cubicBezTo>
                  <a:pt x="9099" y="6160"/>
                  <a:pt x="9084" y="6245"/>
                  <a:pt x="9103" y="6325"/>
                </a:cubicBezTo>
                <a:cubicBezTo>
                  <a:pt x="9121" y="6399"/>
                  <a:pt x="9112" y="6473"/>
                  <a:pt x="9128" y="6548"/>
                </a:cubicBezTo>
                <a:cubicBezTo>
                  <a:pt x="9142" y="6617"/>
                  <a:pt x="9135" y="6706"/>
                  <a:pt x="9153" y="6772"/>
                </a:cubicBezTo>
                <a:cubicBezTo>
                  <a:pt x="9168" y="6825"/>
                  <a:pt x="9174" y="6842"/>
                  <a:pt x="9178" y="6896"/>
                </a:cubicBezTo>
                <a:cubicBezTo>
                  <a:pt x="9178" y="6904"/>
                  <a:pt x="9178" y="6913"/>
                  <a:pt x="917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46680" y="204480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11212" y="6325"/>
                </a:moveTo>
                <a:cubicBezTo>
                  <a:pt x="11164" y="6278"/>
                  <a:pt x="11129" y="6225"/>
                  <a:pt x="11088" y="6176"/>
                </a:cubicBezTo>
                <a:cubicBezTo>
                  <a:pt x="11032" y="6109"/>
                  <a:pt x="10993" y="6068"/>
                  <a:pt x="10988" y="5978"/>
                </a:cubicBezTo>
                <a:cubicBezTo>
                  <a:pt x="10984" y="5904"/>
                  <a:pt x="10990" y="5823"/>
                  <a:pt x="11013" y="5755"/>
                </a:cubicBezTo>
                <a:cubicBezTo>
                  <a:pt x="11035" y="5689"/>
                  <a:pt x="11076" y="5680"/>
                  <a:pt x="11137" y="5680"/>
                </a:cubicBezTo>
                <a:cubicBezTo>
                  <a:pt x="11137" y="5739"/>
                  <a:pt x="11131" y="5773"/>
                  <a:pt x="11112" y="5829"/>
                </a:cubicBezTo>
                <a:cubicBezTo>
                  <a:pt x="11080" y="5925"/>
                  <a:pt x="11027" y="6005"/>
                  <a:pt x="10988" y="6102"/>
                </a:cubicBezTo>
                <a:cubicBezTo>
                  <a:pt x="10958" y="6177"/>
                  <a:pt x="10955" y="6225"/>
                  <a:pt x="10988" y="6300"/>
                </a:cubicBezTo>
                <a:cubicBezTo>
                  <a:pt x="11022" y="6377"/>
                  <a:pt x="11068" y="6356"/>
                  <a:pt x="11137" y="6325"/>
                </a:cubicBezTo>
                <a:cubicBezTo>
                  <a:pt x="11208" y="6293"/>
                  <a:pt x="11242" y="6220"/>
                  <a:pt x="1131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21080" y="2062080"/>
            <a:ext cx="723960" cy="268200"/>
          </a:xfrm>
          <a:custGeom>
            <a:avLst/>
            <a:gdLst/>
            <a:ahLst/>
            <a:rect l="l" t="t" r="r" b="b"/>
            <a:pathLst>
              <a:path w="2011" h="745">
                <a:moveTo>
                  <a:pt x="12005" y="6201"/>
                </a:moveTo>
                <a:cubicBezTo>
                  <a:pt x="12018" y="6239"/>
                  <a:pt x="12035" y="6226"/>
                  <a:pt x="12080" y="6226"/>
                </a:cubicBezTo>
                <a:cubicBezTo>
                  <a:pt x="12124" y="6226"/>
                  <a:pt x="12169" y="6169"/>
                  <a:pt x="12179" y="6127"/>
                </a:cubicBezTo>
                <a:cubicBezTo>
                  <a:pt x="12192" y="6074"/>
                  <a:pt x="12182" y="6034"/>
                  <a:pt x="12129" y="6028"/>
                </a:cubicBezTo>
                <a:cubicBezTo>
                  <a:pt x="12063" y="6021"/>
                  <a:pt x="12058" y="6107"/>
                  <a:pt x="12055" y="6152"/>
                </a:cubicBezTo>
                <a:cubicBezTo>
                  <a:pt x="12051" y="6231"/>
                  <a:pt x="12081" y="6292"/>
                  <a:pt x="12154" y="6300"/>
                </a:cubicBezTo>
                <a:cubicBezTo>
                  <a:pt x="12220" y="6308"/>
                  <a:pt x="12253" y="6291"/>
                  <a:pt x="12303" y="6251"/>
                </a:cubicBezTo>
              </a:path>
              <a:path w="2011" h="745">
                <a:moveTo>
                  <a:pt x="12551" y="6003"/>
                </a:moveTo>
                <a:cubicBezTo>
                  <a:pt x="12559" y="5995"/>
                  <a:pt x="12568" y="5986"/>
                  <a:pt x="12576" y="5978"/>
                </a:cubicBezTo>
                <a:cubicBezTo>
                  <a:pt x="12566" y="6030"/>
                  <a:pt x="12534" y="6083"/>
                  <a:pt x="12502" y="6127"/>
                </a:cubicBezTo>
                <a:cubicBezTo>
                  <a:pt x="12469" y="6172"/>
                  <a:pt x="12452" y="6195"/>
                  <a:pt x="12452" y="6251"/>
                </a:cubicBezTo>
              </a:path>
              <a:path w="2011" h="745">
                <a:moveTo>
                  <a:pt x="12576" y="6251"/>
                </a:moveTo>
                <a:cubicBezTo>
                  <a:pt x="12576" y="6226"/>
                  <a:pt x="12576" y="6218"/>
                  <a:pt x="12576" y="6201"/>
                </a:cubicBezTo>
                <a:cubicBezTo>
                  <a:pt x="12532" y="6190"/>
                  <a:pt x="12493" y="6138"/>
                  <a:pt x="12452" y="6127"/>
                </a:cubicBezTo>
                <a:cubicBezTo>
                  <a:pt x="12407" y="6127"/>
                  <a:pt x="12394" y="6131"/>
                  <a:pt x="12378" y="6102"/>
                </a:cubicBezTo>
              </a:path>
              <a:path w="2011" h="745">
                <a:moveTo>
                  <a:pt x="12774" y="6052"/>
                </a:moveTo>
                <a:cubicBezTo>
                  <a:pt x="12774" y="6028"/>
                  <a:pt x="12774" y="6020"/>
                  <a:pt x="12799" y="6028"/>
                </a:cubicBezTo>
                <a:cubicBezTo>
                  <a:pt x="12799" y="6150"/>
                  <a:pt x="12753" y="6379"/>
                  <a:pt x="12824" y="6474"/>
                </a:cubicBezTo>
              </a:path>
              <a:path w="2011" h="745">
                <a:moveTo>
                  <a:pt x="12799" y="6226"/>
                </a:moveTo>
                <a:cubicBezTo>
                  <a:pt x="12799" y="6166"/>
                  <a:pt x="12783" y="6097"/>
                  <a:pt x="12824" y="6052"/>
                </a:cubicBezTo>
                <a:cubicBezTo>
                  <a:pt x="12847" y="6030"/>
                  <a:pt x="12852" y="6022"/>
                  <a:pt x="12874" y="6028"/>
                </a:cubicBezTo>
                <a:cubicBezTo>
                  <a:pt x="12906" y="6082"/>
                  <a:pt x="12898" y="6134"/>
                  <a:pt x="12898" y="6201"/>
                </a:cubicBezTo>
                <a:cubicBezTo>
                  <a:pt x="12898" y="6251"/>
                  <a:pt x="12849" y="6288"/>
                  <a:pt x="12799" y="6276"/>
                </a:cubicBezTo>
                <a:cubicBezTo>
                  <a:pt x="12783" y="6268"/>
                  <a:pt x="12766" y="6259"/>
                  <a:pt x="12750" y="6251"/>
                </a:cubicBezTo>
              </a:path>
              <a:path w="2011" h="745">
                <a:moveTo>
                  <a:pt x="13047" y="5779"/>
                </a:moveTo>
                <a:cubicBezTo>
                  <a:pt x="13055" y="5763"/>
                  <a:pt x="13064" y="5746"/>
                  <a:pt x="13072" y="5730"/>
                </a:cubicBezTo>
                <a:cubicBezTo>
                  <a:pt x="13111" y="5795"/>
                  <a:pt x="13097" y="5873"/>
                  <a:pt x="13097" y="5953"/>
                </a:cubicBezTo>
                <a:cubicBezTo>
                  <a:pt x="13097" y="6069"/>
                  <a:pt x="13097" y="6184"/>
                  <a:pt x="13097" y="6300"/>
                </a:cubicBezTo>
              </a:path>
              <a:path w="2011" h="745">
                <a:moveTo>
                  <a:pt x="13295" y="6152"/>
                </a:moveTo>
                <a:cubicBezTo>
                  <a:pt x="13295" y="6107"/>
                  <a:pt x="13292" y="6094"/>
                  <a:pt x="13320" y="6077"/>
                </a:cubicBezTo>
                <a:cubicBezTo>
                  <a:pt x="13292" y="6091"/>
                  <a:pt x="13232" y="6160"/>
                  <a:pt x="13221" y="6201"/>
                </a:cubicBezTo>
                <a:cubicBezTo>
                  <a:pt x="13212" y="6233"/>
                  <a:pt x="13257" y="6319"/>
                  <a:pt x="13295" y="6276"/>
                </a:cubicBezTo>
                <a:cubicBezTo>
                  <a:pt x="13317" y="6251"/>
                  <a:pt x="13338" y="6168"/>
                  <a:pt x="13395" y="6201"/>
                </a:cubicBezTo>
                <a:cubicBezTo>
                  <a:pt x="13443" y="6228"/>
                  <a:pt x="13434" y="6251"/>
                  <a:pt x="13494" y="6251"/>
                </a:cubicBezTo>
                <a:cubicBezTo>
                  <a:pt x="13502" y="6251"/>
                  <a:pt x="13511" y="6251"/>
                  <a:pt x="13519" y="6251"/>
                </a:cubicBezTo>
              </a:path>
              <a:path w="2011" h="745">
                <a:moveTo>
                  <a:pt x="13568" y="6152"/>
                </a:moveTo>
                <a:cubicBezTo>
                  <a:pt x="13588" y="6111"/>
                  <a:pt x="13597" y="6105"/>
                  <a:pt x="13593" y="6077"/>
                </a:cubicBezTo>
                <a:cubicBezTo>
                  <a:pt x="13613" y="6124"/>
                  <a:pt x="13623" y="6155"/>
                  <a:pt x="13643" y="6201"/>
                </a:cubicBezTo>
              </a:path>
              <a:path w="2011" h="745">
                <a:moveTo>
                  <a:pt x="13618" y="5953"/>
                </a:moveTo>
                <a:cubicBezTo>
                  <a:pt x="13600" y="5892"/>
                  <a:pt x="13593" y="5882"/>
                  <a:pt x="13593" y="5829"/>
                </a:cubicBezTo>
              </a:path>
              <a:path w="2011" h="745">
                <a:moveTo>
                  <a:pt x="13667" y="6003"/>
                </a:moveTo>
                <a:cubicBezTo>
                  <a:pt x="13694" y="6066"/>
                  <a:pt x="13713" y="6174"/>
                  <a:pt x="13767" y="6201"/>
                </a:cubicBezTo>
                <a:cubicBezTo>
                  <a:pt x="13793" y="6165"/>
                  <a:pt x="13798" y="6101"/>
                  <a:pt x="13841" y="6077"/>
                </a:cubicBezTo>
                <a:cubicBezTo>
                  <a:pt x="13911" y="6038"/>
                  <a:pt x="13975" y="6137"/>
                  <a:pt x="1401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70320" y="2071800"/>
            <a:ext cx="241560" cy="19656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14362" y="6102"/>
                </a:moveTo>
                <a:cubicBezTo>
                  <a:pt x="14362" y="6085"/>
                  <a:pt x="14362" y="6069"/>
                  <a:pt x="14362" y="6052"/>
                </a:cubicBezTo>
                <a:cubicBezTo>
                  <a:pt x="14406" y="6067"/>
                  <a:pt x="14405" y="6122"/>
                  <a:pt x="14412" y="6176"/>
                </a:cubicBezTo>
              </a:path>
              <a:path w="671" h="546">
                <a:moveTo>
                  <a:pt x="14387" y="5829"/>
                </a:moveTo>
                <a:cubicBezTo>
                  <a:pt x="14387" y="5768"/>
                  <a:pt x="14378" y="5734"/>
                  <a:pt x="14412" y="5779"/>
                </a:cubicBezTo>
              </a:path>
              <a:path w="671" h="546">
                <a:moveTo>
                  <a:pt x="14560" y="5904"/>
                </a:moveTo>
                <a:cubicBezTo>
                  <a:pt x="14560" y="5837"/>
                  <a:pt x="14560" y="5942"/>
                  <a:pt x="14560" y="5953"/>
                </a:cubicBezTo>
                <a:cubicBezTo>
                  <a:pt x="14560" y="6029"/>
                  <a:pt x="14549" y="6105"/>
                  <a:pt x="14585" y="6176"/>
                </a:cubicBezTo>
                <a:cubicBezTo>
                  <a:pt x="14623" y="6251"/>
                  <a:pt x="14644" y="6264"/>
                  <a:pt x="14709" y="6300"/>
                </a:cubicBezTo>
              </a:path>
              <a:path w="671" h="546">
                <a:moveTo>
                  <a:pt x="14784" y="6127"/>
                </a:moveTo>
                <a:cubicBezTo>
                  <a:pt x="14746" y="6032"/>
                  <a:pt x="14756" y="6028"/>
                  <a:pt x="14660" y="6028"/>
                </a:cubicBezTo>
                <a:cubicBezTo>
                  <a:pt x="14632" y="6028"/>
                  <a:pt x="14621" y="6030"/>
                  <a:pt x="14610" y="6052"/>
                </a:cubicBezTo>
              </a:path>
              <a:path w="671" h="546">
                <a:moveTo>
                  <a:pt x="14957" y="5953"/>
                </a:moveTo>
                <a:cubicBezTo>
                  <a:pt x="14957" y="5945"/>
                  <a:pt x="14957" y="5936"/>
                  <a:pt x="14957" y="5928"/>
                </a:cubicBezTo>
                <a:cubicBezTo>
                  <a:pt x="14928" y="5938"/>
                  <a:pt x="14912" y="5962"/>
                  <a:pt x="14908" y="6003"/>
                </a:cubicBezTo>
                <a:cubicBezTo>
                  <a:pt x="14904" y="6044"/>
                  <a:pt x="14955" y="6075"/>
                  <a:pt x="14982" y="6102"/>
                </a:cubicBezTo>
                <a:cubicBezTo>
                  <a:pt x="15005" y="6125"/>
                  <a:pt x="15009" y="6133"/>
                  <a:pt x="15032" y="6127"/>
                </a:cubicBezTo>
                <a:cubicBezTo>
                  <a:pt x="15021" y="6170"/>
                  <a:pt x="14991" y="6192"/>
                  <a:pt x="14957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53080" y="2071800"/>
            <a:ext cx="1214280" cy="374400"/>
          </a:xfrm>
          <a:custGeom>
            <a:avLst/>
            <a:gdLst/>
            <a:ahLst/>
            <a:rect l="l" t="t" r="r" b="b"/>
            <a:pathLst>
              <a:path w="3375" h="1042">
                <a:moveTo>
                  <a:pt x="15776" y="6028"/>
                </a:moveTo>
                <a:cubicBezTo>
                  <a:pt x="15799" y="6005"/>
                  <a:pt x="15807" y="6001"/>
                  <a:pt x="15801" y="5978"/>
                </a:cubicBezTo>
                <a:cubicBezTo>
                  <a:pt x="15775" y="5978"/>
                  <a:pt x="15713" y="5985"/>
                  <a:pt x="15701" y="6003"/>
                </a:cubicBezTo>
                <a:cubicBezTo>
                  <a:pt x="15687" y="6024"/>
                  <a:pt x="15700" y="6094"/>
                  <a:pt x="15726" y="6102"/>
                </a:cubicBezTo>
                <a:cubicBezTo>
                  <a:pt x="15755" y="6111"/>
                  <a:pt x="15832" y="6125"/>
                  <a:pt x="15850" y="6152"/>
                </a:cubicBezTo>
                <a:cubicBezTo>
                  <a:pt x="15875" y="6189"/>
                  <a:pt x="15821" y="6230"/>
                  <a:pt x="15801" y="6251"/>
                </a:cubicBezTo>
                <a:cubicBezTo>
                  <a:pt x="15762" y="6291"/>
                  <a:pt x="15740" y="6281"/>
                  <a:pt x="15701" y="6251"/>
                </a:cubicBezTo>
              </a:path>
              <a:path w="3375" h="1042">
                <a:moveTo>
                  <a:pt x="15949" y="6102"/>
                </a:moveTo>
                <a:cubicBezTo>
                  <a:pt x="16026" y="6124"/>
                  <a:pt x="16029" y="6167"/>
                  <a:pt x="16049" y="6251"/>
                </a:cubicBezTo>
                <a:cubicBezTo>
                  <a:pt x="16049" y="6259"/>
                  <a:pt x="16049" y="6268"/>
                  <a:pt x="16049" y="6276"/>
                </a:cubicBezTo>
              </a:path>
              <a:path w="3375" h="1042">
                <a:moveTo>
                  <a:pt x="15949" y="5978"/>
                </a:moveTo>
                <a:cubicBezTo>
                  <a:pt x="15985" y="5898"/>
                  <a:pt x="15963" y="5884"/>
                  <a:pt x="16024" y="5928"/>
                </a:cubicBezTo>
              </a:path>
              <a:path w="3375" h="1042">
                <a:moveTo>
                  <a:pt x="16222" y="6176"/>
                </a:moveTo>
                <a:cubicBezTo>
                  <a:pt x="16183" y="6157"/>
                  <a:pt x="16152" y="6167"/>
                  <a:pt x="16148" y="6226"/>
                </a:cubicBezTo>
                <a:cubicBezTo>
                  <a:pt x="16144" y="6283"/>
                  <a:pt x="16143" y="6285"/>
                  <a:pt x="16173" y="6325"/>
                </a:cubicBezTo>
                <a:cubicBezTo>
                  <a:pt x="16209" y="6288"/>
                  <a:pt x="16235" y="6245"/>
                  <a:pt x="16272" y="6226"/>
                </a:cubicBezTo>
                <a:cubicBezTo>
                  <a:pt x="16345" y="6332"/>
                  <a:pt x="16382" y="6464"/>
                  <a:pt x="16396" y="6598"/>
                </a:cubicBezTo>
                <a:cubicBezTo>
                  <a:pt x="16405" y="6689"/>
                  <a:pt x="16420" y="6784"/>
                  <a:pt x="16321" y="6796"/>
                </a:cubicBezTo>
                <a:cubicBezTo>
                  <a:pt x="16236" y="6806"/>
                  <a:pt x="16157" y="6724"/>
                  <a:pt x="16098" y="6672"/>
                </a:cubicBezTo>
              </a:path>
              <a:path w="3375" h="1042">
                <a:moveTo>
                  <a:pt x="16470" y="6102"/>
                </a:moveTo>
                <a:cubicBezTo>
                  <a:pt x="16470" y="6155"/>
                  <a:pt x="16486" y="6175"/>
                  <a:pt x="16495" y="6226"/>
                </a:cubicBezTo>
                <a:cubicBezTo>
                  <a:pt x="16495" y="6276"/>
                  <a:pt x="16495" y="6292"/>
                  <a:pt x="16495" y="6325"/>
                </a:cubicBezTo>
                <a:cubicBezTo>
                  <a:pt x="16526" y="6305"/>
                  <a:pt x="16535" y="6248"/>
                  <a:pt x="16570" y="6201"/>
                </a:cubicBezTo>
                <a:cubicBezTo>
                  <a:pt x="16604" y="6155"/>
                  <a:pt x="16625" y="6138"/>
                  <a:pt x="16669" y="6176"/>
                </a:cubicBezTo>
                <a:cubicBezTo>
                  <a:pt x="16727" y="6227"/>
                  <a:pt x="16687" y="6282"/>
                  <a:pt x="16718" y="6325"/>
                </a:cubicBezTo>
                <a:cubicBezTo>
                  <a:pt x="16726" y="6325"/>
                  <a:pt x="16735" y="6325"/>
                  <a:pt x="16743" y="6325"/>
                </a:cubicBezTo>
              </a:path>
              <a:path w="3375" h="1042">
                <a:moveTo>
                  <a:pt x="16768" y="6152"/>
                </a:moveTo>
                <a:cubicBezTo>
                  <a:pt x="16842" y="6173"/>
                  <a:pt x="16856" y="6196"/>
                  <a:pt x="16867" y="6276"/>
                </a:cubicBezTo>
              </a:path>
              <a:path w="3375" h="1042">
                <a:moveTo>
                  <a:pt x="16818" y="6052"/>
                </a:moveTo>
                <a:cubicBezTo>
                  <a:pt x="16818" y="6011"/>
                  <a:pt x="16810" y="5995"/>
                  <a:pt x="16842" y="6003"/>
                </a:cubicBezTo>
              </a:path>
              <a:path w="3375" h="1042">
                <a:moveTo>
                  <a:pt x="17165" y="5978"/>
                </a:moveTo>
                <a:cubicBezTo>
                  <a:pt x="17224" y="5972"/>
                  <a:pt x="17284" y="5979"/>
                  <a:pt x="17289" y="5904"/>
                </a:cubicBezTo>
                <a:cubicBezTo>
                  <a:pt x="17294" y="5831"/>
                  <a:pt x="17260" y="5778"/>
                  <a:pt x="17190" y="5755"/>
                </a:cubicBezTo>
                <a:cubicBezTo>
                  <a:pt x="17125" y="5734"/>
                  <a:pt x="17062" y="5914"/>
                  <a:pt x="17041" y="5953"/>
                </a:cubicBezTo>
                <a:cubicBezTo>
                  <a:pt x="17000" y="6028"/>
                  <a:pt x="17016" y="6117"/>
                  <a:pt x="17016" y="6201"/>
                </a:cubicBezTo>
                <a:cubicBezTo>
                  <a:pt x="17016" y="6234"/>
                  <a:pt x="17016" y="6251"/>
                  <a:pt x="17016" y="6276"/>
                </a:cubicBezTo>
              </a:path>
              <a:path w="3375" h="1042">
                <a:moveTo>
                  <a:pt x="17190" y="6176"/>
                </a:moveTo>
                <a:cubicBezTo>
                  <a:pt x="17190" y="6168"/>
                  <a:pt x="17190" y="6160"/>
                  <a:pt x="17190" y="6152"/>
                </a:cubicBezTo>
                <a:cubicBezTo>
                  <a:pt x="17124" y="6152"/>
                  <a:pt x="17057" y="6152"/>
                  <a:pt x="16991" y="6152"/>
                </a:cubicBezTo>
              </a:path>
              <a:path w="3375" h="1042">
                <a:moveTo>
                  <a:pt x="17289" y="6226"/>
                </a:moveTo>
                <a:cubicBezTo>
                  <a:pt x="17335" y="6226"/>
                  <a:pt x="17357" y="6225"/>
                  <a:pt x="17363" y="6276"/>
                </a:cubicBezTo>
                <a:cubicBezTo>
                  <a:pt x="17363" y="6284"/>
                  <a:pt x="17363" y="6292"/>
                  <a:pt x="17363" y="6300"/>
                </a:cubicBezTo>
              </a:path>
              <a:path w="3375" h="1042">
                <a:moveTo>
                  <a:pt x="17363" y="6102"/>
                </a:moveTo>
                <a:cubicBezTo>
                  <a:pt x="17363" y="6037"/>
                  <a:pt x="17361" y="6052"/>
                  <a:pt x="17413" y="6052"/>
                </a:cubicBezTo>
              </a:path>
              <a:path w="3375" h="1042">
                <a:moveTo>
                  <a:pt x="17512" y="6127"/>
                </a:moveTo>
                <a:cubicBezTo>
                  <a:pt x="17512" y="6102"/>
                  <a:pt x="17512" y="6094"/>
                  <a:pt x="17487" y="6102"/>
                </a:cubicBezTo>
                <a:cubicBezTo>
                  <a:pt x="17487" y="6156"/>
                  <a:pt x="17450" y="6197"/>
                  <a:pt x="17462" y="6251"/>
                </a:cubicBezTo>
                <a:cubicBezTo>
                  <a:pt x="17474" y="6305"/>
                  <a:pt x="17537" y="6358"/>
                  <a:pt x="17587" y="6375"/>
                </a:cubicBezTo>
                <a:cubicBezTo>
                  <a:pt x="17622" y="6375"/>
                  <a:pt x="17639" y="6370"/>
                  <a:pt x="17661" y="6350"/>
                </a:cubicBezTo>
              </a:path>
              <a:path w="3375" h="1042">
                <a:moveTo>
                  <a:pt x="17859" y="6201"/>
                </a:moveTo>
                <a:cubicBezTo>
                  <a:pt x="17859" y="6176"/>
                  <a:pt x="17859" y="6168"/>
                  <a:pt x="17859" y="6152"/>
                </a:cubicBezTo>
                <a:cubicBezTo>
                  <a:pt x="17812" y="6152"/>
                  <a:pt x="17773" y="6177"/>
                  <a:pt x="17760" y="6226"/>
                </a:cubicBezTo>
                <a:cubicBezTo>
                  <a:pt x="17745" y="6280"/>
                  <a:pt x="17750" y="6343"/>
                  <a:pt x="17810" y="6350"/>
                </a:cubicBezTo>
                <a:cubicBezTo>
                  <a:pt x="17873" y="6357"/>
                  <a:pt x="17842" y="6297"/>
                  <a:pt x="17884" y="6276"/>
                </a:cubicBezTo>
                <a:cubicBezTo>
                  <a:pt x="17918" y="6260"/>
                  <a:pt x="17964" y="6330"/>
                  <a:pt x="17983" y="6350"/>
                </a:cubicBezTo>
                <a:cubicBezTo>
                  <a:pt x="17991" y="6358"/>
                  <a:pt x="18000" y="6367"/>
                  <a:pt x="18008" y="6375"/>
                </a:cubicBezTo>
              </a:path>
              <a:path w="3375" h="1042">
                <a:moveTo>
                  <a:pt x="18083" y="6325"/>
                </a:moveTo>
                <a:cubicBezTo>
                  <a:pt x="18083" y="6271"/>
                  <a:pt x="18094" y="6253"/>
                  <a:pt x="18107" y="6201"/>
                </a:cubicBezTo>
                <a:cubicBezTo>
                  <a:pt x="18113" y="6177"/>
                  <a:pt x="18093" y="6073"/>
                  <a:pt x="18157" y="6102"/>
                </a:cubicBezTo>
                <a:cubicBezTo>
                  <a:pt x="18203" y="6122"/>
                  <a:pt x="18243" y="6208"/>
                  <a:pt x="18256" y="6251"/>
                </a:cubicBezTo>
                <a:cubicBezTo>
                  <a:pt x="18256" y="6286"/>
                  <a:pt x="18261" y="6303"/>
                  <a:pt x="18281" y="6325"/>
                </a:cubicBezTo>
              </a:path>
              <a:path w="3375" h="1042">
                <a:moveTo>
                  <a:pt x="18479" y="6152"/>
                </a:moveTo>
                <a:cubicBezTo>
                  <a:pt x="18479" y="6073"/>
                  <a:pt x="18471" y="6061"/>
                  <a:pt x="18455" y="6152"/>
                </a:cubicBezTo>
                <a:cubicBezTo>
                  <a:pt x="18448" y="6195"/>
                  <a:pt x="18438" y="6299"/>
                  <a:pt x="18479" y="6325"/>
                </a:cubicBezTo>
                <a:cubicBezTo>
                  <a:pt x="18491" y="6332"/>
                  <a:pt x="18539" y="6325"/>
                  <a:pt x="18554" y="6325"/>
                </a:cubicBezTo>
              </a:path>
              <a:path w="3375" h="1042">
                <a:moveTo>
                  <a:pt x="18604" y="6226"/>
                </a:moveTo>
                <a:cubicBezTo>
                  <a:pt x="18633" y="6234"/>
                  <a:pt x="18649" y="6244"/>
                  <a:pt x="18678" y="6251"/>
                </a:cubicBezTo>
                <a:cubicBezTo>
                  <a:pt x="18717" y="6203"/>
                  <a:pt x="18730" y="6156"/>
                  <a:pt x="18752" y="6102"/>
                </a:cubicBezTo>
                <a:cubicBezTo>
                  <a:pt x="18772" y="6051"/>
                  <a:pt x="18777" y="6052"/>
                  <a:pt x="18777" y="6003"/>
                </a:cubicBezTo>
                <a:cubicBezTo>
                  <a:pt x="18728" y="6013"/>
                  <a:pt x="18664" y="6047"/>
                  <a:pt x="18653" y="6102"/>
                </a:cubicBezTo>
                <a:cubicBezTo>
                  <a:pt x="18635" y="6190"/>
                  <a:pt x="18656" y="6270"/>
                  <a:pt x="18728" y="6325"/>
                </a:cubicBezTo>
                <a:cubicBezTo>
                  <a:pt x="18794" y="6375"/>
                  <a:pt x="18890" y="6345"/>
                  <a:pt x="18951" y="6300"/>
                </a:cubicBezTo>
                <a:cubicBezTo>
                  <a:pt x="18996" y="6267"/>
                  <a:pt x="19035" y="6216"/>
                  <a:pt x="1907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8880" y="3687840"/>
            <a:ext cx="152280" cy="304560"/>
          </a:xfrm>
          <a:custGeom>
            <a:avLst/>
            <a:gdLst/>
            <a:ahLst/>
            <a:rect l="l" t="t" r="r" b="b"/>
            <a:pathLst>
              <a:path w="423" h="845">
                <a:moveTo>
                  <a:pt x="2108" y="10468"/>
                </a:moveTo>
                <a:cubicBezTo>
                  <a:pt x="2108" y="10426"/>
                  <a:pt x="2100" y="10410"/>
                  <a:pt x="2133" y="10418"/>
                </a:cubicBezTo>
                <a:cubicBezTo>
                  <a:pt x="2133" y="10522"/>
                  <a:pt x="2146" y="10619"/>
                  <a:pt x="2158" y="10716"/>
                </a:cubicBezTo>
                <a:cubicBezTo>
                  <a:pt x="2164" y="10763"/>
                  <a:pt x="2158" y="10816"/>
                  <a:pt x="2158" y="10864"/>
                </a:cubicBezTo>
                <a:cubicBezTo>
                  <a:pt x="2158" y="10784"/>
                  <a:pt x="2139" y="10686"/>
                  <a:pt x="2183" y="10616"/>
                </a:cubicBezTo>
                <a:cubicBezTo>
                  <a:pt x="2191" y="10608"/>
                  <a:pt x="2200" y="10600"/>
                  <a:pt x="2208" y="10592"/>
                </a:cubicBezTo>
                <a:cubicBezTo>
                  <a:pt x="2253" y="10603"/>
                  <a:pt x="2295" y="10639"/>
                  <a:pt x="2307" y="10691"/>
                </a:cubicBezTo>
                <a:cubicBezTo>
                  <a:pt x="2323" y="10760"/>
                  <a:pt x="2303" y="10795"/>
                  <a:pt x="2257" y="10840"/>
                </a:cubicBezTo>
                <a:cubicBezTo>
                  <a:pt x="2227" y="10869"/>
                  <a:pt x="2222" y="10864"/>
                  <a:pt x="2183" y="10864"/>
                </a:cubicBezTo>
              </a:path>
              <a:path w="423" h="845">
                <a:moveTo>
                  <a:pt x="2183" y="10244"/>
                </a:moveTo>
                <a:cubicBezTo>
                  <a:pt x="2347" y="10293"/>
                  <a:pt x="2395" y="10336"/>
                  <a:pt x="2480" y="10492"/>
                </a:cubicBezTo>
                <a:cubicBezTo>
                  <a:pt x="2569" y="10656"/>
                  <a:pt x="2533" y="10799"/>
                  <a:pt x="2480" y="10964"/>
                </a:cubicBezTo>
                <a:cubicBezTo>
                  <a:pt x="2457" y="11036"/>
                  <a:pt x="2450" y="11059"/>
                  <a:pt x="2406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71720" y="3705120"/>
            <a:ext cx="428400" cy="179640"/>
          </a:xfrm>
          <a:custGeom>
            <a:avLst/>
            <a:gdLst/>
            <a:ahLst/>
            <a:rect l="l" t="t" r="r" b="b"/>
            <a:pathLst>
              <a:path w="1191" h="497">
                <a:moveTo>
                  <a:pt x="3001" y="10344"/>
                </a:moveTo>
                <a:cubicBezTo>
                  <a:pt x="3001" y="10319"/>
                  <a:pt x="3001" y="10311"/>
                  <a:pt x="3001" y="10294"/>
                </a:cubicBezTo>
                <a:cubicBezTo>
                  <a:pt x="2987" y="10368"/>
                  <a:pt x="2965" y="10436"/>
                  <a:pt x="2977" y="10517"/>
                </a:cubicBezTo>
                <a:cubicBezTo>
                  <a:pt x="2991" y="10608"/>
                  <a:pt x="3020" y="10707"/>
                  <a:pt x="3051" y="10790"/>
                </a:cubicBezTo>
              </a:path>
              <a:path w="1191" h="497">
                <a:moveTo>
                  <a:pt x="3225" y="10344"/>
                </a:moveTo>
                <a:cubicBezTo>
                  <a:pt x="3233" y="10327"/>
                  <a:pt x="3241" y="10311"/>
                  <a:pt x="3249" y="10294"/>
                </a:cubicBezTo>
                <a:cubicBezTo>
                  <a:pt x="3184" y="10294"/>
                  <a:pt x="3139" y="10315"/>
                  <a:pt x="3076" y="10319"/>
                </a:cubicBezTo>
                <a:cubicBezTo>
                  <a:pt x="3034" y="10319"/>
                  <a:pt x="3026" y="10319"/>
                  <a:pt x="3001" y="10319"/>
                </a:cubicBezTo>
              </a:path>
              <a:path w="1191" h="497">
                <a:moveTo>
                  <a:pt x="3125" y="10517"/>
                </a:moveTo>
                <a:cubicBezTo>
                  <a:pt x="3167" y="10517"/>
                  <a:pt x="3183" y="10509"/>
                  <a:pt x="3175" y="10542"/>
                </a:cubicBezTo>
                <a:cubicBezTo>
                  <a:pt x="3157" y="10596"/>
                  <a:pt x="3125" y="10554"/>
                  <a:pt x="3076" y="10542"/>
                </a:cubicBezTo>
                <a:cubicBezTo>
                  <a:pt x="3051" y="10542"/>
                  <a:pt x="3043" y="10542"/>
                  <a:pt x="3026" y="10542"/>
                </a:cubicBezTo>
              </a:path>
              <a:path w="1191" h="497">
                <a:moveTo>
                  <a:pt x="3324" y="10716"/>
                </a:moveTo>
                <a:cubicBezTo>
                  <a:pt x="3363" y="10716"/>
                  <a:pt x="3349" y="10732"/>
                  <a:pt x="3349" y="10765"/>
                </a:cubicBezTo>
              </a:path>
              <a:path w="1191" h="497">
                <a:moveTo>
                  <a:pt x="3373" y="10567"/>
                </a:moveTo>
                <a:cubicBezTo>
                  <a:pt x="3373" y="10550"/>
                  <a:pt x="3373" y="10534"/>
                  <a:pt x="3373" y="10517"/>
                </a:cubicBezTo>
              </a:path>
              <a:path w="1191" h="497">
                <a:moveTo>
                  <a:pt x="3522" y="10592"/>
                </a:moveTo>
                <a:cubicBezTo>
                  <a:pt x="3522" y="10650"/>
                  <a:pt x="3522" y="10707"/>
                  <a:pt x="3522" y="10765"/>
                </a:cubicBezTo>
                <a:cubicBezTo>
                  <a:pt x="3522" y="10708"/>
                  <a:pt x="3553" y="10688"/>
                  <a:pt x="3572" y="10641"/>
                </a:cubicBezTo>
                <a:cubicBezTo>
                  <a:pt x="3583" y="10614"/>
                  <a:pt x="3600" y="10567"/>
                  <a:pt x="3646" y="10592"/>
                </a:cubicBezTo>
                <a:cubicBezTo>
                  <a:pt x="3698" y="10620"/>
                  <a:pt x="3717" y="10665"/>
                  <a:pt x="3721" y="10716"/>
                </a:cubicBezTo>
                <a:cubicBezTo>
                  <a:pt x="3721" y="10740"/>
                  <a:pt x="3721" y="10749"/>
                  <a:pt x="3721" y="10765"/>
                </a:cubicBezTo>
              </a:path>
              <a:path w="1191" h="497">
                <a:moveTo>
                  <a:pt x="3870" y="10666"/>
                </a:moveTo>
                <a:cubicBezTo>
                  <a:pt x="3889" y="10625"/>
                  <a:pt x="3897" y="10619"/>
                  <a:pt x="3894" y="10592"/>
                </a:cubicBezTo>
                <a:cubicBezTo>
                  <a:pt x="3894" y="10670"/>
                  <a:pt x="3865" y="10726"/>
                  <a:pt x="3944" y="10740"/>
                </a:cubicBezTo>
                <a:cubicBezTo>
                  <a:pt x="4003" y="10751"/>
                  <a:pt x="4039" y="10574"/>
                  <a:pt x="4043" y="10542"/>
                </a:cubicBezTo>
                <a:cubicBezTo>
                  <a:pt x="4053" y="10471"/>
                  <a:pt x="4043" y="10391"/>
                  <a:pt x="4043" y="10319"/>
                </a:cubicBezTo>
                <a:cubicBezTo>
                  <a:pt x="4043" y="10391"/>
                  <a:pt x="4047" y="10446"/>
                  <a:pt x="4068" y="10517"/>
                </a:cubicBezTo>
                <a:cubicBezTo>
                  <a:pt x="4095" y="10609"/>
                  <a:pt x="4122" y="10681"/>
                  <a:pt x="4167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3456000"/>
            <a:ext cx="365040" cy="561960"/>
          </a:xfrm>
          <a:custGeom>
            <a:avLst/>
            <a:gdLst/>
            <a:ahLst/>
            <a:rect l="l" t="t" r="r" b="b"/>
            <a:pathLst>
              <a:path w="1018" h="1564">
                <a:moveTo>
                  <a:pt x="5730" y="9872"/>
                </a:moveTo>
                <a:cubicBezTo>
                  <a:pt x="5677" y="9872"/>
                  <a:pt x="5638" y="9885"/>
                  <a:pt x="5631" y="9823"/>
                </a:cubicBezTo>
                <a:cubicBezTo>
                  <a:pt x="5625" y="9766"/>
                  <a:pt x="5714" y="9758"/>
                  <a:pt x="5755" y="9748"/>
                </a:cubicBezTo>
                <a:cubicBezTo>
                  <a:pt x="5801" y="9737"/>
                  <a:pt x="5858" y="9750"/>
                  <a:pt x="5879" y="9798"/>
                </a:cubicBezTo>
                <a:cubicBezTo>
                  <a:pt x="5902" y="9851"/>
                  <a:pt x="5862" y="9901"/>
                  <a:pt x="5854" y="9947"/>
                </a:cubicBezTo>
                <a:cubicBezTo>
                  <a:pt x="5845" y="9995"/>
                  <a:pt x="5849" y="10037"/>
                  <a:pt x="5879" y="10071"/>
                </a:cubicBezTo>
                <a:cubicBezTo>
                  <a:pt x="5915" y="10112"/>
                  <a:pt x="5942" y="10155"/>
                  <a:pt x="5978" y="10195"/>
                </a:cubicBezTo>
                <a:cubicBezTo>
                  <a:pt x="6010" y="10230"/>
                  <a:pt x="6012" y="10298"/>
                  <a:pt x="5953" y="10319"/>
                </a:cubicBezTo>
                <a:cubicBezTo>
                  <a:pt x="5914" y="10333"/>
                  <a:pt x="5847" y="10319"/>
                  <a:pt x="5804" y="10319"/>
                </a:cubicBezTo>
              </a:path>
              <a:path w="1018" h="1564">
                <a:moveTo>
                  <a:pt x="5531" y="11013"/>
                </a:moveTo>
                <a:cubicBezTo>
                  <a:pt x="5539" y="11013"/>
                  <a:pt x="5548" y="11013"/>
                  <a:pt x="5556" y="11013"/>
                </a:cubicBezTo>
                <a:cubicBezTo>
                  <a:pt x="5501" y="11013"/>
                  <a:pt x="5485" y="11025"/>
                  <a:pt x="5432" y="11038"/>
                </a:cubicBezTo>
                <a:cubicBezTo>
                  <a:pt x="5407" y="11038"/>
                  <a:pt x="5399" y="11038"/>
                  <a:pt x="5383" y="11038"/>
                </a:cubicBezTo>
              </a:path>
              <a:path w="1018" h="1564">
                <a:moveTo>
                  <a:pt x="5804" y="10939"/>
                </a:moveTo>
                <a:cubicBezTo>
                  <a:pt x="5804" y="10890"/>
                  <a:pt x="5799" y="10839"/>
                  <a:pt x="5854" y="10815"/>
                </a:cubicBezTo>
                <a:cubicBezTo>
                  <a:pt x="5903" y="10793"/>
                  <a:pt x="6002" y="10732"/>
                  <a:pt x="6052" y="10790"/>
                </a:cubicBezTo>
                <a:cubicBezTo>
                  <a:pt x="6077" y="10819"/>
                  <a:pt x="6047" y="10938"/>
                  <a:pt x="6028" y="10964"/>
                </a:cubicBezTo>
                <a:cubicBezTo>
                  <a:pt x="5995" y="11010"/>
                  <a:pt x="5914" y="11067"/>
                  <a:pt x="5904" y="11112"/>
                </a:cubicBezTo>
                <a:cubicBezTo>
                  <a:pt x="5904" y="11137"/>
                  <a:pt x="5904" y="11145"/>
                  <a:pt x="5904" y="11162"/>
                </a:cubicBezTo>
                <a:cubicBezTo>
                  <a:pt x="5962" y="11162"/>
                  <a:pt x="5998" y="11161"/>
                  <a:pt x="6052" y="11137"/>
                </a:cubicBezTo>
                <a:cubicBezTo>
                  <a:pt x="6109" y="11111"/>
                  <a:pt x="6139" y="11112"/>
                  <a:pt x="6201" y="11112"/>
                </a:cubicBezTo>
              </a:path>
              <a:path w="1018" h="1564">
                <a:moveTo>
                  <a:pt x="5283" y="9624"/>
                </a:moveTo>
                <a:cubicBezTo>
                  <a:pt x="5251" y="9658"/>
                  <a:pt x="5252" y="9656"/>
                  <a:pt x="5234" y="9699"/>
                </a:cubicBezTo>
                <a:cubicBezTo>
                  <a:pt x="5179" y="9832"/>
                  <a:pt x="5184" y="9955"/>
                  <a:pt x="5184" y="10096"/>
                </a:cubicBezTo>
                <a:cubicBezTo>
                  <a:pt x="5184" y="10284"/>
                  <a:pt x="5200" y="10455"/>
                  <a:pt x="5234" y="10641"/>
                </a:cubicBezTo>
                <a:cubicBezTo>
                  <a:pt x="5257" y="10767"/>
                  <a:pt x="5285" y="10888"/>
                  <a:pt x="5308" y="11013"/>
                </a:cubicBezTo>
                <a:cubicBezTo>
                  <a:pt x="5319" y="11072"/>
                  <a:pt x="5319" y="11089"/>
                  <a:pt x="5358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28920" y="3394080"/>
            <a:ext cx="687240" cy="588960"/>
          </a:xfrm>
          <a:custGeom>
            <a:avLst/>
            <a:gdLst/>
            <a:ahLst/>
            <a:rect l="l" t="t" r="r" b="b"/>
            <a:pathLst>
              <a:path w="1911" h="1638">
                <a:moveTo>
                  <a:pt x="6921" y="9823"/>
                </a:moveTo>
                <a:cubicBezTo>
                  <a:pt x="6864" y="9795"/>
                  <a:pt x="6961" y="9798"/>
                  <a:pt x="6995" y="9798"/>
                </a:cubicBezTo>
                <a:cubicBezTo>
                  <a:pt x="7058" y="9798"/>
                  <a:pt x="7128" y="9748"/>
                  <a:pt x="7193" y="9773"/>
                </a:cubicBezTo>
                <a:cubicBezTo>
                  <a:pt x="7267" y="9802"/>
                  <a:pt x="7176" y="9906"/>
                  <a:pt x="7169" y="9947"/>
                </a:cubicBezTo>
                <a:cubicBezTo>
                  <a:pt x="7157" y="10021"/>
                  <a:pt x="7126" y="10095"/>
                  <a:pt x="7119" y="10170"/>
                </a:cubicBezTo>
                <a:cubicBezTo>
                  <a:pt x="7119" y="10178"/>
                  <a:pt x="7119" y="10187"/>
                  <a:pt x="7119" y="10195"/>
                </a:cubicBezTo>
              </a:path>
              <a:path w="1911" h="1638">
                <a:moveTo>
                  <a:pt x="6747" y="10964"/>
                </a:moveTo>
                <a:cubicBezTo>
                  <a:pt x="6747" y="10956"/>
                  <a:pt x="6747" y="10947"/>
                  <a:pt x="6747" y="10939"/>
                </a:cubicBezTo>
                <a:cubicBezTo>
                  <a:pt x="6791" y="10928"/>
                  <a:pt x="6822" y="10901"/>
                  <a:pt x="6871" y="10889"/>
                </a:cubicBezTo>
                <a:cubicBezTo>
                  <a:pt x="6914" y="10878"/>
                  <a:pt x="6976" y="10889"/>
                  <a:pt x="7020" y="10889"/>
                </a:cubicBezTo>
              </a:path>
              <a:path w="1911" h="1638">
                <a:moveTo>
                  <a:pt x="7218" y="10716"/>
                </a:moveTo>
                <a:cubicBezTo>
                  <a:pt x="7238" y="10675"/>
                  <a:pt x="7247" y="10648"/>
                  <a:pt x="7243" y="10691"/>
                </a:cubicBezTo>
                <a:cubicBezTo>
                  <a:pt x="7232" y="10735"/>
                  <a:pt x="7205" y="10766"/>
                  <a:pt x="7193" y="10815"/>
                </a:cubicBezTo>
                <a:cubicBezTo>
                  <a:pt x="7180" y="10866"/>
                  <a:pt x="7227" y="10898"/>
                  <a:pt x="7268" y="10914"/>
                </a:cubicBezTo>
                <a:cubicBezTo>
                  <a:pt x="7319" y="10934"/>
                  <a:pt x="7347" y="10899"/>
                  <a:pt x="7392" y="10939"/>
                </a:cubicBezTo>
                <a:cubicBezTo>
                  <a:pt x="7425" y="10969"/>
                  <a:pt x="7438" y="11034"/>
                  <a:pt x="7392" y="11063"/>
                </a:cubicBezTo>
                <a:cubicBezTo>
                  <a:pt x="7354" y="11087"/>
                  <a:pt x="7217" y="11063"/>
                  <a:pt x="7169" y="11063"/>
                </a:cubicBezTo>
              </a:path>
              <a:path w="1911" h="1638">
                <a:moveTo>
                  <a:pt x="7367" y="10864"/>
                </a:moveTo>
                <a:cubicBezTo>
                  <a:pt x="7367" y="10779"/>
                  <a:pt x="7345" y="10827"/>
                  <a:pt x="7293" y="10840"/>
                </a:cubicBezTo>
              </a:path>
              <a:path w="1911" h="1638">
                <a:moveTo>
                  <a:pt x="7441" y="10567"/>
                </a:moveTo>
                <a:cubicBezTo>
                  <a:pt x="7469" y="10567"/>
                  <a:pt x="7480" y="10569"/>
                  <a:pt x="7491" y="10592"/>
                </a:cubicBezTo>
                <a:cubicBezTo>
                  <a:pt x="7458" y="10600"/>
                  <a:pt x="7396" y="10627"/>
                  <a:pt x="7367" y="10641"/>
                </a:cubicBezTo>
                <a:cubicBezTo>
                  <a:pt x="7329" y="10660"/>
                  <a:pt x="7309" y="10666"/>
                  <a:pt x="7293" y="10691"/>
                </a:cubicBezTo>
              </a:path>
              <a:path w="1911" h="1638">
                <a:moveTo>
                  <a:pt x="7640" y="9649"/>
                </a:moveTo>
                <a:cubicBezTo>
                  <a:pt x="7693" y="9657"/>
                  <a:pt x="7698" y="9658"/>
                  <a:pt x="7739" y="9699"/>
                </a:cubicBezTo>
                <a:cubicBezTo>
                  <a:pt x="7773" y="9733"/>
                  <a:pt x="7824" y="9779"/>
                  <a:pt x="7863" y="9823"/>
                </a:cubicBezTo>
                <a:cubicBezTo>
                  <a:pt x="7932" y="9900"/>
                  <a:pt x="7997" y="10014"/>
                  <a:pt x="8012" y="10120"/>
                </a:cubicBezTo>
                <a:cubicBezTo>
                  <a:pt x="8033" y="10268"/>
                  <a:pt x="8019" y="10448"/>
                  <a:pt x="7987" y="10592"/>
                </a:cubicBezTo>
                <a:cubicBezTo>
                  <a:pt x="7961" y="10708"/>
                  <a:pt x="7929" y="10863"/>
                  <a:pt x="7863" y="10964"/>
                </a:cubicBezTo>
                <a:cubicBezTo>
                  <a:pt x="7838" y="10988"/>
                  <a:pt x="7829" y="10996"/>
                  <a:pt x="7813" y="11013"/>
                </a:cubicBezTo>
              </a:path>
              <a:path w="1911" h="1638">
                <a:moveTo>
                  <a:pt x="8086" y="9649"/>
                </a:moveTo>
                <a:cubicBezTo>
                  <a:pt x="8129" y="9638"/>
                  <a:pt x="8169" y="9586"/>
                  <a:pt x="8210" y="9575"/>
                </a:cubicBezTo>
                <a:cubicBezTo>
                  <a:pt x="8257" y="9563"/>
                  <a:pt x="8309" y="9550"/>
                  <a:pt x="8359" y="9550"/>
                </a:cubicBezTo>
                <a:cubicBezTo>
                  <a:pt x="8384" y="9550"/>
                  <a:pt x="8392" y="9550"/>
                  <a:pt x="8384" y="9575"/>
                </a:cubicBezTo>
              </a:path>
              <a:path w="1911" h="1638">
                <a:moveTo>
                  <a:pt x="8558" y="9475"/>
                </a:moveTo>
                <a:cubicBezTo>
                  <a:pt x="8582" y="9451"/>
                  <a:pt x="8591" y="9442"/>
                  <a:pt x="8607" y="9426"/>
                </a:cubicBezTo>
                <a:cubicBezTo>
                  <a:pt x="8607" y="9497"/>
                  <a:pt x="8623" y="9556"/>
                  <a:pt x="8632" y="9624"/>
                </a:cubicBezTo>
                <a:cubicBezTo>
                  <a:pt x="8632" y="9676"/>
                  <a:pt x="8633" y="9694"/>
                  <a:pt x="8657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68920" y="2678040"/>
            <a:ext cx="374760" cy="179640"/>
          </a:xfrm>
          <a:custGeom>
            <a:avLst/>
            <a:gdLst/>
            <a:ahLst/>
            <a:rect l="l" t="t" r="r" b="b"/>
            <a:pathLst>
              <a:path w="1043" h="498">
                <a:moveTo>
                  <a:pt x="13519" y="7739"/>
                </a:moveTo>
                <a:cubicBezTo>
                  <a:pt x="13527" y="7731"/>
                  <a:pt x="13535" y="7722"/>
                  <a:pt x="13543" y="7714"/>
                </a:cubicBezTo>
                <a:cubicBezTo>
                  <a:pt x="13497" y="7678"/>
                  <a:pt x="13456" y="7689"/>
                  <a:pt x="13395" y="7689"/>
                </a:cubicBezTo>
                <a:cubicBezTo>
                  <a:pt x="13345" y="7689"/>
                  <a:pt x="13296" y="7689"/>
                  <a:pt x="13246" y="7689"/>
                </a:cubicBezTo>
              </a:path>
              <a:path w="1043" h="498">
                <a:moveTo>
                  <a:pt x="13841" y="7541"/>
                </a:moveTo>
                <a:cubicBezTo>
                  <a:pt x="13899" y="7529"/>
                  <a:pt x="13959" y="7491"/>
                  <a:pt x="14015" y="7466"/>
                </a:cubicBezTo>
                <a:cubicBezTo>
                  <a:pt x="14069" y="7441"/>
                  <a:pt x="14105" y="7441"/>
                  <a:pt x="14163" y="7441"/>
                </a:cubicBezTo>
                <a:cubicBezTo>
                  <a:pt x="14163" y="7511"/>
                  <a:pt x="14163" y="7517"/>
                  <a:pt x="14114" y="7565"/>
                </a:cubicBezTo>
                <a:cubicBezTo>
                  <a:pt x="14067" y="7611"/>
                  <a:pt x="14100" y="7626"/>
                  <a:pt x="14139" y="7665"/>
                </a:cubicBezTo>
                <a:cubicBezTo>
                  <a:pt x="14201" y="7727"/>
                  <a:pt x="14274" y="7732"/>
                  <a:pt x="14288" y="7813"/>
                </a:cubicBezTo>
                <a:cubicBezTo>
                  <a:pt x="14296" y="7863"/>
                  <a:pt x="14267" y="7881"/>
                  <a:pt x="14213" y="7888"/>
                </a:cubicBezTo>
                <a:cubicBezTo>
                  <a:pt x="14147" y="7888"/>
                  <a:pt x="14130" y="7888"/>
                  <a:pt x="14089" y="7888"/>
                </a:cubicBezTo>
              </a:path>
              <a:path w="1043" h="498">
                <a:moveTo>
                  <a:pt x="14015" y="7516"/>
                </a:moveTo>
                <a:cubicBezTo>
                  <a:pt x="14110" y="7488"/>
                  <a:pt x="14149" y="7563"/>
                  <a:pt x="14188" y="7665"/>
                </a:cubicBezTo>
                <a:cubicBezTo>
                  <a:pt x="14227" y="7768"/>
                  <a:pt x="14211" y="7837"/>
                  <a:pt x="14188" y="7938"/>
                </a:cubicBezTo>
                <a:cubicBezTo>
                  <a:pt x="14059" y="7922"/>
                  <a:pt x="13994" y="7841"/>
                  <a:pt x="13915" y="7739"/>
                </a:cubicBezTo>
                <a:cubicBezTo>
                  <a:pt x="13868" y="7668"/>
                  <a:pt x="13852" y="7646"/>
                  <a:pt x="13841" y="7590"/>
                </a:cubicBezTo>
                <a:cubicBezTo>
                  <a:pt x="13869" y="7562"/>
                  <a:pt x="13906" y="7732"/>
                  <a:pt x="13915" y="7789"/>
                </a:cubicBezTo>
                <a:cubicBezTo>
                  <a:pt x="13915" y="7830"/>
                  <a:pt x="13915" y="7838"/>
                  <a:pt x="13915" y="7863"/>
                </a:cubicBezTo>
                <a:cubicBezTo>
                  <a:pt x="13844" y="7791"/>
                  <a:pt x="13768" y="7731"/>
                  <a:pt x="13692" y="7665"/>
                </a:cubicBezTo>
                <a:cubicBezTo>
                  <a:pt x="13620" y="7602"/>
                  <a:pt x="13563" y="7598"/>
                  <a:pt x="13543" y="7714"/>
                </a:cubicBezTo>
                <a:cubicBezTo>
                  <a:pt x="13543" y="7775"/>
                  <a:pt x="13553" y="7791"/>
                  <a:pt x="13519" y="7813"/>
                </a:cubicBezTo>
                <a:cubicBezTo>
                  <a:pt x="13468" y="7801"/>
                  <a:pt x="13473" y="7790"/>
                  <a:pt x="13444" y="773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84840" y="2990880"/>
            <a:ext cx="660240" cy="223920"/>
          </a:xfrm>
          <a:custGeom>
            <a:avLst/>
            <a:gdLst/>
            <a:ahLst/>
            <a:rect l="l" t="t" r="r" b="b"/>
            <a:pathLst>
              <a:path w="1837" h="621">
                <a:moveTo>
                  <a:pt x="13568" y="8483"/>
                </a:moveTo>
                <a:cubicBezTo>
                  <a:pt x="13617" y="8471"/>
                  <a:pt x="13667" y="8434"/>
                  <a:pt x="13717" y="8409"/>
                </a:cubicBezTo>
                <a:cubicBezTo>
                  <a:pt x="13800" y="8368"/>
                  <a:pt x="13844" y="8386"/>
                  <a:pt x="13866" y="8483"/>
                </a:cubicBezTo>
                <a:cubicBezTo>
                  <a:pt x="13882" y="8555"/>
                  <a:pt x="13811" y="8595"/>
                  <a:pt x="13767" y="8632"/>
                </a:cubicBezTo>
                <a:cubicBezTo>
                  <a:pt x="13730" y="8663"/>
                  <a:pt x="13729" y="8646"/>
                  <a:pt x="13717" y="8682"/>
                </a:cubicBezTo>
                <a:cubicBezTo>
                  <a:pt x="13765" y="8719"/>
                  <a:pt x="13818" y="8745"/>
                  <a:pt x="13866" y="8781"/>
                </a:cubicBezTo>
                <a:cubicBezTo>
                  <a:pt x="13917" y="8820"/>
                  <a:pt x="13932" y="8853"/>
                  <a:pt x="13891" y="8905"/>
                </a:cubicBezTo>
                <a:cubicBezTo>
                  <a:pt x="13862" y="8942"/>
                  <a:pt x="13762" y="8942"/>
                  <a:pt x="13717" y="8930"/>
                </a:cubicBezTo>
                <a:cubicBezTo>
                  <a:pt x="13700" y="8922"/>
                  <a:pt x="13684" y="8913"/>
                  <a:pt x="13667" y="8905"/>
                </a:cubicBezTo>
              </a:path>
              <a:path w="1837" h="621">
                <a:moveTo>
                  <a:pt x="14337" y="8533"/>
                </a:moveTo>
                <a:cubicBezTo>
                  <a:pt x="14360" y="8510"/>
                  <a:pt x="14364" y="8502"/>
                  <a:pt x="14387" y="8508"/>
                </a:cubicBezTo>
                <a:cubicBezTo>
                  <a:pt x="14372" y="8568"/>
                  <a:pt x="14337" y="8570"/>
                  <a:pt x="14288" y="8607"/>
                </a:cubicBezTo>
                <a:cubicBezTo>
                  <a:pt x="14245" y="8640"/>
                  <a:pt x="14235" y="8674"/>
                  <a:pt x="14188" y="8706"/>
                </a:cubicBezTo>
              </a:path>
              <a:path w="1837" h="621">
                <a:moveTo>
                  <a:pt x="14312" y="8682"/>
                </a:moveTo>
                <a:cubicBezTo>
                  <a:pt x="14353" y="8662"/>
                  <a:pt x="14369" y="8664"/>
                  <a:pt x="14362" y="8632"/>
                </a:cubicBezTo>
                <a:cubicBezTo>
                  <a:pt x="14305" y="8632"/>
                  <a:pt x="14290" y="8609"/>
                  <a:pt x="14238" y="8582"/>
                </a:cubicBezTo>
                <a:cubicBezTo>
                  <a:pt x="14188" y="8558"/>
                  <a:pt x="14172" y="8550"/>
                  <a:pt x="14139" y="8533"/>
                </a:cubicBezTo>
              </a:path>
              <a:path w="1837" h="621">
                <a:moveTo>
                  <a:pt x="14660" y="8632"/>
                </a:moveTo>
                <a:cubicBezTo>
                  <a:pt x="14652" y="8632"/>
                  <a:pt x="14643" y="8632"/>
                  <a:pt x="14635" y="8632"/>
                </a:cubicBezTo>
                <a:cubicBezTo>
                  <a:pt x="14693" y="8632"/>
                  <a:pt x="14738" y="8616"/>
                  <a:pt x="14784" y="8607"/>
                </a:cubicBezTo>
                <a:cubicBezTo>
                  <a:pt x="14812" y="8601"/>
                  <a:pt x="14853" y="8607"/>
                  <a:pt x="14883" y="8607"/>
                </a:cubicBezTo>
              </a:path>
              <a:path w="1837" h="621">
                <a:moveTo>
                  <a:pt x="15106" y="8409"/>
                </a:moveTo>
                <a:cubicBezTo>
                  <a:pt x="15114" y="8384"/>
                  <a:pt x="15123" y="8359"/>
                  <a:pt x="15131" y="8334"/>
                </a:cubicBezTo>
                <a:cubicBezTo>
                  <a:pt x="15093" y="8372"/>
                  <a:pt x="15049" y="8405"/>
                  <a:pt x="15032" y="8458"/>
                </a:cubicBezTo>
                <a:cubicBezTo>
                  <a:pt x="15011" y="8522"/>
                  <a:pt x="15090" y="8561"/>
                  <a:pt x="15131" y="8582"/>
                </a:cubicBezTo>
                <a:cubicBezTo>
                  <a:pt x="15195" y="8616"/>
                  <a:pt x="15228" y="8604"/>
                  <a:pt x="15280" y="8657"/>
                </a:cubicBezTo>
                <a:cubicBezTo>
                  <a:pt x="15319" y="8697"/>
                  <a:pt x="15310" y="8756"/>
                  <a:pt x="15255" y="8781"/>
                </a:cubicBezTo>
                <a:cubicBezTo>
                  <a:pt x="15204" y="8804"/>
                  <a:pt x="15126" y="8773"/>
                  <a:pt x="15081" y="8756"/>
                </a:cubicBezTo>
              </a:path>
              <a:path w="1837" h="621">
                <a:moveTo>
                  <a:pt x="15379" y="8384"/>
                </a:moveTo>
                <a:cubicBezTo>
                  <a:pt x="15387" y="8359"/>
                  <a:pt x="15396" y="8335"/>
                  <a:pt x="15404" y="8310"/>
                </a:cubicBezTo>
                <a:cubicBezTo>
                  <a:pt x="15333" y="8310"/>
                  <a:pt x="15272" y="8337"/>
                  <a:pt x="15205" y="835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40280" y="3044880"/>
            <a:ext cx="125640" cy="19080"/>
          </a:xfrm>
          <a:custGeom>
            <a:avLst/>
            <a:gdLst/>
            <a:ahLst/>
            <a:rect l="l" t="t" r="r" b="b"/>
            <a:pathLst>
              <a:path w="349" h="51">
                <a:moveTo>
                  <a:pt x="16222" y="8508"/>
                </a:moveTo>
                <a:cubicBezTo>
                  <a:pt x="16261" y="8498"/>
                  <a:pt x="16304" y="8495"/>
                  <a:pt x="16346" y="8483"/>
                </a:cubicBezTo>
                <a:cubicBezTo>
                  <a:pt x="16401" y="8467"/>
                  <a:pt x="16484" y="8435"/>
                  <a:pt x="16545" y="8458"/>
                </a:cubicBezTo>
                <a:cubicBezTo>
                  <a:pt x="16553" y="8466"/>
                  <a:pt x="16562" y="8475"/>
                  <a:pt x="16570" y="848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5040" y="2946240"/>
            <a:ext cx="635040" cy="142920"/>
          </a:xfrm>
          <a:custGeom>
            <a:avLst/>
            <a:gdLst/>
            <a:ahLst/>
            <a:rect l="l" t="t" r="r" b="b"/>
            <a:pathLst>
              <a:path w="1762" h="397">
                <a:moveTo>
                  <a:pt x="17314" y="8483"/>
                </a:moveTo>
                <a:cubicBezTo>
                  <a:pt x="17274" y="8496"/>
                  <a:pt x="17304" y="8495"/>
                  <a:pt x="17264" y="8508"/>
                </a:cubicBezTo>
                <a:cubicBezTo>
                  <a:pt x="17307" y="8497"/>
                  <a:pt x="17344" y="8473"/>
                  <a:pt x="17388" y="8458"/>
                </a:cubicBezTo>
                <a:cubicBezTo>
                  <a:pt x="17444" y="8439"/>
                  <a:pt x="17479" y="8434"/>
                  <a:pt x="17537" y="8434"/>
                </a:cubicBezTo>
                <a:cubicBezTo>
                  <a:pt x="17562" y="8434"/>
                  <a:pt x="17570" y="8434"/>
                  <a:pt x="17587" y="8434"/>
                </a:cubicBezTo>
              </a:path>
              <a:path w="1762" h="397">
                <a:moveTo>
                  <a:pt x="17735" y="8285"/>
                </a:moveTo>
                <a:cubicBezTo>
                  <a:pt x="17695" y="8271"/>
                  <a:pt x="17705" y="8244"/>
                  <a:pt x="17735" y="8210"/>
                </a:cubicBezTo>
                <a:cubicBezTo>
                  <a:pt x="17769" y="8172"/>
                  <a:pt x="17811" y="8186"/>
                  <a:pt x="17859" y="8186"/>
                </a:cubicBezTo>
                <a:cubicBezTo>
                  <a:pt x="17868" y="8257"/>
                  <a:pt x="17908" y="8316"/>
                  <a:pt x="17859" y="8384"/>
                </a:cubicBezTo>
                <a:cubicBezTo>
                  <a:pt x="17823" y="8434"/>
                  <a:pt x="17758" y="8474"/>
                  <a:pt x="17735" y="8533"/>
                </a:cubicBezTo>
                <a:cubicBezTo>
                  <a:pt x="17735" y="8541"/>
                  <a:pt x="17735" y="8550"/>
                  <a:pt x="17735" y="8558"/>
                </a:cubicBezTo>
                <a:cubicBezTo>
                  <a:pt x="17777" y="8588"/>
                  <a:pt x="17804" y="8582"/>
                  <a:pt x="17859" y="8582"/>
                </a:cubicBezTo>
                <a:cubicBezTo>
                  <a:pt x="17909" y="8582"/>
                  <a:pt x="17958" y="8582"/>
                  <a:pt x="18008" y="8582"/>
                </a:cubicBezTo>
              </a:path>
              <a:path w="1762" h="397">
                <a:moveTo>
                  <a:pt x="18455" y="8285"/>
                </a:moveTo>
                <a:cubicBezTo>
                  <a:pt x="18479" y="8285"/>
                  <a:pt x="18488" y="8285"/>
                  <a:pt x="18504" y="8285"/>
                </a:cubicBezTo>
                <a:cubicBezTo>
                  <a:pt x="18466" y="8295"/>
                  <a:pt x="18415" y="8333"/>
                  <a:pt x="18380" y="8359"/>
                </a:cubicBezTo>
                <a:cubicBezTo>
                  <a:pt x="18337" y="8391"/>
                  <a:pt x="18294" y="8407"/>
                  <a:pt x="18281" y="8458"/>
                </a:cubicBezTo>
              </a:path>
              <a:path w="1762" h="397">
                <a:moveTo>
                  <a:pt x="18455" y="8458"/>
                </a:moveTo>
                <a:cubicBezTo>
                  <a:pt x="18447" y="8425"/>
                  <a:pt x="18416" y="8392"/>
                  <a:pt x="18380" y="8384"/>
                </a:cubicBezTo>
                <a:cubicBezTo>
                  <a:pt x="18322" y="8371"/>
                  <a:pt x="18289" y="8381"/>
                  <a:pt x="18231" y="8359"/>
                </a:cubicBezTo>
              </a:path>
              <a:path w="1762" h="397">
                <a:moveTo>
                  <a:pt x="18529" y="8186"/>
                </a:moveTo>
                <a:cubicBezTo>
                  <a:pt x="18633" y="8186"/>
                  <a:pt x="18975" y="8130"/>
                  <a:pt x="19025" y="8210"/>
                </a:cubicBezTo>
                <a:cubicBezTo>
                  <a:pt x="19052" y="8252"/>
                  <a:pt x="18974" y="8332"/>
                  <a:pt x="18951" y="8359"/>
                </a:cubicBezTo>
                <a:cubicBezTo>
                  <a:pt x="18906" y="8412"/>
                  <a:pt x="18883" y="8445"/>
                  <a:pt x="18852" y="850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19760" y="3419640"/>
            <a:ext cx="9036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3891" y="9500"/>
                </a:moveTo>
                <a:cubicBezTo>
                  <a:pt x="13818" y="9500"/>
                  <a:pt x="13724" y="9482"/>
                  <a:pt x="13667" y="9525"/>
                </a:cubicBezTo>
              </a:path>
              <a:path w="249" h="175">
                <a:moveTo>
                  <a:pt x="13866" y="9599"/>
                </a:moveTo>
                <a:cubicBezTo>
                  <a:pt x="13906" y="9619"/>
                  <a:pt x="13922" y="9618"/>
                  <a:pt x="13915" y="9649"/>
                </a:cubicBezTo>
                <a:cubicBezTo>
                  <a:pt x="13876" y="9659"/>
                  <a:pt x="13861" y="9674"/>
                  <a:pt x="13816" y="9674"/>
                </a:cubicBezTo>
                <a:cubicBezTo>
                  <a:pt x="13808" y="9674"/>
                  <a:pt x="13799" y="9674"/>
                  <a:pt x="13791" y="967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60960" y="342900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4362" y="9525"/>
                </a:moveTo>
                <a:cubicBezTo>
                  <a:pt x="14354" y="9525"/>
                  <a:pt x="14345" y="9525"/>
                  <a:pt x="14337" y="9525"/>
                </a:cubicBezTo>
                <a:cubicBezTo>
                  <a:pt x="14396" y="9569"/>
                  <a:pt x="14381" y="9537"/>
                  <a:pt x="14436" y="9525"/>
                </a:cubicBezTo>
                <a:cubicBezTo>
                  <a:pt x="14487" y="9514"/>
                  <a:pt x="14558" y="9525"/>
                  <a:pt x="14610" y="952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9800" y="3276720"/>
            <a:ext cx="223920" cy="215640"/>
          </a:xfrm>
          <a:custGeom>
            <a:avLst/>
            <a:gdLst/>
            <a:ahLst/>
            <a:rect l="l" t="t" r="r" b="b"/>
            <a:pathLst>
              <a:path w="622" h="597">
                <a:moveTo>
                  <a:pt x="15056" y="9327"/>
                </a:moveTo>
                <a:cubicBezTo>
                  <a:pt x="15056" y="9394"/>
                  <a:pt x="15071" y="9439"/>
                  <a:pt x="15081" y="9500"/>
                </a:cubicBezTo>
                <a:cubicBezTo>
                  <a:pt x="15092" y="9563"/>
                  <a:pt x="15081" y="9635"/>
                  <a:pt x="15081" y="9699"/>
                </a:cubicBezTo>
              </a:path>
              <a:path w="622" h="597">
                <a:moveTo>
                  <a:pt x="15329" y="9327"/>
                </a:moveTo>
                <a:cubicBezTo>
                  <a:pt x="15354" y="9327"/>
                  <a:pt x="15362" y="9327"/>
                  <a:pt x="15354" y="9302"/>
                </a:cubicBezTo>
                <a:cubicBezTo>
                  <a:pt x="15344" y="9341"/>
                  <a:pt x="15316" y="9364"/>
                  <a:pt x="15304" y="9401"/>
                </a:cubicBezTo>
                <a:cubicBezTo>
                  <a:pt x="15283" y="9465"/>
                  <a:pt x="15332" y="9471"/>
                  <a:pt x="15379" y="9475"/>
                </a:cubicBezTo>
                <a:cubicBezTo>
                  <a:pt x="15438" y="9480"/>
                  <a:pt x="15498" y="9479"/>
                  <a:pt x="15553" y="9500"/>
                </a:cubicBezTo>
                <a:cubicBezTo>
                  <a:pt x="15615" y="9524"/>
                  <a:pt x="15627" y="9515"/>
                  <a:pt x="15627" y="9575"/>
                </a:cubicBezTo>
                <a:cubicBezTo>
                  <a:pt x="15627" y="9651"/>
                  <a:pt x="15571" y="9606"/>
                  <a:pt x="15528" y="9624"/>
                </a:cubicBezTo>
                <a:cubicBezTo>
                  <a:pt x="15490" y="9640"/>
                  <a:pt x="15477" y="9649"/>
                  <a:pt x="15429" y="9649"/>
                </a:cubicBezTo>
              </a:path>
              <a:path w="622" h="597">
                <a:moveTo>
                  <a:pt x="15379" y="9203"/>
                </a:moveTo>
                <a:cubicBezTo>
                  <a:pt x="15415" y="9194"/>
                  <a:pt x="15445" y="9160"/>
                  <a:pt x="15478" y="9153"/>
                </a:cubicBezTo>
                <a:cubicBezTo>
                  <a:pt x="15533" y="9141"/>
                  <a:pt x="15602" y="9151"/>
                  <a:pt x="15652" y="9128"/>
                </a:cubicBezTo>
                <a:cubicBezTo>
                  <a:pt x="15660" y="9120"/>
                  <a:pt x="15669" y="9111"/>
                  <a:pt x="15677" y="910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40280" y="3384720"/>
            <a:ext cx="54000" cy="172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6222" y="9451"/>
                </a:moveTo>
                <a:cubicBezTo>
                  <a:pt x="16260" y="9451"/>
                  <a:pt x="16316" y="9441"/>
                  <a:pt x="16346" y="9426"/>
                </a:cubicBezTo>
                <a:cubicBezTo>
                  <a:pt x="16354" y="9418"/>
                  <a:pt x="16363" y="9409"/>
                  <a:pt x="16371" y="940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9120" y="3259080"/>
            <a:ext cx="473040" cy="125640"/>
          </a:xfrm>
          <a:custGeom>
            <a:avLst/>
            <a:gdLst/>
            <a:ahLst/>
            <a:rect l="l" t="t" r="r" b="b"/>
            <a:pathLst>
              <a:path w="1315" h="348">
                <a:moveTo>
                  <a:pt x="16966" y="9277"/>
                </a:moveTo>
                <a:cubicBezTo>
                  <a:pt x="16942" y="9277"/>
                  <a:pt x="16934" y="9277"/>
                  <a:pt x="16942" y="9302"/>
                </a:cubicBezTo>
                <a:cubicBezTo>
                  <a:pt x="16991" y="9302"/>
                  <a:pt x="17022" y="9307"/>
                  <a:pt x="17066" y="9277"/>
                </a:cubicBezTo>
                <a:cubicBezTo>
                  <a:pt x="17129" y="9234"/>
                  <a:pt x="17193" y="9229"/>
                  <a:pt x="17264" y="9203"/>
                </a:cubicBezTo>
              </a:path>
              <a:path w="1315" h="348">
                <a:moveTo>
                  <a:pt x="17512" y="9079"/>
                </a:moveTo>
                <a:cubicBezTo>
                  <a:pt x="17520" y="9071"/>
                  <a:pt x="17529" y="9062"/>
                  <a:pt x="17537" y="9054"/>
                </a:cubicBezTo>
                <a:cubicBezTo>
                  <a:pt x="17537" y="9125"/>
                  <a:pt x="17554" y="9187"/>
                  <a:pt x="17562" y="9252"/>
                </a:cubicBezTo>
                <a:cubicBezTo>
                  <a:pt x="17568" y="9299"/>
                  <a:pt x="17562" y="9353"/>
                  <a:pt x="17562" y="9401"/>
                </a:cubicBezTo>
              </a:path>
              <a:path w="1315" h="348">
                <a:moveTo>
                  <a:pt x="17760" y="9079"/>
                </a:moveTo>
                <a:cubicBezTo>
                  <a:pt x="17768" y="9071"/>
                  <a:pt x="17777" y="9062"/>
                  <a:pt x="17785" y="9054"/>
                </a:cubicBezTo>
                <a:cubicBezTo>
                  <a:pt x="17785" y="9130"/>
                  <a:pt x="17759" y="9245"/>
                  <a:pt x="17810" y="9302"/>
                </a:cubicBezTo>
                <a:cubicBezTo>
                  <a:pt x="17855" y="9352"/>
                  <a:pt x="17902" y="9311"/>
                  <a:pt x="17959" y="9327"/>
                </a:cubicBezTo>
                <a:cubicBezTo>
                  <a:pt x="18022" y="9345"/>
                  <a:pt x="18064" y="9351"/>
                  <a:pt x="18132" y="9351"/>
                </a:cubicBezTo>
                <a:cubicBezTo>
                  <a:pt x="18177" y="9351"/>
                  <a:pt x="18301" y="9327"/>
                  <a:pt x="18256" y="9327"/>
                </a:cubicBezTo>
                <a:cubicBezTo>
                  <a:pt x="18248" y="9327"/>
                  <a:pt x="18239" y="9327"/>
                  <a:pt x="18231" y="9327"/>
                </a:cubicBezTo>
              </a:path>
              <a:path w="1315" h="348">
                <a:moveTo>
                  <a:pt x="18058" y="9227"/>
                </a:moveTo>
                <a:cubicBezTo>
                  <a:pt x="18041" y="9227"/>
                  <a:pt x="18025" y="9227"/>
                  <a:pt x="18008" y="9227"/>
                </a:cubicBezTo>
                <a:cubicBezTo>
                  <a:pt x="18008" y="9291"/>
                  <a:pt x="18025" y="9339"/>
                  <a:pt x="18033" y="940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19920" y="3224160"/>
            <a:ext cx="376200" cy="231840"/>
          </a:xfrm>
          <a:custGeom>
            <a:avLst/>
            <a:gdLst/>
            <a:ahLst/>
            <a:rect l="l" t="t" r="r" b="b"/>
            <a:pathLst>
              <a:path w="1042" h="646">
                <a:moveTo>
                  <a:pt x="19348" y="9203"/>
                </a:moveTo>
                <a:cubicBezTo>
                  <a:pt x="19348" y="9195"/>
                  <a:pt x="19348" y="9186"/>
                  <a:pt x="19348" y="9178"/>
                </a:cubicBezTo>
                <a:cubicBezTo>
                  <a:pt x="19315" y="9178"/>
                  <a:pt x="19281" y="9178"/>
                  <a:pt x="19248" y="9178"/>
                </a:cubicBezTo>
              </a:path>
              <a:path w="1042" h="646">
                <a:moveTo>
                  <a:pt x="19372" y="9327"/>
                </a:moveTo>
                <a:cubicBezTo>
                  <a:pt x="19380" y="9327"/>
                  <a:pt x="19389" y="9327"/>
                  <a:pt x="19397" y="9327"/>
                </a:cubicBezTo>
                <a:cubicBezTo>
                  <a:pt x="19339" y="9327"/>
                  <a:pt x="19282" y="9327"/>
                  <a:pt x="19224" y="9327"/>
                </a:cubicBezTo>
              </a:path>
              <a:path w="1042" h="646">
                <a:moveTo>
                  <a:pt x="19869" y="8979"/>
                </a:moveTo>
                <a:cubicBezTo>
                  <a:pt x="19869" y="8937"/>
                  <a:pt x="19869" y="9012"/>
                  <a:pt x="19869" y="9054"/>
                </a:cubicBezTo>
                <a:cubicBezTo>
                  <a:pt x="19869" y="9147"/>
                  <a:pt x="19905" y="9236"/>
                  <a:pt x="19918" y="9327"/>
                </a:cubicBezTo>
                <a:cubicBezTo>
                  <a:pt x="19921" y="9348"/>
                  <a:pt x="19943" y="9490"/>
                  <a:pt x="19943" y="9426"/>
                </a:cubicBezTo>
              </a:path>
              <a:path w="1042" h="646">
                <a:moveTo>
                  <a:pt x="19670" y="9178"/>
                </a:moveTo>
                <a:cubicBezTo>
                  <a:pt x="19678" y="9178"/>
                  <a:pt x="19687" y="9178"/>
                  <a:pt x="19695" y="9178"/>
                </a:cubicBezTo>
                <a:cubicBezTo>
                  <a:pt x="19682" y="9140"/>
                  <a:pt x="19666" y="9153"/>
                  <a:pt x="19621" y="9153"/>
                </a:cubicBezTo>
                <a:cubicBezTo>
                  <a:pt x="19596" y="9153"/>
                  <a:pt x="19588" y="9153"/>
                  <a:pt x="19571" y="9153"/>
                </a:cubicBezTo>
              </a:path>
              <a:path w="1042" h="646">
                <a:moveTo>
                  <a:pt x="20265" y="9599"/>
                </a:moveTo>
                <a:cubicBezTo>
                  <a:pt x="20222" y="9567"/>
                  <a:pt x="20198" y="9575"/>
                  <a:pt x="20141" y="9575"/>
                </a:cubicBezTo>
                <a:cubicBezTo>
                  <a:pt x="19960" y="9575"/>
                  <a:pt x="19624" y="9509"/>
                  <a:pt x="19472" y="959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30840" y="3732120"/>
            <a:ext cx="420480" cy="18900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3419" y="10567"/>
                </a:moveTo>
                <a:cubicBezTo>
                  <a:pt x="13459" y="10572"/>
                  <a:pt x="13488" y="10586"/>
                  <a:pt x="13519" y="10592"/>
                </a:cubicBezTo>
                <a:cubicBezTo>
                  <a:pt x="13709" y="10631"/>
                  <a:pt x="13931" y="10580"/>
                  <a:pt x="14114" y="10616"/>
                </a:cubicBezTo>
                <a:cubicBezTo>
                  <a:pt x="14173" y="10628"/>
                  <a:pt x="14232" y="10638"/>
                  <a:pt x="14288" y="10641"/>
                </a:cubicBezTo>
                <a:cubicBezTo>
                  <a:pt x="14351" y="10645"/>
                  <a:pt x="14410" y="10656"/>
                  <a:pt x="14461" y="10666"/>
                </a:cubicBezTo>
                <a:cubicBezTo>
                  <a:pt x="14499" y="10673"/>
                  <a:pt x="14546" y="10666"/>
                  <a:pt x="14585" y="10666"/>
                </a:cubicBezTo>
                <a:cubicBezTo>
                  <a:pt x="14546" y="10692"/>
                  <a:pt x="14504" y="10714"/>
                  <a:pt x="14461" y="10740"/>
                </a:cubicBezTo>
                <a:cubicBezTo>
                  <a:pt x="14400" y="10776"/>
                  <a:pt x="14349" y="10811"/>
                  <a:pt x="14288" y="10840"/>
                </a:cubicBezTo>
                <a:cubicBezTo>
                  <a:pt x="14253" y="10857"/>
                  <a:pt x="14218" y="10874"/>
                  <a:pt x="14188" y="10889"/>
                </a:cubicBezTo>
                <a:cubicBezTo>
                  <a:pt x="14204" y="10873"/>
                  <a:pt x="14234" y="10845"/>
                  <a:pt x="14263" y="10815"/>
                </a:cubicBezTo>
                <a:cubicBezTo>
                  <a:pt x="14316" y="10762"/>
                  <a:pt x="14390" y="10658"/>
                  <a:pt x="14461" y="10641"/>
                </a:cubicBezTo>
                <a:cubicBezTo>
                  <a:pt x="14486" y="10641"/>
                  <a:pt x="14494" y="10641"/>
                  <a:pt x="14511" y="10641"/>
                </a:cubicBezTo>
                <a:cubicBezTo>
                  <a:pt x="14503" y="10584"/>
                  <a:pt x="14492" y="10590"/>
                  <a:pt x="14461" y="10542"/>
                </a:cubicBezTo>
                <a:cubicBezTo>
                  <a:pt x="14433" y="10499"/>
                  <a:pt x="14380" y="10438"/>
                  <a:pt x="14362" y="10393"/>
                </a:cubicBezTo>
                <a:cubicBezTo>
                  <a:pt x="14362" y="10385"/>
                  <a:pt x="14362" y="10376"/>
                  <a:pt x="14362" y="1036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3705120"/>
            <a:ext cx="955800" cy="162000"/>
          </a:xfrm>
          <a:custGeom>
            <a:avLst/>
            <a:gdLst/>
            <a:ahLst/>
            <a:rect l="l" t="t" r="r" b="b"/>
            <a:pathLst>
              <a:path w="2655" h="447">
                <a:moveTo>
                  <a:pt x="15032" y="10542"/>
                </a:moveTo>
                <a:cubicBezTo>
                  <a:pt x="15009" y="10519"/>
                  <a:pt x="15001" y="10515"/>
                  <a:pt x="15007" y="10492"/>
                </a:cubicBezTo>
                <a:cubicBezTo>
                  <a:pt x="15045" y="10505"/>
                  <a:pt x="15032" y="10522"/>
                  <a:pt x="15032" y="10567"/>
                </a:cubicBezTo>
                <a:cubicBezTo>
                  <a:pt x="15032" y="10630"/>
                  <a:pt x="15020" y="10663"/>
                  <a:pt x="15007" y="10716"/>
                </a:cubicBezTo>
                <a:cubicBezTo>
                  <a:pt x="15051" y="10671"/>
                  <a:pt x="15083" y="10626"/>
                  <a:pt x="15106" y="10567"/>
                </a:cubicBezTo>
                <a:cubicBezTo>
                  <a:pt x="15124" y="10522"/>
                  <a:pt x="15174" y="10385"/>
                  <a:pt x="15255" y="10418"/>
                </a:cubicBezTo>
                <a:cubicBezTo>
                  <a:pt x="15310" y="10440"/>
                  <a:pt x="15325" y="10545"/>
                  <a:pt x="15329" y="10592"/>
                </a:cubicBezTo>
                <a:cubicBezTo>
                  <a:pt x="15331" y="10616"/>
                  <a:pt x="15329" y="10642"/>
                  <a:pt x="15329" y="10666"/>
                </a:cubicBezTo>
              </a:path>
              <a:path w="2655" h="447">
                <a:moveTo>
                  <a:pt x="15429" y="10542"/>
                </a:moveTo>
                <a:cubicBezTo>
                  <a:pt x="15404" y="10542"/>
                  <a:pt x="15396" y="10542"/>
                  <a:pt x="15379" y="10542"/>
                </a:cubicBezTo>
                <a:cubicBezTo>
                  <a:pt x="15422" y="10507"/>
                  <a:pt x="15467" y="10474"/>
                  <a:pt x="15528" y="10492"/>
                </a:cubicBezTo>
                <a:cubicBezTo>
                  <a:pt x="15595" y="10512"/>
                  <a:pt x="15627" y="10601"/>
                  <a:pt x="15602" y="10666"/>
                </a:cubicBezTo>
                <a:cubicBezTo>
                  <a:pt x="15580" y="10722"/>
                  <a:pt x="15484" y="10687"/>
                  <a:pt x="15453" y="10666"/>
                </a:cubicBezTo>
                <a:cubicBezTo>
                  <a:pt x="15445" y="10658"/>
                  <a:pt x="15437" y="10649"/>
                  <a:pt x="15429" y="10641"/>
                </a:cubicBezTo>
              </a:path>
              <a:path w="2655" h="447">
                <a:moveTo>
                  <a:pt x="15726" y="10344"/>
                </a:moveTo>
                <a:cubicBezTo>
                  <a:pt x="15746" y="10303"/>
                  <a:pt x="15744" y="10287"/>
                  <a:pt x="15776" y="10294"/>
                </a:cubicBezTo>
                <a:cubicBezTo>
                  <a:pt x="15764" y="10344"/>
                  <a:pt x="15711" y="10387"/>
                  <a:pt x="15701" y="10443"/>
                </a:cubicBezTo>
                <a:cubicBezTo>
                  <a:pt x="15687" y="10522"/>
                  <a:pt x="15701" y="10605"/>
                  <a:pt x="15751" y="10666"/>
                </a:cubicBezTo>
                <a:cubicBezTo>
                  <a:pt x="15779" y="10694"/>
                  <a:pt x="15792" y="10703"/>
                  <a:pt x="15825" y="10691"/>
                </a:cubicBezTo>
              </a:path>
              <a:path w="2655" h="447">
                <a:moveTo>
                  <a:pt x="15949" y="10592"/>
                </a:moveTo>
                <a:cubicBezTo>
                  <a:pt x="15943" y="10532"/>
                  <a:pt x="15951" y="10473"/>
                  <a:pt x="15875" y="10468"/>
                </a:cubicBezTo>
                <a:cubicBezTo>
                  <a:pt x="15834" y="10468"/>
                  <a:pt x="15826" y="10468"/>
                  <a:pt x="15801" y="10468"/>
                </a:cubicBezTo>
              </a:path>
              <a:path w="2655" h="447">
                <a:moveTo>
                  <a:pt x="16272" y="10492"/>
                </a:moveTo>
                <a:cubicBezTo>
                  <a:pt x="16272" y="10415"/>
                  <a:pt x="16270" y="10428"/>
                  <a:pt x="16321" y="10393"/>
                </a:cubicBezTo>
                <a:cubicBezTo>
                  <a:pt x="16352" y="10372"/>
                  <a:pt x="16403" y="10346"/>
                  <a:pt x="16446" y="10368"/>
                </a:cubicBezTo>
                <a:cubicBezTo>
                  <a:pt x="16485" y="10388"/>
                  <a:pt x="16470" y="10457"/>
                  <a:pt x="16470" y="10492"/>
                </a:cubicBezTo>
                <a:cubicBezTo>
                  <a:pt x="16470" y="10550"/>
                  <a:pt x="16434" y="10579"/>
                  <a:pt x="16396" y="10616"/>
                </a:cubicBezTo>
                <a:cubicBezTo>
                  <a:pt x="16388" y="10624"/>
                  <a:pt x="16379" y="10633"/>
                  <a:pt x="16371" y="10641"/>
                </a:cubicBezTo>
                <a:cubicBezTo>
                  <a:pt x="16424" y="10641"/>
                  <a:pt x="16441" y="10621"/>
                  <a:pt x="16495" y="10616"/>
                </a:cubicBezTo>
                <a:cubicBezTo>
                  <a:pt x="16520" y="10616"/>
                  <a:pt x="16528" y="10616"/>
                  <a:pt x="16545" y="10616"/>
                </a:cubicBezTo>
              </a:path>
              <a:path w="2655" h="447">
                <a:moveTo>
                  <a:pt x="16570" y="10592"/>
                </a:moveTo>
                <a:cubicBezTo>
                  <a:pt x="16630" y="10592"/>
                  <a:pt x="16621" y="10564"/>
                  <a:pt x="16669" y="10542"/>
                </a:cubicBezTo>
                <a:cubicBezTo>
                  <a:pt x="16715" y="10521"/>
                  <a:pt x="16718" y="10496"/>
                  <a:pt x="16718" y="10443"/>
                </a:cubicBezTo>
                <a:cubicBezTo>
                  <a:pt x="16679" y="10443"/>
                  <a:pt x="16645" y="10432"/>
                  <a:pt x="16619" y="10468"/>
                </a:cubicBezTo>
                <a:cubicBezTo>
                  <a:pt x="16579" y="10526"/>
                  <a:pt x="16583" y="10608"/>
                  <a:pt x="16619" y="10666"/>
                </a:cubicBezTo>
                <a:cubicBezTo>
                  <a:pt x="16637" y="10696"/>
                  <a:pt x="16712" y="10704"/>
                  <a:pt x="16743" y="10691"/>
                </a:cubicBezTo>
                <a:cubicBezTo>
                  <a:pt x="16782" y="10674"/>
                  <a:pt x="16771" y="10666"/>
                  <a:pt x="16818" y="10666"/>
                </a:cubicBezTo>
              </a:path>
              <a:path w="2655" h="447">
                <a:moveTo>
                  <a:pt x="16842" y="10666"/>
                </a:moveTo>
                <a:cubicBezTo>
                  <a:pt x="16867" y="10666"/>
                  <a:pt x="16875" y="10666"/>
                  <a:pt x="16892" y="10666"/>
                </a:cubicBezTo>
                <a:cubicBezTo>
                  <a:pt x="16892" y="10612"/>
                  <a:pt x="16893" y="10593"/>
                  <a:pt x="16917" y="10542"/>
                </a:cubicBezTo>
                <a:cubicBezTo>
                  <a:pt x="16934" y="10506"/>
                  <a:pt x="16975" y="10436"/>
                  <a:pt x="17016" y="10418"/>
                </a:cubicBezTo>
                <a:cubicBezTo>
                  <a:pt x="17041" y="10418"/>
                  <a:pt x="17049" y="10418"/>
                  <a:pt x="17066" y="10418"/>
                </a:cubicBezTo>
              </a:path>
              <a:path w="2655" h="447">
                <a:moveTo>
                  <a:pt x="17115" y="10567"/>
                </a:moveTo>
                <a:cubicBezTo>
                  <a:pt x="17115" y="10494"/>
                  <a:pt x="17137" y="10547"/>
                  <a:pt x="17165" y="10492"/>
                </a:cubicBezTo>
                <a:cubicBezTo>
                  <a:pt x="17176" y="10471"/>
                  <a:pt x="17214" y="10442"/>
                  <a:pt x="17239" y="10492"/>
                </a:cubicBezTo>
                <a:cubicBezTo>
                  <a:pt x="17255" y="10523"/>
                  <a:pt x="17241" y="10618"/>
                  <a:pt x="17214" y="10641"/>
                </a:cubicBezTo>
                <a:cubicBezTo>
                  <a:pt x="17202" y="10651"/>
                  <a:pt x="17132" y="10641"/>
                  <a:pt x="17115" y="10641"/>
                </a:cubicBezTo>
              </a:path>
              <a:path w="2655" h="447">
                <a:moveTo>
                  <a:pt x="17661" y="10592"/>
                </a:moveTo>
                <a:cubicBezTo>
                  <a:pt x="17661" y="10584"/>
                  <a:pt x="17661" y="10575"/>
                  <a:pt x="17661" y="10567"/>
                </a:cubicBezTo>
                <a:cubicBezTo>
                  <a:pt x="17610" y="10608"/>
                  <a:pt x="17552" y="10635"/>
                  <a:pt x="17512" y="10691"/>
                </a:cubicBezTo>
                <a:cubicBezTo>
                  <a:pt x="17504" y="10707"/>
                  <a:pt x="17495" y="10724"/>
                  <a:pt x="17487" y="1074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35800" y="363384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8157" y="10368"/>
                </a:moveTo>
                <a:cubicBezTo>
                  <a:pt x="18165" y="10368"/>
                  <a:pt x="18174" y="10368"/>
                  <a:pt x="18182" y="10368"/>
                </a:cubicBezTo>
                <a:cubicBezTo>
                  <a:pt x="18182" y="10418"/>
                  <a:pt x="18182" y="10467"/>
                  <a:pt x="18182" y="10517"/>
                </a:cubicBezTo>
              </a:path>
              <a:path w="373" h="497">
                <a:moveTo>
                  <a:pt x="18182" y="10170"/>
                </a:moveTo>
                <a:cubicBezTo>
                  <a:pt x="18163" y="10113"/>
                  <a:pt x="18137" y="10088"/>
                  <a:pt x="18182" y="10096"/>
                </a:cubicBezTo>
              </a:path>
              <a:path w="373" h="497">
                <a:moveTo>
                  <a:pt x="18455" y="10269"/>
                </a:moveTo>
                <a:cubicBezTo>
                  <a:pt x="18443" y="10317"/>
                  <a:pt x="18399" y="10325"/>
                  <a:pt x="18380" y="10368"/>
                </a:cubicBezTo>
                <a:cubicBezTo>
                  <a:pt x="18365" y="10401"/>
                  <a:pt x="18435" y="10448"/>
                  <a:pt x="18455" y="10468"/>
                </a:cubicBezTo>
                <a:cubicBezTo>
                  <a:pt x="18484" y="10497"/>
                  <a:pt x="18493" y="10508"/>
                  <a:pt x="18529" y="10517"/>
                </a:cubicBezTo>
                <a:cubicBezTo>
                  <a:pt x="18518" y="10562"/>
                  <a:pt x="18500" y="10580"/>
                  <a:pt x="18455" y="1059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48640" y="3732120"/>
            <a:ext cx="215640" cy="63720"/>
          </a:xfrm>
          <a:custGeom>
            <a:avLst/>
            <a:gdLst/>
            <a:ahLst/>
            <a:rect l="l" t="t" r="r" b="b"/>
            <a:pathLst>
              <a:path w="597" h="175">
                <a:moveTo>
                  <a:pt x="19124" y="10418"/>
                </a:moveTo>
                <a:cubicBezTo>
                  <a:pt x="19132" y="10418"/>
                  <a:pt x="19141" y="10418"/>
                  <a:pt x="19149" y="10418"/>
                </a:cubicBezTo>
                <a:cubicBezTo>
                  <a:pt x="19136" y="10365"/>
                  <a:pt x="19119" y="10354"/>
                  <a:pt x="19075" y="10393"/>
                </a:cubicBezTo>
                <a:cubicBezTo>
                  <a:pt x="19044" y="10421"/>
                  <a:pt x="18991" y="10488"/>
                  <a:pt x="19050" y="10517"/>
                </a:cubicBezTo>
                <a:cubicBezTo>
                  <a:pt x="19095" y="10539"/>
                  <a:pt x="19116" y="10437"/>
                  <a:pt x="19174" y="10468"/>
                </a:cubicBezTo>
                <a:cubicBezTo>
                  <a:pt x="19201" y="10482"/>
                  <a:pt x="19227" y="10521"/>
                  <a:pt x="19248" y="10542"/>
                </a:cubicBezTo>
              </a:path>
              <a:path w="597" h="175">
                <a:moveTo>
                  <a:pt x="19323" y="10443"/>
                </a:moveTo>
                <a:cubicBezTo>
                  <a:pt x="19331" y="10435"/>
                  <a:pt x="19340" y="10426"/>
                  <a:pt x="19348" y="10418"/>
                </a:cubicBezTo>
                <a:cubicBezTo>
                  <a:pt x="19355" y="10466"/>
                  <a:pt x="19362" y="10475"/>
                  <a:pt x="19372" y="10517"/>
                </a:cubicBezTo>
                <a:cubicBezTo>
                  <a:pt x="19418" y="10494"/>
                  <a:pt x="19433" y="10439"/>
                  <a:pt x="19496" y="10418"/>
                </a:cubicBezTo>
                <a:cubicBezTo>
                  <a:pt x="19527" y="10407"/>
                  <a:pt x="19591" y="10474"/>
                  <a:pt x="19621" y="1049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277040" y="3589200"/>
            <a:ext cx="689040" cy="223920"/>
          </a:xfrm>
          <a:custGeom>
            <a:avLst/>
            <a:gdLst/>
            <a:ahLst/>
            <a:rect l="l" t="t" r="r" b="b"/>
            <a:pathLst>
              <a:path w="1911" h="622">
                <a:moveTo>
                  <a:pt x="20241" y="10294"/>
                </a:moveTo>
                <a:cubicBezTo>
                  <a:pt x="20241" y="10286"/>
                  <a:pt x="20241" y="10277"/>
                  <a:pt x="20241" y="10269"/>
                </a:cubicBezTo>
                <a:cubicBezTo>
                  <a:pt x="20241" y="10327"/>
                  <a:pt x="20225" y="10372"/>
                  <a:pt x="20216" y="10418"/>
                </a:cubicBezTo>
                <a:cubicBezTo>
                  <a:pt x="20216" y="10435"/>
                  <a:pt x="20216" y="10451"/>
                  <a:pt x="20216" y="10468"/>
                </a:cubicBezTo>
              </a:path>
              <a:path w="1911" h="622">
                <a:moveTo>
                  <a:pt x="20265" y="10046"/>
                </a:moveTo>
                <a:cubicBezTo>
                  <a:pt x="20265" y="10021"/>
                  <a:pt x="20265" y="9996"/>
                  <a:pt x="20265" y="9971"/>
                </a:cubicBezTo>
              </a:path>
              <a:path w="1911" h="622">
                <a:moveTo>
                  <a:pt x="20365" y="10269"/>
                </a:moveTo>
                <a:cubicBezTo>
                  <a:pt x="20365" y="10319"/>
                  <a:pt x="20365" y="10368"/>
                  <a:pt x="20365" y="10418"/>
                </a:cubicBezTo>
                <a:cubicBezTo>
                  <a:pt x="20404" y="10408"/>
                  <a:pt x="20453" y="10361"/>
                  <a:pt x="20464" y="10319"/>
                </a:cubicBezTo>
                <a:cubicBezTo>
                  <a:pt x="20464" y="10274"/>
                  <a:pt x="20461" y="10261"/>
                  <a:pt x="20489" y="10244"/>
                </a:cubicBezTo>
                <a:cubicBezTo>
                  <a:pt x="20528" y="10254"/>
                  <a:pt x="20577" y="10302"/>
                  <a:pt x="20588" y="10344"/>
                </a:cubicBezTo>
                <a:cubicBezTo>
                  <a:pt x="20601" y="10390"/>
                  <a:pt x="20613" y="10442"/>
                  <a:pt x="20613" y="10492"/>
                </a:cubicBezTo>
              </a:path>
              <a:path w="1911" h="622">
                <a:moveTo>
                  <a:pt x="20662" y="10319"/>
                </a:moveTo>
                <a:cubicBezTo>
                  <a:pt x="20717" y="10333"/>
                  <a:pt x="20724" y="10375"/>
                  <a:pt x="20762" y="10418"/>
                </a:cubicBezTo>
                <a:cubicBezTo>
                  <a:pt x="20784" y="10441"/>
                  <a:pt x="20792" y="10446"/>
                  <a:pt x="20786" y="10468"/>
                </a:cubicBezTo>
                <a:cubicBezTo>
                  <a:pt x="20846" y="10453"/>
                  <a:pt x="20836" y="10428"/>
                  <a:pt x="20836" y="10368"/>
                </a:cubicBezTo>
              </a:path>
              <a:path w="1911" h="622">
                <a:moveTo>
                  <a:pt x="20910" y="10269"/>
                </a:moveTo>
                <a:cubicBezTo>
                  <a:pt x="20936" y="10315"/>
                  <a:pt x="20954" y="10362"/>
                  <a:pt x="21010" y="10368"/>
                </a:cubicBezTo>
                <a:cubicBezTo>
                  <a:pt x="21063" y="10374"/>
                  <a:pt x="21059" y="10332"/>
                  <a:pt x="21059" y="10294"/>
                </a:cubicBezTo>
                <a:cubicBezTo>
                  <a:pt x="21059" y="10286"/>
                  <a:pt x="21059" y="10277"/>
                  <a:pt x="21059" y="10269"/>
                </a:cubicBezTo>
                <a:cubicBezTo>
                  <a:pt x="21002" y="10283"/>
                  <a:pt x="20989" y="10308"/>
                  <a:pt x="20985" y="10368"/>
                </a:cubicBezTo>
                <a:cubicBezTo>
                  <a:pt x="20981" y="10441"/>
                  <a:pt x="21013" y="10494"/>
                  <a:pt x="21084" y="10517"/>
                </a:cubicBezTo>
                <a:cubicBezTo>
                  <a:pt x="21119" y="10517"/>
                  <a:pt x="21136" y="10512"/>
                  <a:pt x="21158" y="10492"/>
                </a:cubicBezTo>
              </a:path>
              <a:path w="1911" h="622">
                <a:moveTo>
                  <a:pt x="21282" y="10468"/>
                </a:moveTo>
                <a:cubicBezTo>
                  <a:pt x="21282" y="10399"/>
                  <a:pt x="21291" y="10383"/>
                  <a:pt x="21307" y="10319"/>
                </a:cubicBezTo>
                <a:cubicBezTo>
                  <a:pt x="21320" y="10266"/>
                  <a:pt x="21344" y="10269"/>
                  <a:pt x="21382" y="10244"/>
                </a:cubicBezTo>
                <a:cubicBezTo>
                  <a:pt x="21404" y="10222"/>
                  <a:pt x="21409" y="10214"/>
                  <a:pt x="21431" y="10220"/>
                </a:cubicBezTo>
              </a:path>
              <a:path w="1911" h="622">
                <a:moveTo>
                  <a:pt x="21679" y="10244"/>
                </a:moveTo>
                <a:cubicBezTo>
                  <a:pt x="21679" y="10220"/>
                  <a:pt x="21679" y="10211"/>
                  <a:pt x="21679" y="10195"/>
                </a:cubicBezTo>
                <a:cubicBezTo>
                  <a:pt x="21625" y="10209"/>
                  <a:pt x="21581" y="10212"/>
                  <a:pt x="21555" y="10269"/>
                </a:cubicBezTo>
                <a:cubicBezTo>
                  <a:pt x="21539" y="10303"/>
                  <a:pt x="21552" y="10372"/>
                  <a:pt x="21580" y="10393"/>
                </a:cubicBezTo>
                <a:cubicBezTo>
                  <a:pt x="21615" y="10420"/>
                  <a:pt x="21683" y="10446"/>
                  <a:pt x="21704" y="10492"/>
                </a:cubicBezTo>
                <a:cubicBezTo>
                  <a:pt x="21704" y="10500"/>
                  <a:pt x="21704" y="10509"/>
                  <a:pt x="21704" y="10517"/>
                </a:cubicBezTo>
                <a:cubicBezTo>
                  <a:pt x="21651" y="10517"/>
                  <a:pt x="21624" y="10518"/>
                  <a:pt x="21580" y="10492"/>
                </a:cubicBezTo>
              </a:path>
              <a:path w="1911" h="622">
                <a:moveTo>
                  <a:pt x="21555" y="10468"/>
                </a:moveTo>
                <a:cubicBezTo>
                  <a:pt x="21650" y="10461"/>
                  <a:pt x="21737" y="10453"/>
                  <a:pt x="21828" y="10418"/>
                </a:cubicBezTo>
                <a:cubicBezTo>
                  <a:pt x="21906" y="10388"/>
                  <a:pt x="21903" y="10342"/>
                  <a:pt x="21903" y="10269"/>
                </a:cubicBezTo>
                <a:cubicBezTo>
                  <a:pt x="21811" y="10269"/>
                  <a:pt x="21778" y="10293"/>
                  <a:pt x="21754" y="10393"/>
                </a:cubicBezTo>
                <a:cubicBezTo>
                  <a:pt x="21728" y="10501"/>
                  <a:pt x="21770" y="10540"/>
                  <a:pt x="21853" y="10592"/>
                </a:cubicBezTo>
              </a:path>
              <a:path w="1911" h="622">
                <a:moveTo>
                  <a:pt x="22126" y="10542"/>
                </a:moveTo>
                <a:lnTo>
                  <a:pt x="22126" y="10542"/>
                </a:lnTo>
                <a:lnTo>
                  <a:pt x="22126" y="10542"/>
                </a:lnTo>
                <a:lnTo>
                  <a:pt x="22126" y="10542"/>
                </a:ln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33640" y="4143240"/>
            <a:ext cx="1312560" cy="571680"/>
          </a:xfrm>
          <a:custGeom>
            <a:avLst/>
            <a:gdLst/>
            <a:ahLst/>
            <a:rect l="l" t="t" r="r" b="b"/>
            <a:pathLst>
              <a:path w="3647" h="1589">
                <a:moveTo>
                  <a:pt x="3671" y="11956"/>
                </a:moveTo>
                <a:cubicBezTo>
                  <a:pt x="3691" y="11929"/>
                  <a:pt x="3696" y="11861"/>
                  <a:pt x="3696" y="11906"/>
                </a:cubicBezTo>
                <a:cubicBezTo>
                  <a:pt x="3696" y="11984"/>
                  <a:pt x="3675" y="12051"/>
                  <a:pt x="3671" y="12129"/>
                </a:cubicBezTo>
                <a:cubicBezTo>
                  <a:pt x="3671" y="12179"/>
                  <a:pt x="3671" y="12196"/>
                  <a:pt x="3671" y="12229"/>
                </a:cubicBezTo>
              </a:path>
              <a:path w="3647" h="1589">
                <a:moveTo>
                  <a:pt x="4068" y="12427"/>
                </a:moveTo>
                <a:cubicBezTo>
                  <a:pt x="4085" y="12427"/>
                  <a:pt x="4101" y="12427"/>
                  <a:pt x="4118" y="12427"/>
                </a:cubicBezTo>
                <a:cubicBezTo>
                  <a:pt x="4047" y="12427"/>
                  <a:pt x="3987" y="12444"/>
                  <a:pt x="3919" y="12452"/>
                </a:cubicBezTo>
                <a:cubicBezTo>
                  <a:pt x="3784" y="12467"/>
                  <a:pt x="3659" y="12498"/>
                  <a:pt x="3522" y="12502"/>
                </a:cubicBezTo>
                <a:cubicBezTo>
                  <a:pt x="3433" y="12504"/>
                  <a:pt x="3286" y="12499"/>
                  <a:pt x="3200" y="12526"/>
                </a:cubicBezTo>
                <a:cubicBezTo>
                  <a:pt x="3177" y="12549"/>
                  <a:pt x="3173" y="12557"/>
                  <a:pt x="3150" y="12551"/>
                </a:cubicBezTo>
              </a:path>
              <a:path w="3647" h="1589">
                <a:moveTo>
                  <a:pt x="3249" y="12948"/>
                </a:moveTo>
                <a:cubicBezTo>
                  <a:pt x="3249" y="12956"/>
                  <a:pt x="3249" y="12965"/>
                  <a:pt x="3249" y="12973"/>
                </a:cubicBezTo>
                <a:cubicBezTo>
                  <a:pt x="3299" y="12960"/>
                  <a:pt x="3313" y="12948"/>
                  <a:pt x="3373" y="12948"/>
                </a:cubicBezTo>
                <a:cubicBezTo>
                  <a:pt x="3427" y="12948"/>
                  <a:pt x="3478" y="12907"/>
                  <a:pt x="3522" y="12898"/>
                </a:cubicBezTo>
                <a:cubicBezTo>
                  <a:pt x="3539" y="12898"/>
                  <a:pt x="3555" y="12898"/>
                  <a:pt x="3572" y="12898"/>
                </a:cubicBezTo>
              </a:path>
              <a:path w="3647" h="1589">
                <a:moveTo>
                  <a:pt x="3770" y="12750"/>
                </a:moveTo>
                <a:cubicBezTo>
                  <a:pt x="3770" y="12708"/>
                  <a:pt x="3762" y="12692"/>
                  <a:pt x="3795" y="12700"/>
                </a:cubicBezTo>
                <a:cubicBezTo>
                  <a:pt x="3795" y="12781"/>
                  <a:pt x="3809" y="12845"/>
                  <a:pt x="3820" y="12923"/>
                </a:cubicBezTo>
                <a:cubicBezTo>
                  <a:pt x="3820" y="12940"/>
                  <a:pt x="3820" y="12956"/>
                  <a:pt x="3820" y="12973"/>
                </a:cubicBezTo>
              </a:path>
              <a:path w="3647" h="1589">
                <a:moveTo>
                  <a:pt x="4762" y="11584"/>
                </a:moveTo>
                <a:cubicBezTo>
                  <a:pt x="4787" y="11584"/>
                  <a:pt x="4795" y="11584"/>
                  <a:pt x="4812" y="11584"/>
                </a:cubicBezTo>
                <a:cubicBezTo>
                  <a:pt x="4760" y="11636"/>
                  <a:pt x="4778" y="11606"/>
                  <a:pt x="4738" y="11683"/>
                </a:cubicBezTo>
                <a:cubicBezTo>
                  <a:pt x="4700" y="11755"/>
                  <a:pt x="4644" y="11803"/>
                  <a:pt x="4614" y="11881"/>
                </a:cubicBezTo>
                <a:cubicBezTo>
                  <a:pt x="4577" y="11976"/>
                  <a:pt x="4560" y="12058"/>
                  <a:pt x="4539" y="12154"/>
                </a:cubicBezTo>
                <a:cubicBezTo>
                  <a:pt x="4518" y="12248"/>
                  <a:pt x="4496" y="12354"/>
                  <a:pt x="4514" y="12452"/>
                </a:cubicBezTo>
                <a:cubicBezTo>
                  <a:pt x="4533" y="12554"/>
                  <a:pt x="4555" y="12650"/>
                  <a:pt x="4589" y="12750"/>
                </a:cubicBezTo>
                <a:cubicBezTo>
                  <a:pt x="4618" y="12835"/>
                  <a:pt x="4652" y="12931"/>
                  <a:pt x="4713" y="12998"/>
                </a:cubicBezTo>
                <a:cubicBezTo>
                  <a:pt x="4721" y="13006"/>
                  <a:pt x="4730" y="13014"/>
                  <a:pt x="4738" y="13022"/>
                </a:cubicBezTo>
              </a:path>
              <a:path w="3647" h="1589">
                <a:moveTo>
                  <a:pt x="6524" y="11509"/>
                </a:moveTo>
                <a:cubicBezTo>
                  <a:pt x="6499" y="11509"/>
                  <a:pt x="6491" y="11509"/>
                  <a:pt x="6499" y="11534"/>
                </a:cubicBezTo>
                <a:cubicBezTo>
                  <a:pt x="6559" y="11543"/>
                  <a:pt x="6539" y="11559"/>
                  <a:pt x="6573" y="11584"/>
                </a:cubicBezTo>
                <a:cubicBezTo>
                  <a:pt x="6610" y="11611"/>
                  <a:pt x="6625" y="11614"/>
                  <a:pt x="6648" y="11658"/>
                </a:cubicBezTo>
                <a:cubicBezTo>
                  <a:pt x="6675" y="11711"/>
                  <a:pt x="6689" y="11766"/>
                  <a:pt x="6722" y="11807"/>
                </a:cubicBezTo>
                <a:cubicBezTo>
                  <a:pt x="6757" y="11851"/>
                  <a:pt x="6769" y="11922"/>
                  <a:pt x="6772" y="11981"/>
                </a:cubicBezTo>
                <a:cubicBezTo>
                  <a:pt x="6776" y="12053"/>
                  <a:pt x="6816" y="12131"/>
                  <a:pt x="6796" y="12204"/>
                </a:cubicBezTo>
                <a:cubicBezTo>
                  <a:pt x="6774" y="12285"/>
                  <a:pt x="6738" y="12368"/>
                  <a:pt x="6722" y="12452"/>
                </a:cubicBezTo>
                <a:cubicBezTo>
                  <a:pt x="6707" y="12531"/>
                  <a:pt x="6677" y="12598"/>
                  <a:pt x="6648" y="12675"/>
                </a:cubicBezTo>
                <a:cubicBezTo>
                  <a:pt x="6616" y="12761"/>
                  <a:pt x="6588" y="12841"/>
                  <a:pt x="6548" y="12923"/>
                </a:cubicBezTo>
                <a:cubicBezTo>
                  <a:pt x="6524" y="12971"/>
                  <a:pt x="6490" y="13027"/>
                  <a:pt x="6474" y="13072"/>
                </a:cubicBezTo>
                <a:cubicBezTo>
                  <a:pt x="6474" y="13080"/>
                  <a:pt x="6474" y="13089"/>
                  <a:pt x="6474" y="13097"/>
                </a:cubicBezTo>
              </a:path>
              <a:path w="3647" h="1589">
                <a:moveTo>
                  <a:pt x="5159" y="11906"/>
                </a:moveTo>
                <a:cubicBezTo>
                  <a:pt x="5075" y="11906"/>
                  <a:pt x="5007" y="11905"/>
                  <a:pt x="4936" y="11881"/>
                </a:cubicBezTo>
                <a:cubicBezTo>
                  <a:pt x="4917" y="11875"/>
                  <a:pt x="4882" y="11881"/>
                  <a:pt x="4862" y="11881"/>
                </a:cubicBezTo>
              </a:path>
              <a:path w="3647" h="1589">
                <a:moveTo>
                  <a:pt x="5432" y="11708"/>
                </a:moveTo>
                <a:cubicBezTo>
                  <a:pt x="5457" y="11708"/>
                  <a:pt x="5465" y="11708"/>
                  <a:pt x="5457" y="11683"/>
                </a:cubicBezTo>
                <a:cubicBezTo>
                  <a:pt x="5451" y="11707"/>
                  <a:pt x="5444" y="11761"/>
                  <a:pt x="5432" y="11782"/>
                </a:cubicBezTo>
                <a:cubicBezTo>
                  <a:pt x="5409" y="11805"/>
                  <a:pt x="5401" y="11809"/>
                  <a:pt x="5407" y="11832"/>
                </a:cubicBezTo>
                <a:cubicBezTo>
                  <a:pt x="5472" y="11832"/>
                  <a:pt x="5557" y="11815"/>
                  <a:pt x="5606" y="11857"/>
                </a:cubicBezTo>
                <a:cubicBezTo>
                  <a:pt x="5627" y="11875"/>
                  <a:pt x="5648" y="11926"/>
                  <a:pt x="5631" y="11956"/>
                </a:cubicBezTo>
                <a:cubicBezTo>
                  <a:pt x="5605" y="12002"/>
                  <a:pt x="5547" y="11985"/>
                  <a:pt x="5531" y="12005"/>
                </a:cubicBezTo>
                <a:cubicBezTo>
                  <a:pt x="5509" y="12032"/>
                  <a:pt x="5533" y="12030"/>
                  <a:pt x="5482" y="12030"/>
                </a:cubicBezTo>
              </a:path>
              <a:path w="3647" h="1589">
                <a:moveTo>
                  <a:pt x="5631" y="11683"/>
                </a:moveTo>
                <a:cubicBezTo>
                  <a:pt x="5671" y="11673"/>
                  <a:pt x="5670" y="11673"/>
                  <a:pt x="5680" y="11633"/>
                </a:cubicBezTo>
                <a:cubicBezTo>
                  <a:pt x="5620" y="11642"/>
                  <a:pt x="5607" y="11666"/>
                  <a:pt x="5556" y="11683"/>
                </a:cubicBezTo>
                <a:cubicBezTo>
                  <a:pt x="5548" y="11683"/>
                  <a:pt x="5539" y="11683"/>
                  <a:pt x="5531" y="11683"/>
                </a:cubicBezTo>
              </a:path>
              <a:path w="3647" h="1589">
                <a:moveTo>
                  <a:pt x="6003" y="12750"/>
                </a:moveTo>
                <a:cubicBezTo>
                  <a:pt x="5995" y="12750"/>
                  <a:pt x="5986" y="12750"/>
                  <a:pt x="5978" y="12750"/>
                </a:cubicBezTo>
                <a:cubicBezTo>
                  <a:pt x="5986" y="12719"/>
                  <a:pt x="6016" y="12666"/>
                  <a:pt x="6052" y="12650"/>
                </a:cubicBezTo>
                <a:cubicBezTo>
                  <a:pt x="6082" y="12637"/>
                  <a:pt x="6184" y="12640"/>
                  <a:pt x="6201" y="12675"/>
                </a:cubicBezTo>
                <a:cubicBezTo>
                  <a:pt x="6218" y="12709"/>
                  <a:pt x="6195" y="12752"/>
                  <a:pt x="6176" y="12774"/>
                </a:cubicBezTo>
                <a:cubicBezTo>
                  <a:pt x="6156" y="12797"/>
                  <a:pt x="6085" y="12837"/>
                  <a:pt x="6077" y="12849"/>
                </a:cubicBezTo>
                <a:cubicBezTo>
                  <a:pt x="6056" y="12881"/>
                  <a:pt x="6101" y="12936"/>
                  <a:pt x="6127" y="12948"/>
                </a:cubicBezTo>
                <a:cubicBezTo>
                  <a:pt x="6163" y="12964"/>
                  <a:pt x="6152" y="12975"/>
                  <a:pt x="6152" y="13022"/>
                </a:cubicBezTo>
                <a:cubicBezTo>
                  <a:pt x="6152" y="13060"/>
                  <a:pt x="6109" y="13086"/>
                  <a:pt x="6077" y="13097"/>
                </a:cubicBezTo>
                <a:cubicBezTo>
                  <a:pt x="6052" y="13097"/>
                  <a:pt x="6044" y="13097"/>
                  <a:pt x="6028" y="13097"/>
                </a:cubicBezTo>
              </a:path>
              <a:path w="3647" h="1589">
                <a:moveTo>
                  <a:pt x="6176" y="11906"/>
                </a:moveTo>
                <a:cubicBezTo>
                  <a:pt x="6176" y="11898"/>
                  <a:pt x="6176" y="11889"/>
                  <a:pt x="6176" y="11881"/>
                </a:cubicBezTo>
                <a:cubicBezTo>
                  <a:pt x="6118" y="11881"/>
                  <a:pt x="6061" y="11881"/>
                  <a:pt x="6003" y="11881"/>
                </a:cubicBezTo>
              </a:path>
              <a:path w="3647" h="1589">
                <a:moveTo>
                  <a:pt x="6276" y="11633"/>
                </a:moveTo>
                <a:cubicBezTo>
                  <a:pt x="6290" y="11661"/>
                  <a:pt x="6298" y="11633"/>
                  <a:pt x="6350" y="11633"/>
                </a:cubicBezTo>
                <a:cubicBezTo>
                  <a:pt x="6394" y="11633"/>
                  <a:pt x="6501" y="11612"/>
                  <a:pt x="6524" y="11658"/>
                </a:cubicBezTo>
                <a:cubicBezTo>
                  <a:pt x="6529" y="11668"/>
                  <a:pt x="6480" y="11790"/>
                  <a:pt x="6474" y="11807"/>
                </a:cubicBezTo>
                <a:cubicBezTo>
                  <a:pt x="6455" y="11863"/>
                  <a:pt x="6415" y="11904"/>
                  <a:pt x="6400" y="11956"/>
                </a:cubicBezTo>
                <a:cubicBezTo>
                  <a:pt x="6400" y="11964"/>
                  <a:pt x="6400" y="11973"/>
                  <a:pt x="6400" y="11981"/>
                </a:cubicBezTo>
              </a:path>
              <a:path w="3647" h="1589">
                <a:moveTo>
                  <a:pt x="5085" y="12774"/>
                </a:moveTo>
                <a:cubicBezTo>
                  <a:pt x="5085" y="12740"/>
                  <a:pt x="5072" y="12694"/>
                  <a:pt x="5110" y="12675"/>
                </a:cubicBezTo>
                <a:cubicBezTo>
                  <a:pt x="5142" y="12659"/>
                  <a:pt x="5169" y="12650"/>
                  <a:pt x="5209" y="12650"/>
                </a:cubicBezTo>
                <a:cubicBezTo>
                  <a:pt x="5255" y="12650"/>
                  <a:pt x="5277" y="12648"/>
                  <a:pt x="5283" y="12700"/>
                </a:cubicBezTo>
                <a:cubicBezTo>
                  <a:pt x="5288" y="12750"/>
                  <a:pt x="5266" y="12786"/>
                  <a:pt x="5259" y="12824"/>
                </a:cubicBezTo>
                <a:cubicBezTo>
                  <a:pt x="5245" y="12895"/>
                  <a:pt x="5236" y="12921"/>
                  <a:pt x="5184" y="12973"/>
                </a:cubicBezTo>
                <a:cubicBezTo>
                  <a:pt x="5146" y="13011"/>
                  <a:pt x="5135" y="13019"/>
                  <a:pt x="5135" y="13072"/>
                </a:cubicBezTo>
                <a:cubicBezTo>
                  <a:pt x="5165" y="13061"/>
                  <a:pt x="5190" y="13065"/>
                  <a:pt x="5234" y="13047"/>
                </a:cubicBezTo>
                <a:cubicBezTo>
                  <a:pt x="5276" y="13030"/>
                  <a:pt x="5305" y="13001"/>
                  <a:pt x="5358" y="12998"/>
                </a:cubicBezTo>
                <a:cubicBezTo>
                  <a:pt x="5374" y="12998"/>
                  <a:pt x="5391" y="12998"/>
                  <a:pt x="5407" y="1299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1200" y="528624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4118" y="14734"/>
                </a:moveTo>
                <a:cubicBezTo>
                  <a:pt x="4140" y="14711"/>
                  <a:pt x="4145" y="14703"/>
                  <a:pt x="4167" y="14709"/>
                </a:cubicBezTo>
                <a:cubicBezTo>
                  <a:pt x="4128" y="14699"/>
                  <a:pt x="4113" y="14684"/>
                  <a:pt x="4068" y="14684"/>
                </a:cubicBezTo>
                <a:cubicBezTo>
                  <a:pt x="4021" y="14684"/>
                  <a:pt x="4015" y="14729"/>
                  <a:pt x="3969" y="14734"/>
                </a:cubicBezTo>
                <a:cubicBezTo>
                  <a:pt x="3944" y="14734"/>
                  <a:pt x="3936" y="14734"/>
                  <a:pt x="3919" y="14734"/>
                </a:cubicBezTo>
              </a:path>
              <a:path w="299" h="249">
                <a:moveTo>
                  <a:pt x="4192" y="14883"/>
                </a:moveTo>
                <a:cubicBezTo>
                  <a:pt x="4200" y="14883"/>
                  <a:pt x="4209" y="14883"/>
                  <a:pt x="4217" y="14883"/>
                </a:cubicBezTo>
                <a:cubicBezTo>
                  <a:pt x="4165" y="14883"/>
                  <a:pt x="4135" y="14895"/>
                  <a:pt x="4093" y="14908"/>
                </a:cubicBezTo>
                <a:cubicBezTo>
                  <a:pt x="4045" y="14922"/>
                  <a:pt x="4015" y="14905"/>
                  <a:pt x="3969" y="1493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87680" y="4991040"/>
            <a:ext cx="376200" cy="590760"/>
          </a:xfrm>
          <a:custGeom>
            <a:avLst/>
            <a:gdLst/>
            <a:ahLst/>
            <a:rect l="l" t="t" r="r" b="b"/>
            <a:pathLst>
              <a:path w="1043" h="1638">
                <a:moveTo>
                  <a:pt x="5234" y="14089"/>
                </a:moveTo>
                <a:cubicBezTo>
                  <a:pt x="5254" y="14042"/>
                  <a:pt x="5285" y="13991"/>
                  <a:pt x="5259" y="14064"/>
                </a:cubicBezTo>
                <a:cubicBezTo>
                  <a:pt x="5241" y="14114"/>
                  <a:pt x="5206" y="14190"/>
                  <a:pt x="5259" y="14238"/>
                </a:cubicBezTo>
                <a:cubicBezTo>
                  <a:pt x="5318" y="14291"/>
                  <a:pt x="5483" y="14205"/>
                  <a:pt x="5556" y="14263"/>
                </a:cubicBezTo>
                <a:cubicBezTo>
                  <a:pt x="5583" y="14284"/>
                  <a:pt x="5604" y="14406"/>
                  <a:pt x="5581" y="14436"/>
                </a:cubicBezTo>
                <a:cubicBezTo>
                  <a:pt x="5540" y="14488"/>
                  <a:pt x="5443" y="14508"/>
                  <a:pt x="5383" y="14511"/>
                </a:cubicBezTo>
                <a:cubicBezTo>
                  <a:pt x="5366" y="14511"/>
                  <a:pt x="5350" y="14511"/>
                  <a:pt x="5333" y="14511"/>
                </a:cubicBezTo>
              </a:path>
              <a:path w="1043" h="1638">
                <a:moveTo>
                  <a:pt x="5556" y="14039"/>
                </a:moveTo>
                <a:cubicBezTo>
                  <a:pt x="5597" y="14019"/>
                  <a:pt x="5614" y="14022"/>
                  <a:pt x="5606" y="13990"/>
                </a:cubicBezTo>
                <a:cubicBezTo>
                  <a:pt x="5537" y="14000"/>
                  <a:pt x="5481" y="14019"/>
                  <a:pt x="5407" y="14039"/>
                </a:cubicBezTo>
              </a:path>
              <a:path w="1043" h="1638">
                <a:moveTo>
                  <a:pt x="5184" y="15255"/>
                </a:moveTo>
                <a:cubicBezTo>
                  <a:pt x="5111" y="15255"/>
                  <a:pt x="5047" y="15248"/>
                  <a:pt x="4986" y="15280"/>
                </a:cubicBezTo>
                <a:cubicBezTo>
                  <a:pt x="4940" y="15304"/>
                  <a:pt x="4922" y="15318"/>
                  <a:pt x="4887" y="15354"/>
                </a:cubicBezTo>
              </a:path>
              <a:path w="1043" h="1638">
                <a:moveTo>
                  <a:pt x="5333" y="15081"/>
                </a:moveTo>
                <a:cubicBezTo>
                  <a:pt x="5333" y="15042"/>
                  <a:pt x="5322" y="15007"/>
                  <a:pt x="5358" y="14982"/>
                </a:cubicBezTo>
                <a:cubicBezTo>
                  <a:pt x="5394" y="14957"/>
                  <a:pt x="5459" y="14907"/>
                  <a:pt x="5507" y="14932"/>
                </a:cubicBezTo>
                <a:cubicBezTo>
                  <a:pt x="5551" y="14955"/>
                  <a:pt x="5541" y="15091"/>
                  <a:pt x="5531" y="15131"/>
                </a:cubicBezTo>
                <a:cubicBezTo>
                  <a:pt x="5512" y="15204"/>
                  <a:pt x="5463" y="15258"/>
                  <a:pt x="5457" y="15329"/>
                </a:cubicBezTo>
                <a:cubicBezTo>
                  <a:pt x="5457" y="15354"/>
                  <a:pt x="5457" y="15362"/>
                  <a:pt x="5457" y="15379"/>
                </a:cubicBezTo>
                <a:cubicBezTo>
                  <a:pt x="5514" y="15379"/>
                  <a:pt x="5529" y="15357"/>
                  <a:pt x="5581" y="15329"/>
                </a:cubicBezTo>
                <a:cubicBezTo>
                  <a:pt x="5631" y="15302"/>
                  <a:pt x="5677" y="15299"/>
                  <a:pt x="5730" y="15280"/>
                </a:cubicBezTo>
              </a:path>
              <a:path w="1043" h="1638">
                <a:moveTo>
                  <a:pt x="4862" y="13891"/>
                </a:moveTo>
                <a:cubicBezTo>
                  <a:pt x="4887" y="13891"/>
                  <a:pt x="4895" y="13891"/>
                  <a:pt x="4887" y="13866"/>
                </a:cubicBezTo>
                <a:cubicBezTo>
                  <a:pt x="4845" y="13900"/>
                  <a:pt x="4861" y="13892"/>
                  <a:pt x="4837" y="13940"/>
                </a:cubicBezTo>
                <a:cubicBezTo>
                  <a:pt x="4818" y="13977"/>
                  <a:pt x="4796" y="13997"/>
                  <a:pt x="4787" y="14039"/>
                </a:cubicBezTo>
                <a:cubicBezTo>
                  <a:pt x="4775" y="14092"/>
                  <a:pt x="4776" y="14134"/>
                  <a:pt x="4762" y="14188"/>
                </a:cubicBezTo>
                <a:cubicBezTo>
                  <a:pt x="4751" y="14231"/>
                  <a:pt x="4740" y="14267"/>
                  <a:pt x="4738" y="14312"/>
                </a:cubicBezTo>
                <a:cubicBezTo>
                  <a:pt x="4735" y="14372"/>
                  <a:pt x="4717" y="14397"/>
                  <a:pt x="4713" y="14461"/>
                </a:cubicBezTo>
                <a:cubicBezTo>
                  <a:pt x="4708" y="14549"/>
                  <a:pt x="4701" y="14627"/>
                  <a:pt x="4688" y="14709"/>
                </a:cubicBezTo>
                <a:cubicBezTo>
                  <a:pt x="4678" y="14775"/>
                  <a:pt x="4710" y="14819"/>
                  <a:pt x="4713" y="14883"/>
                </a:cubicBezTo>
                <a:cubicBezTo>
                  <a:pt x="4716" y="14943"/>
                  <a:pt x="4729" y="14977"/>
                  <a:pt x="4738" y="15032"/>
                </a:cubicBezTo>
                <a:cubicBezTo>
                  <a:pt x="4747" y="15086"/>
                  <a:pt x="4777" y="15133"/>
                  <a:pt x="4787" y="15180"/>
                </a:cubicBezTo>
                <a:cubicBezTo>
                  <a:pt x="4799" y="15242"/>
                  <a:pt x="4815" y="15278"/>
                  <a:pt x="4862" y="15329"/>
                </a:cubicBezTo>
                <a:cubicBezTo>
                  <a:pt x="4893" y="15363"/>
                  <a:pt x="4949" y="15410"/>
                  <a:pt x="4961" y="15453"/>
                </a:cubicBezTo>
                <a:cubicBezTo>
                  <a:pt x="4961" y="15478"/>
                  <a:pt x="4961" y="15486"/>
                  <a:pt x="4961" y="1550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374920" y="4946760"/>
            <a:ext cx="403200" cy="482400"/>
          </a:xfrm>
          <a:custGeom>
            <a:avLst/>
            <a:gdLst/>
            <a:ahLst/>
            <a:rect l="l" t="t" r="r" b="b"/>
            <a:pathLst>
              <a:path w="1117" h="1340">
                <a:moveTo>
                  <a:pt x="6722" y="13791"/>
                </a:moveTo>
                <a:cubicBezTo>
                  <a:pt x="6667" y="13800"/>
                  <a:pt x="6662" y="13797"/>
                  <a:pt x="6648" y="13841"/>
                </a:cubicBezTo>
                <a:cubicBezTo>
                  <a:pt x="6706" y="13841"/>
                  <a:pt x="6742" y="13840"/>
                  <a:pt x="6796" y="13816"/>
                </a:cubicBezTo>
                <a:cubicBezTo>
                  <a:pt x="6858" y="13788"/>
                  <a:pt x="6903" y="13791"/>
                  <a:pt x="6970" y="13791"/>
                </a:cubicBezTo>
                <a:cubicBezTo>
                  <a:pt x="6978" y="13791"/>
                  <a:pt x="6987" y="13791"/>
                  <a:pt x="6995" y="13791"/>
                </a:cubicBezTo>
                <a:cubicBezTo>
                  <a:pt x="6995" y="13881"/>
                  <a:pt x="6974" y="13930"/>
                  <a:pt x="6945" y="14015"/>
                </a:cubicBezTo>
                <a:cubicBezTo>
                  <a:pt x="6922" y="14083"/>
                  <a:pt x="6904" y="14143"/>
                  <a:pt x="6896" y="14213"/>
                </a:cubicBezTo>
              </a:path>
              <a:path w="1117" h="1340">
                <a:moveTo>
                  <a:pt x="6598" y="14858"/>
                </a:moveTo>
                <a:cubicBezTo>
                  <a:pt x="6598" y="14866"/>
                  <a:pt x="6598" y="14875"/>
                  <a:pt x="6598" y="14883"/>
                </a:cubicBezTo>
                <a:cubicBezTo>
                  <a:pt x="6672" y="14883"/>
                  <a:pt x="6747" y="14883"/>
                  <a:pt x="6821" y="14883"/>
                </a:cubicBezTo>
              </a:path>
              <a:path w="1117" h="1340">
                <a:moveTo>
                  <a:pt x="7144" y="14684"/>
                </a:moveTo>
                <a:cubicBezTo>
                  <a:pt x="7119" y="14684"/>
                  <a:pt x="7111" y="14684"/>
                  <a:pt x="7094" y="14684"/>
                </a:cubicBezTo>
                <a:cubicBezTo>
                  <a:pt x="7146" y="14644"/>
                  <a:pt x="7180" y="14614"/>
                  <a:pt x="7243" y="14610"/>
                </a:cubicBezTo>
                <a:cubicBezTo>
                  <a:pt x="7275" y="14608"/>
                  <a:pt x="7309" y="14610"/>
                  <a:pt x="7342" y="14610"/>
                </a:cubicBezTo>
                <a:cubicBezTo>
                  <a:pt x="7342" y="14667"/>
                  <a:pt x="7350" y="14709"/>
                  <a:pt x="7317" y="14759"/>
                </a:cubicBezTo>
                <a:cubicBezTo>
                  <a:pt x="7304" y="14779"/>
                  <a:pt x="7256" y="14832"/>
                  <a:pt x="7268" y="14858"/>
                </a:cubicBezTo>
                <a:cubicBezTo>
                  <a:pt x="7287" y="14900"/>
                  <a:pt x="7339" y="14914"/>
                  <a:pt x="7367" y="14932"/>
                </a:cubicBezTo>
                <a:cubicBezTo>
                  <a:pt x="7399" y="14953"/>
                  <a:pt x="7409" y="14975"/>
                  <a:pt x="7417" y="15007"/>
                </a:cubicBezTo>
                <a:cubicBezTo>
                  <a:pt x="7373" y="15016"/>
                  <a:pt x="7339" y="15026"/>
                  <a:pt x="7293" y="15032"/>
                </a:cubicBezTo>
              </a:path>
              <a:path w="1117" h="1340">
                <a:moveTo>
                  <a:pt x="7193" y="13791"/>
                </a:moveTo>
                <a:cubicBezTo>
                  <a:pt x="7224" y="13754"/>
                  <a:pt x="7206" y="13746"/>
                  <a:pt x="7268" y="13742"/>
                </a:cubicBezTo>
                <a:cubicBezTo>
                  <a:pt x="7332" y="13738"/>
                  <a:pt x="7382" y="13741"/>
                  <a:pt x="7441" y="13767"/>
                </a:cubicBezTo>
                <a:cubicBezTo>
                  <a:pt x="7527" y="13805"/>
                  <a:pt x="7591" y="13886"/>
                  <a:pt x="7640" y="13965"/>
                </a:cubicBezTo>
                <a:cubicBezTo>
                  <a:pt x="7701" y="14063"/>
                  <a:pt x="7711" y="14177"/>
                  <a:pt x="7714" y="14288"/>
                </a:cubicBezTo>
                <a:cubicBezTo>
                  <a:pt x="7718" y="14436"/>
                  <a:pt x="7677" y="14576"/>
                  <a:pt x="7615" y="14709"/>
                </a:cubicBezTo>
                <a:cubicBezTo>
                  <a:pt x="7563" y="14821"/>
                  <a:pt x="7502" y="14925"/>
                  <a:pt x="7441" y="15032"/>
                </a:cubicBezTo>
                <a:cubicBezTo>
                  <a:pt x="7433" y="15048"/>
                  <a:pt x="7425" y="15065"/>
                  <a:pt x="7417" y="1508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97000" y="1401840"/>
            <a:ext cx="17280" cy="938160"/>
          </a:xfrm>
          <a:custGeom>
            <a:avLst/>
            <a:gdLst/>
            <a:ahLst/>
            <a:rect l="l" t="t" r="r" b="b"/>
            <a:pathLst>
              <a:path w="50" h="2606">
                <a:moveTo>
                  <a:pt x="3349" y="3919"/>
                </a:moveTo>
                <a:cubicBezTo>
                  <a:pt x="3357" y="3911"/>
                  <a:pt x="3365" y="3902"/>
                  <a:pt x="3373" y="3894"/>
                </a:cubicBezTo>
                <a:cubicBezTo>
                  <a:pt x="3373" y="4272"/>
                  <a:pt x="3395" y="4666"/>
                  <a:pt x="3349" y="5035"/>
                </a:cubicBezTo>
                <a:cubicBezTo>
                  <a:pt x="3332" y="5168"/>
                  <a:pt x="3346" y="5303"/>
                  <a:pt x="3324" y="5432"/>
                </a:cubicBezTo>
                <a:cubicBezTo>
                  <a:pt x="3282" y="5682"/>
                  <a:pt x="3311" y="6011"/>
                  <a:pt x="3349" y="6251"/>
                </a:cubicBezTo>
                <a:cubicBezTo>
                  <a:pt x="3363" y="6336"/>
                  <a:pt x="3350" y="6429"/>
                  <a:pt x="3324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84200" y="1490760"/>
            <a:ext cx="561960" cy="733320"/>
          </a:xfrm>
          <a:custGeom>
            <a:avLst/>
            <a:gdLst/>
            <a:ahLst/>
            <a:rect l="l" t="t" r="r" b="b"/>
            <a:pathLst>
              <a:path w="1563" h="2035">
                <a:moveTo>
                  <a:pt x="3894" y="4167"/>
                </a:moveTo>
                <a:cubicBezTo>
                  <a:pt x="3926" y="4104"/>
                  <a:pt x="3919" y="4236"/>
                  <a:pt x="3919" y="4266"/>
                </a:cubicBezTo>
                <a:cubicBezTo>
                  <a:pt x="3919" y="4355"/>
                  <a:pt x="3931" y="4432"/>
                  <a:pt x="3944" y="4514"/>
                </a:cubicBezTo>
                <a:cubicBezTo>
                  <a:pt x="3944" y="4531"/>
                  <a:pt x="3944" y="4547"/>
                  <a:pt x="3944" y="4564"/>
                </a:cubicBezTo>
              </a:path>
              <a:path w="1563" h="2035">
                <a:moveTo>
                  <a:pt x="4911" y="4167"/>
                </a:moveTo>
                <a:cubicBezTo>
                  <a:pt x="4888" y="4199"/>
                  <a:pt x="4872" y="4250"/>
                  <a:pt x="4862" y="4291"/>
                </a:cubicBezTo>
                <a:cubicBezTo>
                  <a:pt x="4853" y="4326"/>
                  <a:pt x="4911" y="4358"/>
                  <a:pt x="4936" y="4366"/>
                </a:cubicBezTo>
                <a:cubicBezTo>
                  <a:pt x="4992" y="4385"/>
                  <a:pt x="5029" y="4349"/>
                  <a:pt x="5060" y="4390"/>
                </a:cubicBezTo>
                <a:cubicBezTo>
                  <a:pt x="5069" y="4402"/>
                  <a:pt x="5111" y="4469"/>
                  <a:pt x="5085" y="4490"/>
                </a:cubicBezTo>
                <a:cubicBezTo>
                  <a:pt x="5055" y="4514"/>
                  <a:pt x="5003" y="4514"/>
                  <a:pt x="4961" y="4514"/>
                </a:cubicBezTo>
                <a:cubicBezTo>
                  <a:pt x="4920" y="4514"/>
                  <a:pt x="4912" y="4514"/>
                  <a:pt x="4887" y="4514"/>
                </a:cubicBezTo>
              </a:path>
              <a:path w="1563" h="2035">
                <a:moveTo>
                  <a:pt x="5060" y="4167"/>
                </a:moveTo>
                <a:cubicBezTo>
                  <a:pt x="5060" y="4159"/>
                  <a:pt x="5060" y="4150"/>
                  <a:pt x="5060" y="4142"/>
                </a:cubicBezTo>
                <a:cubicBezTo>
                  <a:pt x="5009" y="4142"/>
                  <a:pt x="4987" y="4160"/>
                  <a:pt x="4936" y="4167"/>
                </a:cubicBezTo>
              </a:path>
              <a:path w="1563" h="2035">
                <a:moveTo>
                  <a:pt x="3870" y="5060"/>
                </a:moveTo>
                <a:cubicBezTo>
                  <a:pt x="3845" y="5060"/>
                  <a:pt x="3837" y="5060"/>
                  <a:pt x="3845" y="5035"/>
                </a:cubicBezTo>
                <a:cubicBezTo>
                  <a:pt x="3897" y="5035"/>
                  <a:pt x="3916" y="5015"/>
                  <a:pt x="3969" y="5011"/>
                </a:cubicBezTo>
                <a:cubicBezTo>
                  <a:pt x="4014" y="5007"/>
                  <a:pt x="4038" y="5012"/>
                  <a:pt x="4043" y="5060"/>
                </a:cubicBezTo>
                <a:cubicBezTo>
                  <a:pt x="4050" y="5124"/>
                  <a:pt x="4036" y="5141"/>
                  <a:pt x="3994" y="5184"/>
                </a:cubicBezTo>
                <a:cubicBezTo>
                  <a:pt x="3969" y="5209"/>
                  <a:pt x="3948" y="5249"/>
                  <a:pt x="3944" y="5283"/>
                </a:cubicBezTo>
                <a:cubicBezTo>
                  <a:pt x="3944" y="5291"/>
                  <a:pt x="3944" y="5300"/>
                  <a:pt x="3944" y="5308"/>
                </a:cubicBezTo>
                <a:cubicBezTo>
                  <a:pt x="4004" y="5308"/>
                  <a:pt x="4043" y="5298"/>
                  <a:pt x="4093" y="5283"/>
                </a:cubicBezTo>
                <a:cubicBezTo>
                  <a:pt x="4128" y="5272"/>
                  <a:pt x="4179" y="5283"/>
                  <a:pt x="4217" y="5283"/>
                </a:cubicBezTo>
              </a:path>
              <a:path w="1563" h="2035">
                <a:moveTo>
                  <a:pt x="4762" y="5135"/>
                </a:moveTo>
                <a:cubicBezTo>
                  <a:pt x="4754" y="5135"/>
                  <a:pt x="4746" y="5135"/>
                  <a:pt x="4738" y="5135"/>
                </a:cubicBezTo>
                <a:cubicBezTo>
                  <a:pt x="4818" y="5135"/>
                  <a:pt x="4924" y="5157"/>
                  <a:pt x="4986" y="5110"/>
                </a:cubicBezTo>
              </a:path>
              <a:path w="1563" h="2035">
                <a:moveTo>
                  <a:pt x="5209" y="4961"/>
                </a:moveTo>
                <a:cubicBezTo>
                  <a:pt x="5209" y="5027"/>
                  <a:pt x="5209" y="5093"/>
                  <a:pt x="5209" y="5159"/>
                </a:cubicBezTo>
              </a:path>
              <a:path w="1563" h="2035">
                <a:moveTo>
                  <a:pt x="4192" y="5904"/>
                </a:moveTo>
                <a:cubicBezTo>
                  <a:pt x="4200" y="5904"/>
                  <a:pt x="4209" y="5904"/>
                  <a:pt x="4217" y="5904"/>
                </a:cubicBezTo>
              </a:path>
              <a:path w="1563" h="2035">
                <a:moveTo>
                  <a:pt x="4192" y="5904"/>
                </a:moveTo>
                <a:cubicBezTo>
                  <a:pt x="4132" y="5904"/>
                  <a:pt x="4115" y="5918"/>
                  <a:pt x="4068" y="5928"/>
                </a:cubicBezTo>
                <a:cubicBezTo>
                  <a:pt x="4016" y="5939"/>
                  <a:pt x="3984" y="5934"/>
                  <a:pt x="3969" y="5978"/>
                </a:cubicBezTo>
              </a:path>
              <a:path w="1563" h="2035">
                <a:moveTo>
                  <a:pt x="4539" y="5928"/>
                </a:moveTo>
                <a:cubicBezTo>
                  <a:pt x="4564" y="5896"/>
                  <a:pt x="4585" y="5884"/>
                  <a:pt x="4589" y="5854"/>
                </a:cubicBezTo>
                <a:cubicBezTo>
                  <a:pt x="4594" y="5811"/>
                  <a:pt x="4551" y="5790"/>
                  <a:pt x="4514" y="5804"/>
                </a:cubicBezTo>
                <a:cubicBezTo>
                  <a:pt x="4467" y="5821"/>
                  <a:pt x="4397" y="5836"/>
                  <a:pt x="4366" y="5879"/>
                </a:cubicBezTo>
                <a:cubicBezTo>
                  <a:pt x="4335" y="5922"/>
                  <a:pt x="4341" y="5955"/>
                  <a:pt x="4341" y="6003"/>
                </a:cubicBezTo>
                <a:cubicBezTo>
                  <a:pt x="4341" y="6011"/>
                  <a:pt x="4341" y="6020"/>
                  <a:pt x="4341" y="6028"/>
                </a:cubicBezTo>
                <a:cubicBezTo>
                  <a:pt x="4407" y="6028"/>
                  <a:pt x="4419" y="6024"/>
                  <a:pt x="4465" y="5978"/>
                </a:cubicBezTo>
                <a:cubicBezTo>
                  <a:pt x="4493" y="5950"/>
                  <a:pt x="4514" y="5839"/>
                  <a:pt x="4514" y="5879"/>
                </a:cubicBezTo>
                <a:cubicBezTo>
                  <a:pt x="4514" y="5978"/>
                  <a:pt x="4514" y="6077"/>
                  <a:pt x="4514" y="6176"/>
                </a:cubicBezTo>
              </a:path>
              <a:path w="1563" h="2035">
                <a:moveTo>
                  <a:pt x="5135" y="5953"/>
                </a:moveTo>
                <a:cubicBezTo>
                  <a:pt x="5110" y="5953"/>
                  <a:pt x="5102" y="5953"/>
                  <a:pt x="5110" y="5928"/>
                </a:cubicBezTo>
                <a:cubicBezTo>
                  <a:pt x="5115" y="5913"/>
                  <a:pt x="5134" y="5867"/>
                  <a:pt x="5159" y="5854"/>
                </a:cubicBezTo>
                <a:cubicBezTo>
                  <a:pt x="5194" y="5836"/>
                  <a:pt x="5241" y="5829"/>
                  <a:pt x="5283" y="5829"/>
                </a:cubicBezTo>
                <a:cubicBezTo>
                  <a:pt x="5283" y="5895"/>
                  <a:pt x="5298" y="5970"/>
                  <a:pt x="5259" y="6028"/>
                </a:cubicBezTo>
                <a:cubicBezTo>
                  <a:pt x="5226" y="6077"/>
                  <a:pt x="5173" y="6095"/>
                  <a:pt x="5159" y="6152"/>
                </a:cubicBezTo>
                <a:cubicBezTo>
                  <a:pt x="5232" y="6152"/>
                  <a:pt x="5273" y="6147"/>
                  <a:pt x="5333" y="6127"/>
                </a:cubicBezTo>
                <a:cubicBezTo>
                  <a:pt x="5352" y="6121"/>
                  <a:pt x="5387" y="6127"/>
                  <a:pt x="5407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1446120"/>
            <a:ext cx="260280" cy="822240"/>
          </a:xfrm>
          <a:custGeom>
            <a:avLst/>
            <a:gdLst/>
            <a:ahLst/>
            <a:rect l="l" t="t" r="r" b="b"/>
            <a:pathLst>
              <a:path w="721" h="2283">
                <a:moveTo>
                  <a:pt x="6648" y="4043"/>
                </a:moveTo>
                <a:cubicBezTo>
                  <a:pt x="6648" y="4076"/>
                  <a:pt x="6648" y="4060"/>
                  <a:pt x="6648" y="4093"/>
                </a:cubicBezTo>
                <a:cubicBezTo>
                  <a:pt x="6648" y="4146"/>
                  <a:pt x="6631" y="4167"/>
                  <a:pt x="6623" y="4217"/>
                </a:cubicBezTo>
                <a:cubicBezTo>
                  <a:pt x="6609" y="4299"/>
                  <a:pt x="6611" y="4386"/>
                  <a:pt x="6598" y="4465"/>
                </a:cubicBezTo>
                <a:cubicBezTo>
                  <a:pt x="6584" y="4547"/>
                  <a:pt x="6588" y="4640"/>
                  <a:pt x="6573" y="4713"/>
                </a:cubicBezTo>
                <a:cubicBezTo>
                  <a:pt x="6475" y="5196"/>
                  <a:pt x="6573" y="5805"/>
                  <a:pt x="6573" y="6300"/>
                </a:cubicBezTo>
              </a:path>
              <a:path w="721" h="2283">
                <a:moveTo>
                  <a:pt x="5978" y="4217"/>
                </a:moveTo>
                <a:cubicBezTo>
                  <a:pt x="6003" y="4209"/>
                  <a:pt x="6042" y="4185"/>
                  <a:pt x="6077" y="4167"/>
                </a:cubicBezTo>
                <a:cubicBezTo>
                  <a:pt x="6116" y="4147"/>
                  <a:pt x="6105" y="4142"/>
                  <a:pt x="6152" y="4142"/>
                </a:cubicBezTo>
                <a:cubicBezTo>
                  <a:pt x="6152" y="4199"/>
                  <a:pt x="6165" y="4248"/>
                  <a:pt x="6127" y="4291"/>
                </a:cubicBezTo>
                <a:cubicBezTo>
                  <a:pt x="6107" y="4313"/>
                  <a:pt x="6036" y="4354"/>
                  <a:pt x="6028" y="4366"/>
                </a:cubicBezTo>
                <a:cubicBezTo>
                  <a:pt x="6028" y="4374"/>
                  <a:pt x="6028" y="4382"/>
                  <a:pt x="6028" y="4390"/>
                </a:cubicBezTo>
                <a:cubicBezTo>
                  <a:pt x="6063" y="4417"/>
                  <a:pt x="6104" y="4437"/>
                  <a:pt x="6152" y="4440"/>
                </a:cubicBezTo>
                <a:cubicBezTo>
                  <a:pt x="6168" y="4440"/>
                  <a:pt x="6185" y="4440"/>
                  <a:pt x="6201" y="4440"/>
                </a:cubicBezTo>
                <a:cubicBezTo>
                  <a:pt x="6192" y="4467"/>
                  <a:pt x="6145" y="4504"/>
                  <a:pt x="6102" y="4514"/>
                </a:cubicBezTo>
                <a:cubicBezTo>
                  <a:pt x="6059" y="4524"/>
                  <a:pt x="5997" y="4514"/>
                  <a:pt x="5953" y="4514"/>
                </a:cubicBezTo>
              </a:path>
              <a:path w="721" h="2283">
                <a:moveTo>
                  <a:pt x="6028" y="4911"/>
                </a:moveTo>
                <a:cubicBezTo>
                  <a:pt x="6061" y="4886"/>
                  <a:pt x="6100" y="4878"/>
                  <a:pt x="6077" y="4887"/>
                </a:cubicBezTo>
                <a:cubicBezTo>
                  <a:pt x="6014" y="4912"/>
                  <a:pt x="6043" y="4926"/>
                  <a:pt x="6003" y="4986"/>
                </a:cubicBezTo>
                <a:cubicBezTo>
                  <a:pt x="5980" y="5020"/>
                  <a:pt x="5936" y="5072"/>
                  <a:pt x="5928" y="5110"/>
                </a:cubicBezTo>
                <a:cubicBezTo>
                  <a:pt x="5921" y="5144"/>
                  <a:pt x="5916" y="5240"/>
                  <a:pt x="5953" y="5259"/>
                </a:cubicBezTo>
                <a:cubicBezTo>
                  <a:pt x="5989" y="5277"/>
                  <a:pt x="6052" y="5256"/>
                  <a:pt x="6077" y="5234"/>
                </a:cubicBezTo>
                <a:cubicBezTo>
                  <a:pt x="6116" y="5199"/>
                  <a:pt x="6127" y="5186"/>
                  <a:pt x="6127" y="5135"/>
                </a:cubicBezTo>
                <a:cubicBezTo>
                  <a:pt x="6127" y="5127"/>
                  <a:pt x="6127" y="5118"/>
                  <a:pt x="6127" y="5110"/>
                </a:cubicBezTo>
                <a:cubicBezTo>
                  <a:pt x="6077" y="5110"/>
                  <a:pt x="6048" y="5105"/>
                  <a:pt x="6003" y="5135"/>
                </a:cubicBezTo>
                <a:cubicBezTo>
                  <a:pt x="5980" y="5157"/>
                  <a:pt x="5975" y="5165"/>
                  <a:pt x="5953" y="5159"/>
                </a:cubicBezTo>
              </a:path>
              <a:path w="721" h="2283">
                <a:moveTo>
                  <a:pt x="6003" y="5904"/>
                </a:moveTo>
                <a:cubicBezTo>
                  <a:pt x="5948" y="5886"/>
                  <a:pt x="5990" y="5868"/>
                  <a:pt x="6003" y="5829"/>
                </a:cubicBezTo>
                <a:cubicBezTo>
                  <a:pt x="6010" y="5809"/>
                  <a:pt x="6025" y="5738"/>
                  <a:pt x="6052" y="5730"/>
                </a:cubicBezTo>
                <a:cubicBezTo>
                  <a:pt x="6106" y="5713"/>
                  <a:pt x="6187" y="5721"/>
                  <a:pt x="6201" y="5779"/>
                </a:cubicBezTo>
                <a:cubicBezTo>
                  <a:pt x="6220" y="5856"/>
                  <a:pt x="6207" y="5990"/>
                  <a:pt x="6176" y="6052"/>
                </a:cubicBezTo>
                <a:cubicBezTo>
                  <a:pt x="6139" y="6127"/>
                  <a:pt x="6082" y="6102"/>
                  <a:pt x="6003" y="6102"/>
                </a:cubicBezTo>
                <a:cubicBezTo>
                  <a:pt x="5961" y="6102"/>
                  <a:pt x="5932" y="6067"/>
                  <a:pt x="5928" y="6028"/>
                </a:cubicBezTo>
                <a:cubicBezTo>
                  <a:pt x="5928" y="6020"/>
                  <a:pt x="5928" y="6011"/>
                  <a:pt x="5928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8200" y="1724040"/>
            <a:ext cx="455760" cy="204840"/>
          </a:xfrm>
          <a:custGeom>
            <a:avLst/>
            <a:gdLst/>
            <a:ahLst/>
            <a:rect l="l" t="t" r="r" b="b"/>
            <a:pathLst>
              <a:path w="1266" h="572">
                <a:moveTo>
                  <a:pt x="744" y="5011"/>
                </a:moveTo>
                <a:cubicBezTo>
                  <a:pt x="744" y="5110"/>
                  <a:pt x="754" y="5191"/>
                  <a:pt x="769" y="5283"/>
                </a:cubicBezTo>
                <a:cubicBezTo>
                  <a:pt x="769" y="5325"/>
                  <a:pt x="769" y="5333"/>
                  <a:pt x="769" y="5358"/>
                </a:cubicBezTo>
              </a:path>
              <a:path w="1266" h="572">
                <a:moveTo>
                  <a:pt x="967" y="4887"/>
                </a:moveTo>
                <a:cubicBezTo>
                  <a:pt x="975" y="4887"/>
                  <a:pt x="984" y="4887"/>
                  <a:pt x="992" y="4887"/>
                </a:cubicBezTo>
                <a:cubicBezTo>
                  <a:pt x="940" y="4887"/>
                  <a:pt x="918" y="4887"/>
                  <a:pt x="868" y="4911"/>
                </a:cubicBezTo>
                <a:cubicBezTo>
                  <a:pt x="819" y="4936"/>
                  <a:pt x="802" y="4945"/>
                  <a:pt x="769" y="4961"/>
                </a:cubicBezTo>
              </a:path>
              <a:path w="1266" h="572">
                <a:moveTo>
                  <a:pt x="918" y="5085"/>
                </a:moveTo>
                <a:cubicBezTo>
                  <a:pt x="886" y="5093"/>
                  <a:pt x="845" y="5118"/>
                  <a:pt x="819" y="5135"/>
                </a:cubicBezTo>
                <a:cubicBezTo>
                  <a:pt x="811" y="5143"/>
                  <a:pt x="802" y="5151"/>
                  <a:pt x="794" y="5159"/>
                </a:cubicBezTo>
              </a:path>
              <a:path w="1266" h="572">
                <a:moveTo>
                  <a:pt x="1067" y="5209"/>
                </a:moveTo>
                <a:cubicBezTo>
                  <a:pt x="1057" y="5248"/>
                  <a:pt x="1042" y="5264"/>
                  <a:pt x="1042" y="5308"/>
                </a:cubicBezTo>
                <a:cubicBezTo>
                  <a:pt x="1042" y="5316"/>
                  <a:pt x="1042" y="5325"/>
                  <a:pt x="1042" y="5333"/>
                </a:cubicBezTo>
              </a:path>
              <a:path w="1266" h="572">
                <a:moveTo>
                  <a:pt x="1067" y="5085"/>
                </a:moveTo>
                <a:cubicBezTo>
                  <a:pt x="1067" y="5077"/>
                  <a:pt x="1067" y="5068"/>
                  <a:pt x="1067" y="5060"/>
                </a:cubicBezTo>
              </a:path>
              <a:path w="1266" h="572">
                <a:moveTo>
                  <a:pt x="1265" y="5234"/>
                </a:moveTo>
                <a:cubicBezTo>
                  <a:pt x="1265" y="5259"/>
                  <a:pt x="1265" y="5283"/>
                  <a:pt x="1265" y="5308"/>
                </a:cubicBezTo>
                <a:cubicBezTo>
                  <a:pt x="1299" y="5263"/>
                  <a:pt x="1294" y="5229"/>
                  <a:pt x="1339" y="5184"/>
                </a:cubicBezTo>
                <a:cubicBezTo>
                  <a:pt x="1376" y="5147"/>
                  <a:pt x="1402" y="5151"/>
                  <a:pt x="1439" y="5184"/>
                </a:cubicBezTo>
                <a:cubicBezTo>
                  <a:pt x="1469" y="5212"/>
                  <a:pt x="1484" y="5268"/>
                  <a:pt x="1488" y="5308"/>
                </a:cubicBezTo>
                <a:cubicBezTo>
                  <a:pt x="1488" y="5316"/>
                  <a:pt x="1488" y="5325"/>
                  <a:pt x="1488" y="5333"/>
                </a:cubicBezTo>
              </a:path>
              <a:path w="1266" h="572">
                <a:moveTo>
                  <a:pt x="1687" y="5184"/>
                </a:moveTo>
                <a:cubicBezTo>
                  <a:pt x="1730" y="5184"/>
                  <a:pt x="1676" y="5193"/>
                  <a:pt x="1662" y="5234"/>
                </a:cubicBezTo>
                <a:cubicBezTo>
                  <a:pt x="1662" y="5259"/>
                  <a:pt x="1662" y="5267"/>
                  <a:pt x="1662" y="5283"/>
                </a:cubicBezTo>
                <a:cubicBezTo>
                  <a:pt x="1731" y="5266"/>
                  <a:pt x="1738" y="5201"/>
                  <a:pt x="1761" y="5135"/>
                </a:cubicBezTo>
                <a:cubicBezTo>
                  <a:pt x="1793" y="5043"/>
                  <a:pt x="1806" y="4933"/>
                  <a:pt x="1811" y="4837"/>
                </a:cubicBezTo>
                <a:cubicBezTo>
                  <a:pt x="1811" y="4820"/>
                  <a:pt x="1811" y="4804"/>
                  <a:pt x="1811" y="4787"/>
                </a:cubicBezTo>
                <a:cubicBezTo>
                  <a:pt x="1811" y="4880"/>
                  <a:pt x="1792" y="4944"/>
                  <a:pt x="1811" y="5035"/>
                </a:cubicBezTo>
                <a:cubicBezTo>
                  <a:pt x="1830" y="5126"/>
                  <a:pt x="1869" y="5223"/>
                  <a:pt x="1960" y="5234"/>
                </a:cubicBezTo>
                <a:cubicBezTo>
                  <a:pt x="1976" y="5234"/>
                  <a:pt x="1993" y="5234"/>
                  <a:pt x="2009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rcRect l="810" t="61064" r="3673" b="7037"/>
          <a:stretch/>
        </p:blipFill>
        <p:spPr>
          <a:xfrm>
            <a:off x="719280" y="5705640"/>
            <a:ext cx="8424720" cy="1152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687760" y="1812960"/>
            <a:ext cx="134640" cy="81000"/>
          </a:xfrm>
          <a:custGeom>
            <a:avLst/>
            <a:gdLst/>
            <a:ahLst/>
            <a:rect l="l" t="t" r="r" b="b"/>
            <a:pathLst>
              <a:path w="373" h="225">
                <a:moveTo>
                  <a:pt x="7714" y="5110"/>
                </a:moveTo>
                <a:cubicBezTo>
                  <a:pt x="7750" y="5083"/>
                  <a:pt x="7753" y="5093"/>
                  <a:pt x="7764" y="5060"/>
                </a:cubicBezTo>
                <a:cubicBezTo>
                  <a:pt x="7726" y="5032"/>
                  <a:pt x="7713" y="5035"/>
                  <a:pt x="7665" y="5035"/>
                </a:cubicBezTo>
                <a:cubicBezTo>
                  <a:pt x="7597" y="5035"/>
                  <a:pt x="7546" y="5068"/>
                  <a:pt x="7491" y="5085"/>
                </a:cubicBezTo>
                <a:cubicBezTo>
                  <a:pt x="7483" y="5085"/>
                  <a:pt x="7474" y="5085"/>
                  <a:pt x="7466" y="5085"/>
                </a:cubicBezTo>
              </a:path>
              <a:path w="373" h="225">
                <a:moveTo>
                  <a:pt x="7813" y="5234"/>
                </a:moveTo>
                <a:cubicBezTo>
                  <a:pt x="7821" y="5234"/>
                  <a:pt x="7830" y="5234"/>
                  <a:pt x="7838" y="5234"/>
                </a:cubicBezTo>
                <a:cubicBezTo>
                  <a:pt x="7770" y="5234"/>
                  <a:pt x="7722" y="5242"/>
                  <a:pt x="7665" y="5259"/>
                </a:cubicBezTo>
                <a:cubicBezTo>
                  <a:pt x="7645" y="5265"/>
                  <a:pt x="7611" y="5259"/>
                  <a:pt x="7590" y="525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43160" y="1758960"/>
            <a:ext cx="9720" cy="142920"/>
          </a:xfrm>
          <a:custGeom>
            <a:avLst/>
            <a:gdLst/>
            <a:ahLst/>
            <a:rect l="l" t="t" r="r" b="b"/>
            <a:pathLst>
              <a:path w="26" h="397">
                <a:moveTo>
                  <a:pt x="8756" y="4961"/>
                </a:moveTo>
                <a:cubicBezTo>
                  <a:pt x="8756" y="4950"/>
                  <a:pt x="8756" y="4847"/>
                  <a:pt x="8756" y="4911"/>
                </a:cubicBezTo>
                <a:cubicBezTo>
                  <a:pt x="8756" y="5017"/>
                  <a:pt x="8754" y="5110"/>
                  <a:pt x="8731" y="5209"/>
                </a:cubicBezTo>
                <a:cubicBezTo>
                  <a:pt x="8726" y="5231"/>
                  <a:pt x="8731" y="5261"/>
                  <a:pt x="8731" y="528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73280" y="1419120"/>
            <a:ext cx="849600" cy="716040"/>
          </a:xfrm>
          <a:custGeom>
            <a:avLst/>
            <a:gdLst/>
            <a:ahLst/>
            <a:rect l="l" t="t" r="r" b="b"/>
            <a:pathLst>
              <a:path w="2357" h="1985">
                <a:moveTo>
                  <a:pt x="9649" y="4018"/>
                </a:moveTo>
                <a:cubicBezTo>
                  <a:pt x="9649" y="3994"/>
                  <a:pt x="9649" y="3986"/>
                  <a:pt x="9674" y="3994"/>
                </a:cubicBezTo>
                <a:cubicBezTo>
                  <a:pt x="9674" y="4195"/>
                  <a:pt x="9668" y="4393"/>
                  <a:pt x="9649" y="4589"/>
                </a:cubicBezTo>
                <a:cubicBezTo>
                  <a:pt x="9630" y="4795"/>
                  <a:pt x="9657" y="5007"/>
                  <a:pt x="9674" y="5209"/>
                </a:cubicBezTo>
                <a:cubicBezTo>
                  <a:pt x="9684" y="5326"/>
                  <a:pt x="9687" y="5441"/>
                  <a:pt x="9699" y="5556"/>
                </a:cubicBezTo>
                <a:cubicBezTo>
                  <a:pt x="9710" y="5669"/>
                  <a:pt x="9685" y="5773"/>
                  <a:pt x="9723" y="5879"/>
                </a:cubicBezTo>
              </a:path>
              <a:path w="2357" h="1985">
                <a:moveTo>
                  <a:pt x="12005" y="3944"/>
                </a:moveTo>
                <a:cubicBezTo>
                  <a:pt x="12005" y="4112"/>
                  <a:pt x="11999" y="4276"/>
                  <a:pt x="11981" y="4440"/>
                </a:cubicBezTo>
                <a:cubicBezTo>
                  <a:pt x="11969" y="4554"/>
                  <a:pt x="11966" y="4674"/>
                  <a:pt x="11956" y="4787"/>
                </a:cubicBezTo>
                <a:cubicBezTo>
                  <a:pt x="11945" y="4919"/>
                  <a:pt x="11942" y="5054"/>
                  <a:pt x="11931" y="5184"/>
                </a:cubicBezTo>
                <a:cubicBezTo>
                  <a:pt x="11910" y="5428"/>
                  <a:pt x="11931" y="5682"/>
                  <a:pt x="11931" y="5928"/>
                </a:cubicBezTo>
              </a:path>
              <a:path w="2357" h="1985">
                <a:moveTo>
                  <a:pt x="10468" y="4514"/>
                </a:moveTo>
                <a:cubicBezTo>
                  <a:pt x="10501" y="4514"/>
                  <a:pt x="10572" y="4524"/>
                  <a:pt x="10542" y="4539"/>
                </a:cubicBezTo>
                <a:cubicBezTo>
                  <a:pt x="10472" y="4574"/>
                  <a:pt x="10299" y="4539"/>
                  <a:pt x="10220" y="4539"/>
                </a:cubicBezTo>
              </a:path>
              <a:path w="2357" h="1985">
                <a:moveTo>
                  <a:pt x="10716" y="4266"/>
                </a:moveTo>
                <a:cubicBezTo>
                  <a:pt x="10724" y="4258"/>
                  <a:pt x="10732" y="4250"/>
                  <a:pt x="10740" y="4242"/>
                </a:cubicBezTo>
                <a:cubicBezTo>
                  <a:pt x="10753" y="4294"/>
                  <a:pt x="10765" y="4327"/>
                  <a:pt x="10765" y="4390"/>
                </a:cubicBezTo>
                <a:cubicBezTo>
                  <a:pt x="10765" y="4448"/>
                  <a:pt x="10765" y="4506"/>
                  <a:pt x="10765" y="4564"/>
                </a:cubicBezTo>
              </a:path>
              <a:path w="2357" h="1985">
                <a:moveTo>
                  <a:pt x="11683" y="4242"/>
                </a:moveTo>
                <a:cubicBezTo>
                  <a:pt x="11628" y="4242"/>
                  <a:pt x="11629" y="4245"/>
                  <a:pt x="11609" y="4291"/>
                </a:cubicBezTo>
                <a:cubicBezTo>
                  <a:pt x="11579" y="4362"/>
                  <a:pt x="11604" y="4420"/>
                  <a:pt x="11584" y="4490"/>
                </a:cubicBezTo>
                <a:cubicBezTo>
                  <a:pt x="11564" y="4562"/>
                  <a:pt x="11555" y="4590"/>
                  <a:pt x="11584" y="4663"/>
                </a:cubicBezTo>
                <a:cubicBezTo>
                  <a:pt x="11612" y="4733"/>
                  <a:pt x="11640" y="4713"/>
                  <a:pt x="11708" y="4713"/>
                </a:cubicBezTo>
                <a:cubicBezTo>
                  <a:pt x="11751" y="4713"/>
                  <a:pt x="11778" y="4677"/>
                  <a:pt x="11782" y="4638"/>
                </a:cubicBezTo>
                <a:cubicBezTo>
                  <a:pt x="11785" y="4609"/>
                  <a:pt x="11738" y="4591"/>
                  <a:pt x="11708" y="4589"/>
                </a:cubicBezTo>
                <a:cubicBezTo>
                  <a:pt x="11666" y="4589"/>
                  <a:pt x="11658" y="4589"/>
                  <a:pt x="11633" y="4589"/>
                </a:cubicBezTo>
              </a:path>
              <a:path w="2357" h="1985">
                <a:moveTo>
                  <a:pt x="10046" y="5606"/>
                </a:moveTo>
                <a:cubicBezTo>
                  <a:pt x="9966" y="5606"/>
                  <a:pt x="10032" y="5584"/>
                  <a:pt x="9996" y="5556"/>
                </a:cubicBezTo>
                <a:cubicBezTo>
                  <a:pt x="9971" y="5556"/>
                  <a:pt x="9963" y="5556"/>
                  <a:pt x="9971" y="5531"/>
                </a:cubicBezTo>
                <a:cubicBezTo>
                  <a:pt x="9990" y="5506"/>
                  <a:pt x="10009" y="5442"/>
                  <a:pt x="10046" y="5432"/>
                </a:cubicBezTo>
                <a:cubicBezTo>
                  <a:pt x="10086" y="5421"/>
                  <a:pt x="10170" y="5424"/>
                  <a:pt x="10195" y="5457"/>
                </a:cubicBezTo>
                <a:cubicBezTo>
                  <a:pt x="10223" y="5494"/>
                  <a:pt x="10237" y="5588"/>
                  <a:pt x="10220" y="5631"/>
                </a:cubicBezTo>
                <a:cubicBezTo>
                  <a:pt x="10203" y="5675"/>
                  <a:pt x="10151" y="5706"/>
                  <a:pt x="10145" y="5755"/>
                </a:cubicBezTo>
                <a:cubicBezTo>
                  <a:pt x="10145" y="5763"/>
                  <a:pt x="10145" y="5771"/>
                  <a:pt x="10145" y="5779"/>
                </a:cubicBezTo>
                <a:cubicBezTo>
                  <a:pt x="10199" y="5779"/>
                  <a:pt x="10217" y="5768"/>
                  <a:pt x="10269" y="5755"/>
                </a:cubicBezTo>
                <a:cubicBezTo>
                  <a:pt x="10319" y="5743"/>
                  <a:pt x="10391" y="5755"/>
                  <a:pt x="10443" y="5755"/>
                </a:cubicBezTo>
              </a:path>
              <a:path w="2357" h="1985">
                <a:moveTo>
                  <a:pt x="11187" y="5482"/>
                </a:moveTo>
                <a:cubicBezTo>
                  <a:pt x="11187" y="5445"/>
                  <a:pt x="11171" y="5378"/>
                  <a:pt x="11212" y="5358"/>
                </a:cubicBezTo>
                <a:cubicBezTo>
                  <a:pt x="11244" y="5342"/>
                  <a:pt x="11271" y="5333"/>
                  <a:pt x="11311" y="5333"/>
                </a:cubicBezTo>
                <a:cubicBezTo>
                  <a:pt x="11394" y="5333"/>
                  <a:pt x="11406" y="5380"/>
                  <a:pt x="11410" y="5457"/>
                </a:cubicBezTo>
                <a:cubicBezTo>
                  <a:pt x="11413" y="5507"/>
                  <a:pt x="11414" y="5625"/>
                  <a:pt x="11361" y="5655"/>
                </a:cubicBezTo>
                <a:cubicBezTo>
                  <a:pt x="11321" y="5678"/>
                  <a:pt x="11218" y="5655"/>
                  <a:pt x="11187" y="5631"/>
                </a:cubicBezTo>
                <a:cubicBezTo>
                  <a:pt x="11147" y="5599"/>
                  <a:pt x="11162" y="5554"/>
                  <a:pt x="11162" y="550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00720" y="173196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12576" y="4812"/>
                </a:moveTo>
                <a:cubicBezTo>
                  <a:pt x="12544" y="4812"/>
                  <a:pt x="12510" y="4820"/>
                  <a:pt x="12502" y="4837"/>
                </a:cubicBezTo>
                <a:cubicBezTo>
                  <a:pt x="12502" y="4845"/>
                  <a:pt x="12502" y="4854"/>
                  <a:pt x="12502" y="4862"/>
                </a:cubicBezTo>
                <a:cubicBezTo>
                  <a:pt x="12582" y="4862"/>
                  <a:pt x="12648" y="4867"/>
                  <a:pt x="12725" y="4837"/>
                </a:cubicBezTo>
                <a:cubicBezTo>
                  <a:pt x="12795" y="4810"/>
                  <a:pt x="12847" y="4812"/>
                  <a:pt x="12923" y="4812"/>
                </a:cubicBezTo>
                <a:cubicBezTo>
                  <a:pt x="12965" y="4812"/>
                  <a:pt x="12973" y="4812"/>
                  <a:pt x="12998" y="481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94200" y="1608120"/>
            <a:ext cx="115920" cy="15084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13593" y="4539"/>
                </a:moveTo>
                <a:cubicBezTo>
                  <a:pt x="13628" y="4527"/>
                  <a:pt x="13618" y="4477"/>
                  <a:pt x="13618" y="4514"/>
                </a:cubicBezTo>
                <a:cubicBezTo>
                  <a:pt x="13618" y="4554"/>
                  <a:pt x="13568" y="4589"/>
                  <a:pt x="13593" y="4638"/>
                </a:cubicBezTo>
                <a:cubicBezTo>
                  <a:pt x="13614" y="4679"/>
                  <a:pt x="13681" y="4663"/>
                  <a:pt x="13717" y="4663"/>
                </a:cubicBezTo>
                <a:cubicBezTo>
                  <a:pt x="13775" y="4663"/>
                  <a:pt x="13827" y="4660"/>
                  <a:pt x="13866" y="4713"/>
                </a:cubicBezTo>
                <a:cubicBezTo>
                  <a:pt x="13901" y="4761"/>
                  <a:pt x="13902" y="4797"/>
                  <a:pt x="13866" y="4837"/>
                </a:cubicBezTo>
                <a:cubicBezTo>
                  <a:pt x="13817" y="4892"/>
                  <a:pt x="13790" y="4887"/>
                  <a:pt x="13717" y="4887"/>
                </a:cubicBezTo>
                <a:cubicBezTo>
                  <a:pt x="13700" y="4887"/>
                  <a:pt x="13684" y="4887"/>
                  <a:pt x="13667" y="4887"/>
                </a:cubicBezTo>
              </a:path>
              <a:path w="323" h="423">
                <a:moveTo>
                  <a:pt x="13891" y="4465"/>
                </a:moveTo>
                <a:cubicBezTo>
                  <a:pt x="13899" y="4465"/>
                  <a:pt x="13907" y="4465"/>
                  <a:pt x="13915" y="4465"/>
                </a:cubicBezTo>
                <a:cubicBezTo>
                  <a:pt x="13867" y="4477"/>
                  <a:pt x="13818" y="4491"/>
                  <a:pt x="13767" y="4514"/>
                </a:cubicBezTo>
                <a:cubicBezTo>
                  <a:pt x="13750" y="4522"/>
                  <a:pt x="13734" y="4531"/>
                  <a:pt x="13717" y="453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49880" y="1374840"/>
            <a:ext cx="322200" cy="669960"/>
          </a:xfrm>
          <a:custGeom>
            <a:avLst/>
            <a:gdLst/>
            <a:ahLst/>
            <a:rect l="l" t="t" r="r" b="b"/>
            <a:pathLst>
              <a:path w="894" h="1861">
                <a:moveTo>
                  <a:pt x="14585" y="3845"/>
                </a:moveTo>
                <a:cubicBezTo>
                  <a:pt x="14593" y="3837"/>
                  <a:pt x="14602" y="3828"/>
                  <a:pt x="14610" y="3820"/>
                </a:cubicBezTo>
                <a:cubicBezTo>
                  <a:pt x="14610" y="4300"/>
                  <a:pt x="14596" y="4784"/>
                  <a:pt x="14635" y="5259"/>
                </a:cubicBezTo>
                <a:cubicBezTo>
                  <a:pt x="14645" y="5382"/>
                  <a:pt x="14630" y="5512"/>
                  <a:pt x="14660" y="5631"/>
                </a:cubicBezTo>
                <a:cubicBezTo>
                  <a:pt x="14668" y="5647"/>
                  <a:pt x="14676" y="5664"/>
                  <a:pt x="14684" y="5680"/>
                </a:cubicBezTo>
              </a:path>
              <a:path w="894" h="1861">
                <a:moveTo>
                  <a:pt x="15007" y="4043"/>
                </a:moveTo>
                <a:cubicBezTo>
                  <a:pt x="14982" y="4043"/>
                  <a:pt x="14974" y="4043"/>
                  <a:pt x="14957" y="4043"/>
                </a:cubicBezTo>
                <a:cubicBezTo>
                  <a:pt x="14957" y="3991"/>
                  <a:pt x="14952" y="3991"/>
                  <a:pt x="14982" y="3969"/>
                </a:cubicBezTo>
                <a:cubicBezTo>
                  <a:pt x="15026" y="3936"/>
                  <a:pt x="15024" y="3919"/>
                  <a:pt x="15081" y="3919"/>
                </a:cubicBezTo>
                <a:cubicBezTo>
                  <a:pt x="15140" y="3919"/>
                  <a:pt x="15190" y="3953"/>
                  <a:pt x="15205" y="4018"/>
                </a:cubicBezTo>
                <a:cubicBezTo>
                  <a:pt x="15219" y="4079"/>
                  <a:pt x="15205" y="4144"/>
                  <a:pt x="15180" y="4192"/>
                </a:cubicBezTo>
                <a:cubicBezTo>
                  <a:pt x="15156" y="4238"/>
                  <a:pt x="15156" y="4246"/>
                  <a:pt x="15156" y="4291"/>
                </a:cubicBezTo>
                <a:cubicBezTo>
                  <a:pt x="15200" y="4291"/>
                  <a:pt x="15241" y="4281"/>
                  <a:pt x="15280" y="4266"/>
                </a:cubicBezTo>
                <a:cubicBezTo>
                  <a:pt x="15328" y="4247"/>
                  <a:pt x="15366" y="4246"/>
                  <a:pt x="15404" y="4217"/>
                </a:cubicBezTo>
              </a:path>
              <a:path w="894" h="1861">
                <a:moveTo>
                  <a:pt x="14759" y="5234"/>
                </a:moveTo>
                <a:cubicBezTo>
                  <a:pt x="14751" y="5234"/>
                  <a:pt x="14742" y="5234"/>
                  <a:pt x="14734" y="5234"/>
                </a:cubicBezTo>
                <a:cubicBezTo>
                  <a:pt x="14788" y="5234"/>
                  <a:pt x="14816" y="5250"/>
                  <a:pt x="14858" y="5259"/>
                </a:cubicBezTo>
                <a:cubicBezTo>
                  <a:pt x="14899" y="5259"/>
                  <a:pt x="14907" y="5259"/>
                  <a:pt x="14932" y="5259"/>
                </a:cubicBezTo>
              </a:path>
              <a:path w="894" h="1861">
                <a:moveTo>
                  <a:pt x="15354" y="5060"/>
                </a:moveTo>
                <a:cubicBezTo>
                  <a:pt x="15394" y="5050"/>
                  <a:pt x="15418" y="5042"/>
                  <a:pt x="15429" y="5011"/>
                </a:cubicBezTo>
                <a:cubicBezTo>
                  <a:pt x="15375" y="5011"/>
                  <a:pt x="15392" y="4999"/>
                  <a:pt x="15354" y="4986"/>
                </a:cubicBezTo>
                <a:cubicBezTo>
                  <a:pt x="15328" y="5012"/>
                  <a:pt x="15270" y="5051"/>
                  <a:pt x="15255" y="5085"/>
                </a:cubicBezTo>
                <a:cubicBezTo>
                  <a:pt x="15242" y="5114"/>
                  <a:pt x="15300" y="5172"/>
                  <a:pt x="15329" y="5159"/>
                </a:cubicBezTo>
                <a:cubicBezTo>
                  <a:pt x="15377" y="5139"/>
                  <a:pt x="15402" y="5053"/>
                  <a:pt x="15429" y="5035"/>
                </a:cubicBezTo>
                <a:cubicBezTo>
                  <a:pt x="15437" y="5035"/>
                  <a:pt x="15445" y="5035"/>
                  <a:pt x="15453" y="5035"/>
                </a:cubicBezTo>
                <a:cubicBezTo>
                  <a:pt x="15453" y="5101"/>
                  <a:pt x="15474" y="5145"/>
                  <a:pt x="15478" y="5209"/>
                </a:cubicBezTo>
                <a:cubicBezTo>
                  <a:pt x="15478" y="5250"/>
                  <a:pt x="15478" y="5258"/>
                  <a:pt x="15478" y="528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76920" y="1330200"/>
            <a:ext cx="223920" cy="662040"/>
          </a:xfrm>
          <a:custGeom>
            <a:avLst/>
            <a:gdLst/>
            <a:ahLst/>
            <a:rect l="l" t="t" r="r" b="b"/>
            <a:pathLst>
              <a:path w="621" h="1836">
                <a:moveTo>
                  <a:pt x="16594" y="3746"/>
                </a:moveTo>
                <a:cubicBezTo>
                  <a:pt x="16594" y="3721"/>
                  <a:pt x="16594" y="3713"/>
                  <a:pt x="16594" y="3696"/>
                </a:cubicBezTo>
                <a:cubicBezTo>
                  <a:pt x="16608" y="3720"/>
                  <a:pt x="16617" y="3718"/>
                  <a:pt x="16619" y="3770"/>
                </a:cubicBezTo>
                <a:cubicBezTo>
                  <a:pt x="16639" y="4217"/>
                  <a:pt x="16599" y="4667"/>
                  <a:pt x="16644" y="5110"/>
                </a:cubicBezTo>
                <a:cubicBezTo>
                  <a:pt x="16657" y="5236"/>
                  <a:pt x="16652" y="5358"/>
                  <a:pt x="16669" y="5482"/>
                </a:cubicBezTo>
                <a:cubicBezTo>
                  <a:pt x="16669" y="5498"/>
                  <a:pt x="16669" y="5515"/>
                  <a:pt x="16669" y="5531"/>
                </a:cubicBezTo>
              </a:path>
              <a:path w="621" h="1836">
                <a:moveTo>
                  <a:pt x="16272" y="3870"/>
                </a:moveTo>
                <a:cubicBezTo>
                  <a:pt x="16272" y="3845"/>
                  <a:pt x="16272" y="3837"/>
                  <a:pt x="16272" y="3820"/>
                </a:cubicBezTo>
                <a:cubicBezTo>
                  <a:pt x="16239" y="3853"/>
                  <a:pt x="16218" y="3881"/>
                  <a:pt x="16197" y="3919"/>
                </a:cubicBezTo>
                <a:cubicBezTo>
                  <a:pt x="16170" y="3967"/>
                  <a:pt x="16139" y="4040"/>
                  <a:pt x="16123" y="4093"/>
                </a:cubicBezTo>
                <a:cubicBezTo>
                  <a:pt x="16111" y="4131"/>
                  <a:pt x="16107" y="4271"/>
                  <a:pt x="16148" y="4291"/>
                </a:cubicBezTo>
                <a:cubicBezTo>
                  <a:pt x="16203" y="4318"/>
                  <a:pt x="16196" y="4308"/>
                  <a:pt x="16247" y="4291"/>
                </a:cubicBezTo>
                <a:cubicBezTo>
                  <a:pt x="16324" y="4265"/>
                  <a:pt x="16271" y="4257"/>
                  <a:pt x="16297" y="4192"/>
                </a:cubicBezTo>
                <a:cubicBezTo>
                  <a:pt x="16319" y="4169"/>
                  <a:pt x="16327" y="4164"/>
                  <a:pt x="16321" y="4142"/>
                </a:cubicBezTo>
                <a:cubicBezTo>
                  <a:pt x="16294" y="4135"/>
                  <a:pt x="16254" y="4101"/>
                  <a:pt x="16222" y="4118"/>
                </a:cubicBezTo>
                <a:cubicBezTo>
                  <a:pt x="16214" y="4126"/>
                  <a:pt x="16205" y="4134"/>
                  <a:pt x="16197" y="4142"/>
                </a:cubicBezTo>
              </a:path>
              <a:path w="621" h="1836">
                <a:moveTo>
                  <a:pt x="16098" y="5110"/>
                </a:moveTo>
                <a:cubicBezTo>
                  <a:pt x="16060" y="5097"/>
                  <a:pt x="16073" y="5080"/>
                  <a:pt x="16073" y="5035"/>
                </a:cubicBezTo>
                <a:cubicBezTo>
                  <a:pt x="16073" y="4992"/>
                  <a:pt x="16080" y="4986"/>
                  <a:pt x="16098" y="4961"/>
                </a:cubicBezTo>
                <a:cubicBezTo>
                  <a:pt x="16125" y="4925"/>
                  <a:pt x="16157" y="4936"/>
                  <a:pt x="16197" y="4936"/>
                </a:cubicBezTo>
                <a:cubicBezTo>
                  <a:pt x="16211" y="4936"/>
                  <a:pt x="16265" y="4986"/>
                  <a:pt x="16272" y="5011"/>
                </a:cubicBezTo>
                <a:cubicBezTo>
                  <a:pt x="16287" y="5061"/>
                  <a:pt x="16276" y="5141"/>
                  <a:pt x="16247" y="5184"/>
                </a:cubicBezTo>
                <a:cubicBezTo>
                  <a:pt x="16218" y="5227"/>
                  <a:pt x="16172" y="5254"/>
                  <a:pt x="16123" y="5259"/>
                </a:cubicBezTo>
                <a:cubicBezTo>
                  <a:pt x="16081" y="5263"/>
                  <a:pt x="16052" y="5221"/>
                  <a:pt x="16049" y="5184"/>
                </a:cubicBezTo>
                <a:cubicBezTo>
                  <a:pt x="16049" y="5168"/>
                  <a:pt x="16049" y="5151"/>
                  <a:pt x="16049" y="513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76960" y="1562040"/>
            <a:ext cx="152280" cy="162000"/>
          </a:xfrm>
          <a:custGeom>
            <a:avLst/>
            <a:gdLst/>
            <a:ahLst/>
            <a:rect l="l" t="t" r="r" b="b"/>
            <a:pathLst>
              <a:path w="422" h="447">
                <a:moveTo>
                  <a:pt x="17760" y="4614"/>
                </a:moveTo>
                <a:cubicBezTo>
                  <a:pt x="17773" y="4621"/>
                  <a:pt x="17881" y="4696"/>
                  <a:pt x="17835" y="4663"/>
                </a:cubicBezTo>
                <a:cubicBezTo>
                  <a:pt x="17791" y="4631"/>
                  <a:pt x="17770" y="4638"/>
                  <a:pt x="17711" y="4638"/>
                </a:cubicBezTo>
                <a:cubicBezTo>
                  <a:pt x="17637" y="4638"/>
                  <a:pt x="17582" y="4618"/>
                  <a:pt x="17512" y="4614"/>
                </a:cubicBezTo>
                <a:cubicBezTo>
                  <a:pt x="17455" y="4611"/>
                  <a:pt x="17451" y="4631"/>
                  <a:pt x="17438" y="4589"/>
                </a:cubicBezTo>
              </a:path>
              <a:path w="422" h="447">
                <a:moveTo>
                  <a:pt x="17686" y="4341"/>
                </a:moveTo>
                <a:cubicBezTo>
                  <a:pt x="17686" y="4490"/>
                  <a:pt x="17686" y="4638"/>
                  <a:pt x="17686" y="478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61080" y="1527120"/>
            <a:ext cx="117720" cy="17928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18579" y="4291"/>
                </a:moveTo>
                <a:cubicBezTo>
                  <a:pt x="18547" y="4334"/>
                  <a:pt x="18560" y="4341"/>
                  <a:pt x="18504" y="4341"/>
                </a:cubicBezTo>
                <a:cubicBezTo>
                  <a:pt x="18511" y="4313"/>
                  <a:pt x="18543" y="4252"/>
                  <a:pt x="18579" y="4242"/>
                </a:cubicBezTo>
                <a:cubicBezTo>
                  <a:pt x="18630" y="4228"/>
                  <a:pt x="18714" y="4236"/>
                  <a:pt x="18752" y="4266"/>
                </a:cubicBezTo>
                <a:cubicBezTo>
                  <a:pt x="18778" y="4287"/>
                  <a:pt x="18834" y="4377"/>
                  <a:pt x="18802" y="4415"/>
                </a:cubicBezTo>
                <a:cubicBezTo>
                  <a:pt x="18765" y="4459"/>
                  <a:pt x="18684" y="4464"/>
                  <a:pt x="18653" y="4490"/>
                </a:cubicBezTo>
                <a:cubicBezTo>
                  <a:pt x="18653" y="4498"/>
                  <a:pt x="18653" y="4506"/>
                  <a:pt x="18653" y="4514"/>
                </a:cubicBezTo>
                <a:cubicBezTo>
                  <a:pt x="18673" y="4554"/>
                  <a:pt x="18725" y="4576"/>
                  <a:pt x="18777" y="4589"/>
                </a:cubicBezTo>
                <a:cubicBezTo>
                  <a:pt x="18807" y="4596"/>
                  <a:pt x="18852" y="4619"/>
                  <a:pt x="18827" y="4663"/>
                </a:cubicBezTo>
                <a:cubicBezTo>
                  <a:pt x="18797" y="4717"/>
                  <a:pt x="18706" y="4735"/>
                  <a:pt x="18653" y="4738"/>
                </a:cubicBezTo>
                <a:cubicBezTo>
                  <a:pt x="18609" y="4738"/>
                  <a:pt x="18595" y="4741"/>
                  <a:pt x="18579" y="471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29280" y="1320840"/>
            <a:ext cx="330480" cy="573120"/>
          </a:xfrm>
          <a:custGeom>
            <a:avLst/>
            <a:gdLst/>
            <a:ahLst/>
            <a:rect l="l" t="t" r="r" b="b"/>
            <a:pathLst>
              <a:path w="919" h="1589">
                <a:moveTo>
                  <a:pt x="19248" y="3671"/>
                </a:moveTo>
                <a:cubicBezTo>
                  <a:pt x="19298" y="3683"/>
                  <a:pt x="19298" y="3695"/>
                  <a:pt x="19298" y="3746"/>
                </a:cubicBezTo>
                <a:cubicBezTo>
                  <a:pt x="19298" y="3850"/>
                  <a:pt x="19284" y="3943"/>
                  <a:pt x="19273" y="4043"/>
                </a:cubicBezTo>
                <a:cubicBezTo>
                  <a:pt x="19260" y="4164"/>
                  <a:pt x="19257" y="4295"/>
                  <a:pt x="19248" y="4415"/>
                </a:cubicBezTo>
                <a:cubicBezTo>
                  <a:pt x="19227" y="4693"/>
                  <a:pt x="19248" y="4980"/>
                  <a:pt x="19248" y="5259"/>
                </a:cubicBezTo>
              </a:path>
              <a:path w="919" h="1589">
                <a:moveTo>
                  <a:pt x="19670" y="3870"/>
                </a:moveTo>
                <a:cubicBezTo>
                  <a:pt x="19624" y="3870"/>
                  <a:pt x="19602" y="3871"/>
                  <a:pt x="19596" y="3820"/>
                </a:cubicBezTo>
                <a:cubicBezTo>
                  <a:pt x="19593" y="3790"/>
                  <a:pt x="19639" y="3772"/>
                  <a:pt x="19670" y="3770"/>
                </a:cubicBezTo>
                <a:cubicBezTo>
                  <a:pt x="19715" y="3767"/>
                  <a:pt x="19790" y="3753"/>
                  <a:pt x="19819" y="3795"/>
                </a:cubicBezTo>
                <a:cubicBezTo>
                  <a:pt x="19865" y="3861"/>
                  <a:pt x="19840" y="3934"/>
                  <a:pt x="19794" y="3994"/>
                </a:cubicBezTo>
                <a:cubicBezTo>
                  <a:pt x="19744" y="4059"/>
                  <a:pt x="19682" y="4096"/>
                  <a:pt x="19670" y="4167"/>
                </a:cubicBezTo>
                <a:cubicBezTo>
                  <a:pt x="19670" y="4175"/>
                  <a:pt x="19670" y="4184"/>
                  <a:pt x="19670" y="4192"/>
                </a:cubicBezTo>
                <a:cubicBezTo>
                  <a:pt x="19727" y="4192"/>
                  <a:pt x="19792" y="4185"/>
                  <a:pt x="19844" y="4167"/>
                </a:cubicBezTo>
                <a:cubicBezTo>
                  <a:pt x="19909" y="4145"/>
                  <a:pt x="19899" y="4142"/>
                  <a:pt x="19968" y="4142"/>
                </a:cubicBezTo>
              </a:path>
              <a:path w="919" h="1589">
                <a:moveTo>
                  <a:pt x="19596" y="4911"/>
                </a:moveTo>
                <a:cubicBezTo>
                  <a:pt x="19662" y="4911"/>
                  <a:pt x="19728" y="4911"/>
                  <a:pt x="19794" y="4911"/>
                </a:cubicBezTo>
              </a:path>
              <a:path w="919" h="1589">
                <a:moveTo>
                  <a:pt x="20117" y="4738"/>
                </a:moveTo>
                <a:cubicBezTo>
                  <a:pt x="20145" y="4738"/>
                  <a:pt x="20155" y="4735"/>
                  <a:pt x="20166" y="4713"/>
                </a:cubicBezTo>
                <a:cubicBezTo>
                  <a:pt x="20122" y="4680"/>
                  <a:pt x="20100" y="4688"/>
                  <a:pt x="20042" y="4688"/>
                </a:cubicBezTo>
                <a:cubicBezTo>
                  <a:pt x="20001" y="4688"/>
                  <a:pt x="19971" y="4723"/>
                  <a:pt x="19968" y="4762"/>
                </a:cubicBezTo>
                <a:cubicBezTo>
                  <a:pt x="19964" y="4815"/>
                  <a:pt x="19958" y="4855"/>
                  <a:pt x="20017" y="4862"/>
                </a:cubicBezTo>
                <a:cubicBezTo>
                  <a:pt x="20081" y="4869"/>
                  <a:pt x="20071" y="4796"/>
                  <a:pt x="20092" y="4762"/>
                </a:cubicBezTo>
                <a:cubicBezTo>
                  <a:pt x="20100" y="4754"/>
                  <a:pt x="20109" y="4746"/>
                  <a:pt x="20117" y="4738"/>
                </a:cubicBezTo>
                <a:cubicBezTo>
                  <a:pt x="20159" y="4752"/>
                  <a:pt x="20163" y="4809"/>
                  <a:pt x="20166" y="4862"/>
                </a:cubicBezTo>
                <a:cubicBezTo>
                  <a:pt x="20169" y="4911"/>
                  <a:pt x="20166" y="4962"/>
                  <a:pt x="20166" y="501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12040" y="1347840"/>
            <a:ext cx="160200" cy="465120"/>
          </a:xfrm>
          <a:custGeom>
            <a:avLst/>
            <a:gdLst/>
            <a:ahLst/>
            <a:rect l="l" t="t" r="r" b="b"/>
            <a:pathLst>
              <a:path w="447" h="1290">
                <a:moveTo>
                  <a:pt x="20613" y="3994"/>
                </a:moveTo>
                <a:cubicBezTo>
                  <a:pt x="20605" y="4002"/>
                  <a:pt x="20596" y="4010"/>
                  <a:pt x="20588" y="4018"/>
                </a:cubicBezTo>
                <a:cubicBezTo>
                  <a:pt x="20630" y="3988"/>
                  <a:pt x="20657" y="3994"/>
                  <a:pt x="20712" y="3994"/>
                </a:cubicBezTo>
                <a:cubicBezTo>
                  <a:pt x="20737" y="3994"/>
                  <a:pt x="20761" y="3994"/>
                  <a:pt x="20786" y="3994"/>
                </a:cubicBezTo>
              </a:path>
              <a:path w="447" h="1290">
                <a:moveTo>
                  <a:pt x="21010" y="3770"/>
                </a:moveTo>
                <a:cubicBezTo>
                  <a:pt x="21018" y="3762"/>
                  <a:pt x="21026" y="3754"/>
                  <a:pt x="21034" y="3746"/>
                </a:cubicBezTo>
                <a:cubicBezTo>
                  <a:pt x="21034" y="3862"/>
                  <a:pt x="21034" y="3977"/>
                  <a:pt x="21034" y="4093"/>
                </a:cubicBezTo>
              </a:path>
              <a:path w="447" h="1290">
                <a:moveTo>
                  <a:pt x="20786" y="4738"/>
                </a:moveTo>
                <a:cubicBezTo>
                  <a:pt x="20770" y="4738"/>
                  <a:pt x="20753" y="4738"/>
                  <a:pt x="20737" y="4738"/>
                </a:cubicBezTo>
                <a:cubicBezTo>
                  <a:pt x="20747" y="4699"/>
                  <a:pt x="20774" y="4675"/>
                  <a:pt x="20786" y="4638"/>
                </a:cubicBezTo>
                <a:cubicBezTo>
                  <a:pt x="20801" y="4591"/>
                  <a:pt x="20839" y="4614"/>
                  <a:pt x="20861" y="4638"/>
                </a:cubicBezTo>
                <a:cubicBezTo>
                  <a:pt x="20890" y="4671"/>
                  <a:pt x="20904" y="4742"/>
                  <a:pt x="20886" y="4787"/>
                </a:cubicBezTo>
                <a:cubicBezTo>
                  <a:pt x="20859" y="4855"/>
                  <a:pt x="20785" y="4914"/>
                  <a:pt x="20762" y="4986"/>
                </a:cubicBezTo>
                <a:cubicBezTo>
                  <a:pt x="20762" y="5011"/>
                  <a:pt x="20762" y="5019"/>
                  <a:pt x="20762" y="5035"/>
                </a:cubicBezTo>
                <a:cubicBezTo>
                  <a:pt x="20841" y="5035"/>
                  <a:pt x="20811" y="5012"/>
                  <a:pt x="20886" y="4986"/>
                </a:cubicBezTo>
                <a:cubicBezTo>
                  <a:pt x="20925" y="4972"/>
                  <a:pt x="20966" y="4961"/>
                  <a:pt x="21010" y="4961"/>
                </a:cubicBezTo>
                <a:cubicBezTo>
                  <a:pt x="21018" y="4961"/>
                  <a:pt x="21026" y="4961"/>
                  <a:pt x="21034" y="496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42160" y="1268280"/>
            <a:ext cx="36720" cy="704880"/>
          </a:xfrm>
          <a:custGeom>
            <a:avLst/>
            <a:gdLst/>
            <a:ahLst/>
            <a:rect l="l" t="t" r="r" b="b"/>
            <a:pathLst>
              <a:path w="100" h="1961">
                <a:moveTo>
                  <a:pt x="21580" y="3522"/>
                </a:moveTo>
                <a:cubicBezTo>
                  <a:pt x="21598" y="3553"/>
                  <a:pt x="21602" y="3549"/>
                  <a:pt x="21605" y="3597"/>
                </a:cubicBezTo>
                <a:cubicBezTo>
                  <a:pt x="21614" y="3749"/>
                  <a:pt x="21596" y="3896"/>
                  <a:pt x="21580" y="4043"/>
                </a:cubicBezTo>
                <a:cubicBezTo>
                  <a:pt x="21560" y="4222"/>
                  <a:pt x="21570" y="4411"/>
                  <a:pt x="21555" y="4589"/>
                </a:cubicBezTo>
                <a:cubicBezTo>
                  <a:pt x="21544" y="4721"/>
                  <a:pt x="21541" y="4856"/>
                  <a:pt x="21530" y="4986"/>
                </a:cubicBezTo>
                <a:cubicBezTo>
                  <a:pt x="21521" y="5094"/>
                  <a:pt x="21506" y="5199"/>
                  <a:pt x="21506" y="5308"/>
                </a:cubicBezTo>
                <a:cubicBezTo>
                  <a:pt x="21506" y="5381"/>
                  <a:pt x="21515" y="5415"/>
                  <a:pt x="21530" y="548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08200" y="256212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7466" y="7119"/>
                </a:moveTo>
                <a:cubicBezTo>
                  <a:pt x="7474" y="7119"/>
                  <a:pt x="7483" y="7119"/>
                  <a:pt x="7491" y="7119"/>
                </a:cubicBezTo>
                <a:cubicBezTo>
                  <a:pt x="7477" y="7161"/>
                  <a:pt x="7443" y="7144"/>
                  <a:pt x="7392" y="7144"/>
                </a:cubicBezTo>
                <a:cubicBezTo>
                  <a:pt x="7342" y="7144"/>
                  <a:pt x="7293" y="7144"/>
                  <a:pt x="7243" y="7144"/>
                </a:cubicBezTo>
              </a:path>
              <a:path w="249" h="224">
                <a:moveTo>
                  <a:pt x="7441" y="7293"/>
                </a:moveTo>
                <a:cubicBezTo>
                  <a:pt x="7464" y="7315"/>
                  <a:pt x="7472" y="7320"/>
                  <a:pt x="7466" y="7342"/>
                </a:cubicBezTo>
                <a:cubicBezTo>
                  <a:pt x="7416" y="7342"/>
                  <a:pt x="7367" y="7342"/>
                  <a:pt x="7317" y="734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55960" y="2446200"/>
            <a:ext cx="27000" cy="189000"/>
          </a:xfrm>
          <a:custGeom>
            <a:avLst/>
            <a:gdLst/>
            <a:ahLst/>
            <a:rect l="l" t="t" r="r" b="b"/>
            <a:pathLst>
              <a:path w="76" h="522">
                <a:moveTo>
                  <a:pt x="8210" y="6846"/>
                </a:moveTo>
                <a:cubicBezTo>
                  <a:pt x="8210" y="6821"/>
                  <a:pt x="8210" y="6813"/>
                  <a:pt x="8210" y="6796"/>
                </a:cubicBezTo>
                <a:cubicBezTo>
                  <a:pt x="8242" y="6850"/>
                  <a:pt x="8254" y="6953"/>
                  <a:pt x="8260" y="7020"/>
                </a:cubicBezTo>
                <a:cubicBezTo>
                  <a:pt x="8270" y="7121"/>
                  <a:pt x="8285" y="7214"/>
                  <a:pt x="8285" y="731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87800" y="2490840"/>
            <a:ext cx="71280" cy="98280"/>
          </a:xfrm>
          <a:custGeom>
            <a:avLst/>
            <a:gdLst/>
            <a:ahLst/>
            <a:rect l="l" t="t" r="r" b="b"/>
            <a:pathLst>
              <a:path w="200" h="273">
                <a:moveTo>
                  <a:pt x="9004" y="6945"/>
                </a:moveTo>
                <a:cubicBezTo>
                  <a:pt x="9004" y="6921"/>
                  <a:pt x="9004" y="6913"/>
                  <a:pt x="9029" y="6921"/>
                </a:cubicBezTo>
                <a:cubicBezTo>
                  <a:pt x="8976" y="6921"/>
                  <a:pt x="8968" y="6932"/>
                  <a:pt x="8930" y="6970"/>
                </a:cubicBezTo>
                <a:cubicBezTo>
                  <a:pt x="8896" y="7004"/>
                  <a:pt x="8903" y="7056"/>
                  <a:pt x="8880" y="7094"/>
                </a:cubicBezTo>
                <a:cubicBezTo>
                  <a:pt x="8857" y="7132"/>
                  <a:pt x="8855" y="7123"/>
                  <a:pt x="8855" y="7169"/>
                </a:cubicBezTo>
              </a:path>
              <a:path w="200" h="273">
                <a:moveTo>
                  <a:pt x="9029" y="7193"/>
                </a:moveTo>
                <a:cubicBezTo>
                  <a:pt x="9037" y="7193"/>
                  <a:pt x="9046" y="7193"/>
                  <a:pt x="9054" y="7193"/>
                </a:cubicBezTo>
                <a:cubicBezTo>
                  <a:pt x="9041" y="7141"/>
                  <a:pt x="8994" y="7109"/>
                  <a:pt x="8954" y="7069"/>
                </a:cubicBezTo>
                <a:cubicBezTo>
                  <a:pt x="8921" y="7036"/>
                  <a:pt x="8888" y="7003"/>
                  <a:pt x="8855" y="697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394080" y="2384280"/>
            <a:ext cx="411120" cy="160560"/>
          </a:xfrm>
          <a:custGeom>
            <a:avLst/>
            <a:gdLst/>
            <a:ahLst/>
            <a:rect l="l" t="t" r="r" b="b"/>
            <a:pathLst>
              <a:path w="1142" h="447">
                <a:moveTo>
                  <a:pt x="9451" y="6970"/>
                </a:moveTo>
                <a:cubicBezTo>
                  <a:pt x="9443" y="6962"/>
                  <a:pt x="9434" y="6953"/>
                  <a:pt x="9426" y="6945"/>
                </a:cubicBezTo>
                <a:cubicBezTo>
                  <a:pt x="9465" y="6936"/>
                  <a:pt x="9481" y="6921"/>
                  <a:pt x="9525" y="6921"/>
                </a:cubicBezTo>
                <a:cubicBezTo>
                  <a:pt x="9569" y="6921"/>
                  <a:pt x="9587" y="6909"/>
                  <a:pt x="9599" y="6945"/>
                </a:cubicBezTo>
              </a:path>
              <a:path w="1142" h="447">
                <a:moveTo>
                  <a:pt x="9773" y="6821"/>
                </a:moveTo>
                <a:cubicBezTo>
                  <a:pt x="9793" y="6761"/>
                  <a:pt x="9792" y="6746"/>
                  <a:pt x="9823" y="6722"/>
                </a:cubicBezTo>
                <a:cubicBezTo>
                  <a:pt x="9860" y="6774"/>
                  <a:pt x="9847" y="6830"/>
                  <a:pt x="9847" y="6896"/>
                </a:cubicBezTo>
                <a:cubicBezTo>
                  <a:pt x="9847" y="6962"/>
                  <a:pt x="9847" y="6979"/>
                  <a:pt x="9847" y="7020"/>
                </a:cubicBezTo>
              </a:path>
              <a:path w="1142" h="447">
                <a:moveTo>
                  <a:pt x="10145" y="6896"/>
                </a:moveTo>
                <a:cubicBezTo>
                  <a:pt x="10116" y="6858"/>
                  <a:pt x="10120" y="6845"/>
                  <a:pt x="10120" y="6796"/>
                </a:cubicBezTo>
                <a:cubicBezTo>
                  <a:pt x="10120" y="6745"/>
                  <a:pt x="10150" y="6680"/>
                  <a:pt x="10195" y="6648"/>
                </a:cubicBezTo>
                <a:cubicBezTo>
                  <a:pt x="10270" y="6594"/>
                  <a:pt x="10301" y="6619"/>
                  <a:pt x="10344" y="6672"/>
                </a:cubicBezTo>
                <a:cubicBezTo>
                  <a:pt x="10396" y="6736"/>
                  <a:pt x="10351" y="6803"/>
                  <a:pt x="10319" y="6871"/>
                </a:cubicBezTo>
                <a:cubicBezTo>
                  <a:pt x="10278" y="6958"/>
                  <a:pt x="10244" y="6968"/>
                  <a:pt x="10244" y="7069"/>
                </a:cubicBezTo>
                <a:cubicBezTo>
                  <a:pt x="10305" y="7069"/>
                  <a:pt x="10390" y="7068"/>
                  <a:pt x="10443" y="7045"/>
                </a:cubicBezTo>
                <a:cubicBezTo>
                  <a:pt x="10484" y="7028"/>
                  <a:pt x="10520" y="7013"/>
                  <a:pt x="10567" y="699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71960" y="2438280"/>
            <a:ext cx="98280" cy="7920"/>
          </a:xfrm>
          <a:custGeom>
            <a:avLst/>
            <a:gdLst/>
            <a:ahLst/>
            <a:rect l="l" t="t" r="r" b="b"/>
            <a:pathLst>
              <a:path w="274" h="25">
                <a:moveTo>
                  <a:pt x="11311" y="6796"/>
                </a:moveTo>
                <a:cubicBezTo>
                  <a:pt x="11393" y="6796"/>
                  <a:pt x="11464" y="6795"/>
                  <a:pt x="11534" y="6772"/>
                </a:cubicBezTo>
                <a:cubicBezTo>
                  <a:pt x="11559" y="6772"/>
                  <a:pt x="11567" y="6772"/>
                  <a:pt x="11584" y="677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38800" y="2330280"/>
            <a:ext cx="1332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2328" y="6548"/>
                </a:moveTo>
                <a:cubicBezTo>
                  <a:pt x="12351" y="6526"/>
                  <a:pt x="12356" y="6518"/>
                  <a:pt x="12378" y="6524"/>
                </a:cubicBezTo>
                <a:cubicBezTo>
                  <a:pt x="12337" y="6537"/>
                  <a:pt x="12353" y="6572"/>
                  <a:pt x="12353" y="6623"/>
                </a:cubicBezTo>
                <a:cubicBezTo>
                  <a:pt x="12353" y="6668"/>
                  <a:pt x="12351" y="6691"/>
                  <a:pt x="12402" y="6697"/>
                </a:cubicBezTo>
                <a:cubicBezTo>
                  <a:pt x="12485" y="6706"/>
                  <a:pt x="12548" y="6687"/>
                  <a:pt x="12626" y="6722"/>
                </a:cubicBezTo>
                <a:cubicBezTo>
                  <a:pt x="12685" y="6748"/>
                  <a:pt x="12723" y="6803"/>
                  <a:pt x="12700" y="6871"/>
                </a:cubicBezTo>
                <a:cubicBezTo>
                  <a:pt x="12674" y="6950"/>
                  <a:pt x="12620" y="6945"/>
                  <a:pt x="12551" y="6945"/>
                </a:cubicBezTo>
                <a:cubicBezTo>
                  <a:pt x="12502" y="6945"/>
                  <a:pt x="12485" y="6945"/>
                  <a:pt x="12452" y="6945"/>
                </a:cubicBezTo>
              </a:path>
              <a:path w="373" h="472">
                <a:moveTo>
                  <a:pt x="12626" y="6573"/>
                </a:moveTo>
                <a:cubicBezTo>
                  <a:pt x="12667" y="6532"/>
                  <a:pt x="12688" y="6522"/>
                  <a:pt x="12700" y="6474"/>
                </a:cubicBezTo>
                <a:cubicBezTo>
                  <a:pt x="12648" y="6474"/>
                  <a:pt x="12571" y="6478"/>
                  <a:pt x="12526" y="6499"/>
                </a:cubicBezTo>
                <a:cubicBezTo>
                  <a:pt x="12518" y="6507"/>
                  <a:pt x="12510" y="6516"/>
                  <a:pt x="12502" y="652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2367000"/>
            <a:ext cx="88920" cy="792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3295" y="6623"/>
                </a:moveTo>
                <a:cubicBezTo>
                  <a:pt x="13303" y="6623"/>
                  <a:pt x="13312" y="6623"/>
                  <a:pt x="13320" y="6623"/>
                </a:cubicBezTo>
                <a:cubicBezTo>
                  <a:pt x="13304" y="6574"/>
                  <a:pt x="13251" y="6606"/>
                  <a:pt x="13221" y="6648"/>
                </a:cubicBezTo>
                <a:cubicBezTo>
                  <a:pt x="13188" y="6694"/>
                  <a:pt x="13162" y="6731"/>
                  <a:pt x="13122" y="6772"/>
                </a:cubicBezTo>
              </a:path>
              <a:path w="249" h="224">
                <a:moveTo>
                  <a:pt x="13345" y="6796"/>
                </a:moveTo>
                <a:cubicBezTo>
                  <a:pt x="13353" y="6796"/>
                  <a:pt x="13362" y="6796"/>
                  <a:pt x="13370" y="6796"/>
                </a:cubicBezTo>
                <a:cubicBezTo>
                  <a:pt x="13370" y="6754"/>
                  <a:pt x="13356" y="6726"/>
                  <a:pt x="13320" y="6697"/>
                </a:cubicBezTo>
                <a:cubicBezTo>
                  <a:pt x="13259" y="6649"/>
                  <a:pt x="13192" y="6609"/>
                  <a:pt x="13122" y="657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56120" y="2286000"/>
            <a:ext cx="347760" cy="187200"/>
          </a:xfrm>
          <a:custGeom>
            <a:avLst/>
            <a:gdLst/>
            <a:ahLst/>
            <a:rect l="l" t="t" r="r" b="b"/>
            <a:pathLst>
              <a:path w="968" h="522">
                <a:moveTo>
                  <a:pt x="13767" y="6424"/>
                </a:moveTo>
                <a:cubicBezTo>
                  <a:pt x="13792" y="6399"/>
                  <a:pt x="13816" y="6375"/>
                  <a:pt x="13841" y="6350"/>
                </a:cubicBezTo>
                <a:cubicBezTo>
                  <a:pt x="13812" y="6388"/>
                  <a:pt x="13816" y="6401"/>
                  <a:pt x="13816" y="6449"/>
                </a:cubicBezTo>
                <a:cubicBezTo>
                  <a:pt x="13816" y="6494"/>
                  <a:pt x="13814" y="6520"/>
                  <a:pt x="13866" y="6524"/>
                </a:cubicBezTo>
                <a:cubicBezTo>
                  <a:pt x="13911" y="6527"/>
                  <a:pt x="13987" y="6532"/>
                  <a:pt x="14015" y="6573"/>
                </a:cubicBezTo>
                <a:cubicBezTo>
                  <a:pt x="14030" y="6595"/>
                  <a:pt x="14055" y="6666"/>
                  <a:pt x="14039" y="6697"/>
                </a:cubicBezTo>
                <a:cubicBezTo>
                  <a:pt x="14010" y="6751"/>
                  <a:pt x="13968" y="6747"/>
                  <a:pt x="13915" y="6747"/>
                </a:cubicBezTo>
                <a:cubicBezTo>
                  <a:pt x="13871" y="6747"/>
                  <a:pt x="13857" y="6750"/>
                  <a:pt x="13841" y="6722"/>
                </a:cubicBezTo>
              </a:path>
              <a:path w="968" h="522">
                <a:moveTo>
                  <a:pt x="14064" y="6424"/>
                </a:moveTo>
                <a:cubicBezTo>
                  <a:pt x="14087" y="6402"/>
                  <a:pt x="14095" y="6397"/>
                  <a:pt x="14089" y="6375"/>
                </a:cubicBezTo>
                <a:cubicBezTo>
                  <a:pt x="14039" y="6375"/>
                  <a:pt x="13990" y="6375"/>
                  <a:pt x="13940" y="6375"/>
                </a:cubicBezTo>
              </a:path>
              <a:path w="968" h="522">
                <a:moveTo>
                  <a:pt x="14213" y="6375"/>
                </a:moveTo>
                <a:cubicBezTo>
                  <a:pt x="14247" y="6360"/>
                  <a:pt x="14310" y="6321"/>
                  <a:pt x="14337" y="6375"/>
                </a:cubicBezTo>
                <a:cubicBezTo>
                  <a:pt x="14364" y="6430"/>
                  <a:pt x="14319" y="6523"/>
                  <a:pt x="14312" y="6573"/>
                </a:cubicBezTo>
                <a:cubicBezTo>
                  <a:pt x="14307" y="6611"/>
                  <a:pt x="14293" y="6725"/>
                  <a:pt x="14337" y="6747"/>
                </a:cubicBezTo>
                <a:cubicBezTo>
                  <a:pt x="14383" y="6770"/>
                  <a:pt x="14454" y="6728"/>
                  <a:pt x="14486" y="6722"/>
                </a:cubicBezTo>
                <a:cubicBezTo>
                  <a:pt x="14534" y="6712"/>
                  <a:pt x="14595" y="6705"/>
                  <a:pt x="14635" y="6697"/>
                </a:cubicBezTo>
                <a:cubicBezTo>
                  <a:pt x="14663" y="6691"/>
                  <a:pt x="14704" y="6697"/>
                  <a:pt x="14734" y="6697"/>
                </a:cubicBezTo>
              </a:path>
              <a:path w="968" h="522">
                <a:moveTo>
                  <a:pt x="14610" y="6623"/>
                </a:moveTo>
                <a:cubicBezTo>
                  <a:pt x="14516" y="6596"/>
                  <a:pt x="14536" y="6631"/>
                  <a:pt x="14536" y="6722"/>
                </a:cubicBezTo>
                <a:cubicBezTo>
                  <a:pt x="14536" y="6777"/>
                  <a:pt x="14554" y="6817"/>
                  <a:pt x="14560" y="687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634000" y="2320920"/>
            <a:ext cx="117360" cy="9036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15925" y="6548"/>
                </a:moveTo>
                <a:cubicBezTo>
                  <a:pt x="15961" y="6576"/>
                  <a:pt x="15963" y="6565"/>
                  <a:pt x="15974" y="6598"/>
                </a:cubicBezTo>
                <a:cubicBezTo>
                  <a:pt x="15913" y="6586"/>
                  <a:pt x="15867" y="6573"/>
                  <a:pt x="15801" y="6573"/>
                </a:cubicBezTo>
                <a:cubicBezTo>
                  <a:pt x="15735" y="6573"/>
                  <a:pt x="15734" y="6530"/>
                  <a:pt x="15677" y="6524"/>
                </a:cubicBezTo>
                <a:cubicBezTo>
                  <a:pt x="15669" y="6524"/>
                  <a:pt x="15660" y="6524"/>
                  <a:pt x="15652" y="6524"/>
                </a:cubicBezTo>
              </a:path>
              <a:path w="323" h="249">
                <a:moveTo>
                  <a:pt x="15701" y="6449"/>
                </a:moveTo>
                <a:cubicBezTo>
                  <a:pt x="15726" y="6449"/>
                  <a:pt x="15734" y="6449"/>
                  <a:pt x="15751" y="6449"/>
                </a:cubicBezTo>
                <a:cubicBezTo>
                  <a:pt x="15751" y="6538"/>
                  <a:pt x="15745" y="6615"/>
                  <a:pt x="15776" y="669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38920" y="223200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6520" y="6400"/>
                </a:moveTo>
                <a:cubicBezTo>
                  <a:pt x="16481" y="6349"/>
                  <a:pt x="16500" y="6344"/>
                  <a:pt x="16545" y="6300"/>
                </a:cubicBezTo>
                <a:cubicBezTo>
                  <a:pt x="16586" y="6259"/>
                  <a:pt x="16635" y="6214"/>
                  <a:pt x="16694" y="6201"/>
                </a:cubicBezTo>
                <a:cubicBezTo>
                  <a:pt x="16738" y="6191"/>
                  <a:pt x="16828" y="6226"/>
                  <a:pt x="16842" y="6276"/>
                </a:cubicBezTo>
                <a:cubicBezTo>
                  <a:pt x="16868" y="6367"/>
                  <a:pt x="16827" y="6380"/>
                  <a:pt x="16768" y="6424"/>
                </a:cubicBezTo>
                <a:cubicBezTo>
                  <a:pt x="16734" y="6449"/>
                  <a:pt x="16702" y="6473"/>
                  <a:pt x="16669" y="6499"/>
                </a:cubicBezTo>
                <a:cubicBezTo>
                  <a:pt x="16679" y="6514"/>
                  <a:pt x="16753" y="6563"/>
                  <a:pt x="16793" y="6573"/>
                </a:cubicBezTo>
                <a:cubicBezTo>
                  <a:pt x="16836" y="6583"/>
                  <a:pt x="16935" y="6560"/>
                  <a:pt x="16966" y="6598"/>
                </a:cubicBezTo>
                <a:cubicBezTo>
                  <a:pt x="16966" y="6606"/>
                  <a:pt x="16966" y="6615"/>
                  <a:pt x="16966" y="6623"/>
                </a:cubicBezTo>
                <a:cubicBezTo>
                  <a:pt x="16907" y="6683"/>
                  <a:pt x="16880" y="6694"/>
                  <a:pt x="16793" y="6697"/>
                </a:cubicBezTo>
                <a:cubicBezTo>
                  <a:pt x="16727" y="6697"/>
                  <a:pt x="16710" y="6697"/>
                  <a:pt x="16669" y="669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86680" y="2276640"/>
            <a:ext cx="80640" cy="72720"/>
          </a:xfrm>
          <a:custGeom>
            <a:avLst/>
            <a:gdLst/>
            <a:ahLst/>
            <a:rect l="l" t="t" r="r" b="b"/>
            <a:pathLst>
              <a:path w="225" h="200">
                <a:moveTo>
                  <a:pt x="17562" y="6350"/>
                </a:moveTo>
                <a:cubicBezTo>
                  <a:pt x="17590" y="6350"/>
                  <a:pt x="17601" y="6348"/>
                  <a:pt x="17611" y="6325"/>
                </a:cubicBezTo>
                <a:cubicBezTo>
                  <a:pt x="17575" y="6353"/>
                  <a:pt x="17532" y="6375"/>
                  <a:pt x="17512" y="6424"/>
                </a:cubicBezTo>
                <a:cubicBezTo>
                  <a:pt x="17497" y="6462"/>
                  <a:pt x="17506" y="6463"/>
                  <a:pt x="17462" y="6474"/>
                </a:cubicBezTo>
              </a:path>
              <a:path w="225" h="200">
                <a:moveTo>
                  <a:pt x="17661" y="6524"/>
                </a:moveTo>
                <a:cubicBezTo>
                  <a:pt x="17669" y="6524"/>
                  <a:pt x="17678" y="6524"/>
                  <a:pt x="17686" y="6524"/>
                </a:cubicBezTo>
                <a:cubicBezTo>
                  <a:pt x="17686" y="6455"/>
                  <a:pt x="17671" y="6499"/>
                  <a:pt x="17636" y="6449"/>
                </a:cubicBezTo>
                <a:cubicBezTo>
                  <a:pt x="17603" y="6402"/>
                  <a:pt x="17582" y="6386"/>
                  <a:pt x="17537" y="635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89800" y="2143080"/>
            <a:ext cx="277560" cy="214200"/>
          </a:xfrm>
          <a:custGeom>
            <a:avLst/>
            <a:gdLst/>
            <a:ahLst/>
            <a:rect l="l" t="t" r="r" b="b"/>
            <a:pathLst>
              <a:path w="770" h="596">
                <a:moveTo>
                  <a:pt x="18306" y="6176"/>
                </a:moveTo>
                <a:cubicBezTo>
                  <a:pt x="18306" y="6152"/>
                  <a:pt x="18306" y="6143"/>
                  <a:pt x="18306" y="6127"/>
                </a:cubicBezTo>
                <a:cubicBezTo>
                  <a:pt x="18339" y="6171"/>
                  <a:pt x="18331" y="6193"/>
                  <a:pt x="18331" y="6251"/>
                </a:cubicBezTo>
                <a:cubicBezTo>
                  <a:pt x="18331" y="6309"/>
                  <a:pt x="18331" y="6366"/>
                  <a:pt x="18331" y="6424"/>
                </a:cubicBezTo>
              </a:path>
              <a:path w="770" h="596">
                <a:moveTo>
                  <a:pt x="18628" y="6176"/>
                </a:moveTo>
                <a:cubicBezTo>
                  <a:pt x="18577" y="6159"/>
                  <a:pt x="18622" y="6133"/>
                  <a:pt x="18653" y="6102"/>
                </a:cubicBezTo>
                <a:cubicBezTo>
                  <a:pt x="18711" y="6044"/>
                  <a:pt x="18745" y="6052"/>
                  <a:pt x="18827" y="6052"/>
                </a:cubicBezTo>
                <a:cubicBezTo>
                  <a:pt x="18915" y="6052"/>
                  <a:pt x="18941" y="6042"/>
                  <a:pt x="19000" y="6102"/>
                </a:cubicBezTo>
                <a:cubicBezTo>
                  <a:pt x="19074" y="6177"/>
                  <a:pt x="18989" y="6181"/>
                  <a:pt x="18951" y="6226"/>
                </a:cubicBezTo>
                <a:cubicBezTo>
                  <a:pt x="18897" y="6290"/>
                  <a:pt x="18868" y="6285"/>
                  <a:pt x="18802" y="6325"/>
                </a:cubicBezTo>
                <a:cubicBezTo>
                  <a:pt x="18819" y="6393"/>
                  <a:pt x="18844" y="6380"/>
                  <a:pt x="18901" y="6400"/>
                </a:cubicBezTo>
                <a:cubicBezTo>
                  <a:pt x="18964" y="6422"/>
                  <a:pt x="18996" y="6450"/>
                  <a:pt x="19050" y="6474"/>
                </a:cubicBezTo>
                <a:cubicBezTo>
                  <a:pt x="19075" y="6474"/>
                  <a:pt x="19083" y="6474"/>
                  <a:pt x="19075" y="6499"/>
                </a:cubicBezTo>
                <a:cubicBezTo>
                  <a:pt x="19015" y="6558"/>
                  <a:pt x="18988" y="6548"/>
                  <a:pt x="18901" y="6548"/>
                </a:cubicBezTo>
                <a:cubicBezTo>
                  <a:pt x="18852" y="6548"/>
                  <a:pt x="18835" y="6548"/>
                  <a:pt x="18802" y="6548"/>
                </a:cubicBezTo>
              </a:path>
              <a:path w="770" h="596">
                <a:moveTo>
                  <a:pt x="18901" y="6077"/>
                </a:moveTo>
                <a:cubicBezTo>
                  <a:pt x="18911" y="6106"/>
                  <a:pt x="18945" y="6114"/>
                  <a:pt x="18976" y="6152"/>
                </a:cubicBezTo>
                <a:cubicBezTo>
                  <a:pt x="18984" y="6160"/>
                  <a:pt x="18992" y="6168"/>
                  <a:pt x="19000" y="6176"/>
                </a:cubicBezTo>
                <a:cubicBezTo>
                  <a:pt x="18982" y="6251"/>
                  <a:pt x="18945" y="6142"/>
                  <a:pt x="18901" y="6077"/>
                </a:cubicBezTo>
                <a:cubicBezTo>
                  <a:pt x="18873" y="6035"/>
                  <a:pt x="18858" y="5992"/>
                  <a:pt x="18827" y="5953"/>
                </a:cubicBezTo>
                <a:cubicBezTo>
                  <a:pt x="18840" y="6017"/>
                  <a:pt x="18852" y="6089"/>
                  <a:pt x="18876" y="6152"/>
                </a:cubicBezTo>
                <a:cubicBezTo>
                  <a:pt x="18899" y="6212"/>
                  <a:pt x="18924" y="6268"/>
                  <a:pt x="18876" y="6300"/>
                </a:cubicBezTo>
                <a:cubicBezTo>
                  <a:pt x="18833" y="6230"/>
                  <a:pt x="18755" y="6157"/>
                  <a:pt x="18728" y="6077"/>
                </a:cubicBezTo>
                <a:cubicBezTo>
                  <a:pt x="18717" y="6043"/>
                  <a:pt x="18711" y="6012"/>
                  <a:pt x="18703" y="5978"/>
                </a:cubicBezTo>
                <a:cubicBezTo>
                  <a:pt x="18728" y="5902"/>
                  <a:pt x="18729" y="6020"/>
                  <a:pt x="18752" y="6052"/>
                </a:cubicBezTo>
                <a:cubicBezTo>
                  <a:pt x="18805" y="6125"/>
                  <a:pt x="18837" y="6250"/>
                  <a:pt x="18852" y="6350"/>
                </a:cubicBezTo>
                <a:cubicBezTo>
                  <a:pt x="18852" y="6416"/>
                  <a:pt x="18852" y="6433"/>
                  <a:pt x="18852" y="6474"/>
                </a:cubicBezTo>
                <a:cubicBezTo>
                  <a:pt x="18745" y="6459"/>
                  <a:pt x="18753" y="6389"/>
                  <a:pt x="18703" y="6300"/>
                </a:cubicBezTo>
                <a:cubicBezTo>
                  <a:pt x="18658" y="6219"/>
                  <a:pt x="18640" y="6151"/>
                  <a:pt x="18604" y="6077"/>
                </a:cubicBezTo>
                <a:cubicBezTo>
                  <a:pt x="18641" y="6039"/>
                  <a:pt x="18644" y="6181"/>
                  <a:pt x="18653" y="6226"/>
                </a:cubicBezTo>
                <a:cubicBezTo>
                  <a:pt x="18669" y="6308"/>
                  <a:pt x="18678" y="6367"/>
                  <a:pt x="18678" y="6449"/>
                </a:cubicBezTo>
                <a:cubicBezTo>
                  <a:pt x="18617" y="6449"/>
                  <a:pt x="18590" y="6404"/>
                  <a:pt x="18554" y="6350"/>
                </a:cubicBezTo>
                <a:cubicBezTo>
                  <a:pt x="18515" y="6292"/>
                  <a:pt x="18462" y="6222"/>
                  <a:pt x="18455" y="6152"/>
                </a:cubicBezTo>
                <a:cubicBezTo>
                  <a:pt x="18455" y="6144"/>
                  <a:pt x="18455" y="6135"/>
                  <a:pt x="18455" y="6127"/>
                </a:cubicBezTo>
                <a:cubicBezTo>
                  <a:pt x="18455" y="6232"/>
                  <a:pt x="18465" y="6323"/>
                  <a:pt x="18479" y="6424"/>
                </a:cubicBezTo>
                <a:cubicBezTo>
                  <a:pt x="18479" y="6465"/>
                  <a:pt x="18488" y="6482"/>
                  <a:pt x="18455" y="647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26200" y="2259000"/>
            <a:ext cx="88920" cy="190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20042" y="6325"/>
                </a:moveTo>
                <a:cubicBezTo>
                  <a:pt x="20042" y="6317"/>
                  <a:pt x="20042" y="6308"/>
                  <a:pt x="20042" y="6300"/>
                </a:cubicBezTo>
                <a:cubicBezTo>
                  <a:pt x="19975" y="6300"/>
                  <a:pt x="19923" y="6287"/>
                  <a:pt x="19869" y="6276"/>
                </a:cubicBezTo>
                <a:cubicBezTo>
                  <a:pt x="19827" y="6276"/>
                  <a:pt x="19819" y="6276"/>
                  <a:pt x="19794" y="627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31040" y="2160720"/>
            <a:ext cx="214200" cy="16956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20489" y="6028"/>
                </a:moveTo>
                <a:cubicBezTo>
                  <a:pt x="20497" y="6020"/>
                  <a:pt x="20505" y="6011"/>
                  <a:pt x="20513" y="6003"/>
                </a:cubicBezTo>
                <a:cubicBezTo>
                  <a:pt x="20505" y="6027"/>
                  <a:pt x="20482" y="6050"/>
                  <a:pt x="20464" y="6077"/>
                </a:cubicBezTo>
                <a:cubicBezTo>
                  <a:pt x="20441" y="6112"/>
                  <a:pt x="20424" y="6113"/>
                  <a:pt x="20414" y="6152"/>
                </a:cubicBezTo>
                <a:cubicBezTo>
                  <a:pt x="20447" y="6160"/>
                  <a:pt x="20509" y="6187"/>
                  <a:pt x="20538" y="6201"/>
                </a:cubicBezTo>
                <a:cubicBezTo>
                  <a:pt x="20602" y="6233"/>
                  <a:pt x="20629" y="6242"/>
                  <a:pt x="20687" y="6300"/>
                </a:cubicBezTo>
                <a:cubicBezTo>
                  <a:pt x="20721" y="6334"/>
                  <a:pt x="20727" y="6401"/>
                  <a:pt x="20737" y="6449"/>
                </a:cubicBezTo>
                <a:cubicBezTo>
                  <a:pt x="20690" y="6484"/>
                  <a:pt x="20650" y="6474"/>
                  <a:pt x="20588" y="6474"/>
                </a:cubicBezTo>
                <a:cubicBezTo>
                  <a:pt x="20488" y="6474"/>
                  <a:pt x="20471" y="6458"/>
                  <a:pt x="20389" y="6424"/>
                </a:cubicBezTo>
                <a:cubicBezTo>
                  <a:pt x="20381" y="6424"/>
                  <a:pt x="20373" y="6424"/>
                  <a:pt x="20365" y="6424"/>
                </a:cubicBezTo>
              </a:path>
              <a:path w="596" h="472">
                <a:moveTo>
                  <a:pt x="20910" y="6052"/>
                </a:moveTo>
                <a:cubicBezTo>
                  <a:pt x="20927" y="6044"/>
                  <a:pt x="20943" y="6036"/>
                  <a:pt x="20960" y="6028"/>
                </a:cubicBezTo>
                <a:cubicBezTo>
                  <a:pt x="20881" y="6028"/>
                  <a:pt x="20813" y="6044"/>
                  <a:pt x="20737" y="6052"/>
                </a:cubicBezTo>
                <a:cubicBezTo>
                  <a:pt x="20712" y="6052"/>
                  <a:pt x="20687" y="6052"/>
                  <a:pt x="20662" y="605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98840" y="3000240"/>
            <a:ext cx="10800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7491" y="8334"/>
                </a:moveTo>
                <a:cubicBezTo>
                  <a:pt x="7499" y="8334"/>
                  <a:pt x="7508" y="8334"/>
                  <a:pt x="7516" y="8334"/>
                </a:cubicBezTo>
                <a:cubicBezTo>
                  <a:pt x="7417" y="8334"/>
                  <a:pt x="7317" y="8334"/>
                  <a:pt x="7218" y="8334"/>
                </a:cubicBezTo>
              </a:path>
              <a:path w="299" h="225">
                <a:moveTo>
                  <a:pt x="7491" y="8533"/>
                </a:moveTo>
                <a:cubicBezTo>
                  <a:pt x="7499" y="8541"/>
                  <a:pt x="7508" y="8550"/>
                  <a:pt x="7516" y="8558"/>
                </a:cubicBezTo>
                <a:cubicBezTo>
                  <a:pt x="7503" y="8518"/>
                  <a:pt x="7469" y="8512"/>
                  <a:pt x="7417" y="8508"/>
                </a:cubicBezTo>
                <a:cubicBezTo>
                  <a:pt x="7376" y="8505"/>
                  <a:pt x="7334" y="8508"/>
                  <a:pt x="7293" y="850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36960" y="2894040"/>
            <a:ext cx="480960" cy="160200"/>
          </a:xfrm>
          <a:custGeom>
            <a:avLst/>
            <a:gdLst/>
            <a:ahLst/>
            <a:rect l="l" t="t" r="r" b="b"/>
            <a:pathLst>
              <a:path w="1340" h="447">
                <a:moveTo>
                  <a:pt x="8731" y="8384"/>
                </a:moveTo>
                <a:cubicBezTo>
                  <a:pt x="8692" y="8374"/>
                  <a:pt x="8677" y="8359"/>
                  <a:pt x="8632" y="8359"/>
                </a:cubicBezTo>
                <a:cubicBezTo>
                  <a:pt x="8566" y="8359"/>
                  <a:pt x="8522" y="8379"/>
                  <a:pt x="8458" y="8384"/>
                </a:cubicBezTo>
                <a:cubicBezTo>
                  <a:pt x="8450" y="8384"/>
                  <a:pt x="8442" y="8384"/>
                  <a:pt x="8434" y="8384"/>
                </a:cubicBezTo>
              </a:path>
              <a:path w="1340" h="447">
                <a:moveTo>
                  <a:pt x="9004" y="8136"/>
                </a:moveTo>
                <a:cubicBezTo>
                  <a:pt x="9027" y="8113"/>
                  <a:pt x="9031" y="8105"/>
                  <a:pt x="9054" y="8111"/>
                </a:cubicBezTo>
                <a:cubicBezTo>
                  <a:pt x="9054" y="8183"/>
                  <a:pt x="9071" y="8245"/>
                  <a:pt x="9079" y="8310"/>
                </a:cubicBezTo>
                <a:cubicBezTo>
                  <a:pt x="9086" y="8365"/>
                  <a:pt x="9079" y="8428"/>
                  <a:pt x="9079" y="8483"/>
                </a:cubicBezTo>
              </a:path>
              <a:path w="1340" h="447">
                <a:moveTo>
                  <a:pt x="9252" y="8210"/>
                </a:moveTo>
                <a:cubicBezTo>
                  <a:pt x="9252" y="8168"/>
                  <a:pt x="9237" y="8113"/>
                  <a:pt x="9277" y="8086"/>
                </a:cubicBezTo>
                <a:cubicBezTo>
                  <a:pt x="9324" y="8054"/>
                  <a:pt x="9389" y="8013"/>
                  <a:pt x="9451" y="8037"/>
                </a:cubicBezTo>
                <a:cubicBezTo>
                  <a:pt x="9513" y="8061"/>
                  <a:pt x="9500" y="8135"/>
                  <a:pt x="9500" y="8186"/>
                </a:cubicBezTo>
                <a:cubicBezTo>
                  <a:pt x="9500" y="8252"/>
                  <a:pt x="9465" y="8307"/>
                  <a:pt x="9426" y="8359"/>
                </a:cubicBezTo>
                <a:cubicBezTo>
                  <a:pt x="9399" y="8394"/>
                  <a:pt x="9401" y="8390"/>
                  <a:pt x="9401" y="8434"/>
                </a:cubicBezTo>
                <a:cubicBezTo>
                  <a:pt x="9467" y="8434"/>
                  <a:pt x="9516" y="8417"/>
                  <a:pt x="9575" y="8409"/>
                </a:cubicBezTo>
                <a:cubicBezTo>
                  <a:pt x="9652" y="8399"/>
                  <a:pt x="9704" y="8420"/>
                  <a:pt x="9773" y="843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97200" y="2938320"/>
            <a:ext cx="169920" cy="27000"/>
          </a:xfrm>
          <a:custGeom>
            <a:avLst/>
            <a:gdLst/>
            <a:ahLst/>
            <a:rect l="l" t="t" r="r" b="b"/>
            <a:pathLst>
              <a:path w="472" h="75">
                <a:moveTo>
                  <a:pt x="10269" y="8235"/>
                </a:moveTo>
                <a:cubicBezTo>
                  <a:pt x="10330" y="8235"/>
                  <a:pt x="10334" y="8200"/>
                  <a:pt x="10393" y="8186"/>
                </a:cubicBezTo>
                <a:cubicBezTo>
                  <a:pt x="10510" y="8159"/>
                  <a:pt x="10627" y="8210"/>
                  <a:pt x="10740" y="816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10040" y="2795760"/>
            <a:ext cx="490680" cy="177480"/>
          </a:xfrm>
          <a:custGeom>
            <a:avLst/>
            <a:gdLst/>
            <a:ahLst/>
            <a:rect l="l" t="t" r="r" b="b"/>
            <a:pathLst>
              <a:path w="1366" h="497">
                <a:moveTo>
                  <a:pt x="11137" y="8086"/>
                </a:moveTo>
                <a:cubicBezTo>
                  <a:pt x="11137" y="8033"/>
                  <a:pt x="11149" y="8025"/>
                  <a:pt x="11187" y="7987"/>
                </a:cubicBezTo>
                <a:cubicBezTo>
                  <a:pt x="11213" y="7961"/>
                  <a:pt x="11271" y="7925"/>
                  <a:pt x="11311" y="7938"/>
                </a:cubicBezTo>
                <a:cubicBezTo>
                  <a:pt x="11339" y="7965"/>
                  <a:pt x="11353" y="7973"/>
                  <a:pt x="11385" y="7962"/>
                </a:cubicBezTo>
                <a:cubicBezTo>
                  <a:pt x="11392" y="8013"/>
                  <a:pt x="11432" y="8079"/>
                  <a:pt x="11410" y="8136"/>
                </a:cubicBezTo>
                <a:cubicBezTo>
                  <a:pt x="11394" y="8178"/>
                  <a:pt x="11385" y="8184"/>
                  <a:pt x="11385" y="8235"/>
                </a:cubicBezTo>
                <a:cubicBezTo>
                  <a:pt x="11385" y="8243"/>
                  <a:pt x="11385" y="8252"/>
                  <a:pt x="11385" y="8260"/>
                </a:cubicBezTo>
                <a:cubicBezTo>
                  <a:pt x="11444" y="8260"/>
                  <a:pt x="11488" y="8244"/>
                  <a:pt x="11534" y="8235"/>
                </a:cubicBezTo>
                <a:cubicBezTo>
                  <a:pt x="11593" y="8223"/>
                  <a:pt x="11636" y="8220"/>
                  <a:pt x="11683" y="8186"/>
                </a:cubicBezTo>
              </a:path>
              <a:path w="1366" h="497">
                <a:moveTo>
                  <a:pt x="11609" y="7863"/>
                </a:moveTo>
                <a:cubicBezTo>
                  <a:pt x="11625" y="7812"/>
                  <a:pt x="11659" y="7837"/>
                  <a:pt x="11708" y="7813"/>
                </a:cubicBezTo>
                <a:cubicBezTo>
                  <a:pt x="11777" y="7780"/>
                  <a:pt x="11798" y="7764"/>
                  <a:pt x="11881" y="7764"/>
                </a:cubicBezTo>
                <a:cubicBezTo>
                  <a:pt x="11921" y="7764"/>
                  <a:pt x="11971" y="7827"/>
                  <a:pt x="11981" y="7863"/>
                </a:cubicBezTo>
                <a:cubicBezTo>
                  <a:pt x="12001" y="7938"/>
                  <a:pt x="11921" y="8017"/>
                  <a:pt x="11906" y="8086"/>
                </a:cubicBezTo>
                <a:cubicBezTo>
                  <a:pt x="11895" y="8136"/>
                  <a:pt x="11881" y="8183"/>
                  <a:pt x="11881" y="8235"/>
                </a:cubicBezTo>
              </a:path>
              <a:path w="1366" h="497">
                <a:moveTo>
                  <a:pt x="12254" y="8086"/>
                </a:moveTo>
                <a:cubicBezTo>
                  <a:pt x="12215" y="8049"/>
                  <a:pt x="12204" y="8040"/>
                  <a:pt x="12204" y="7987"/>
                </a:cubicBezTo>
                <a:cubicBezTo>
                  <a:pt x="12204" y="7930"/>
                  <a:pt x="12246" y="7876"/>
                  <a:pt x="12303" y="7863"/>
                </a:cubicBezTo>
                <a:cubicBezTo>
                  <a:pt x="12385" y="7844"/>
                  <a:pt x="12448" y="7922"/>
                  <a:pt x="12477" y="7987"/>
                </a:cubicBezTo>
                <a:cubicBezTo>
                  <a:pt x="12498" y="8036"/>
                  <a:pt x="12532" y="8158"/>
                  <a:pt x="12452" y="8186"/>
                </a:cubicBezTo>
                <a:cubicBezTo>
                  <a:pt x="12399" y="8205"/>
                  <a:pt x="12292" y="8177"/>
                  <a:pt x="12254" y="8136"/>
                </a:cubicBezTo>
                <a:cubicBezTo>
                  <a:pt x="12246" y="8119"/>
                  <a:pt x="12237" y="8103"/>
                  <a:pt x="12229" y="808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87920" y="2732040"/>
            <a:ext cx="519120" cy="189000"/>
          </a:xfrm>
          <a:custGeom>
            <a:avLst/>
            <a:gdLst/>
            <a:ahLst/>
            <a:rect l="l" t="t" r="r" b="b"/>
            <a:pathLst>
              <a:path w="1440" h="522">
                <a:moveTo>
                  <a:pt x="13047" y="8037"/>
                </a:moveTo>
                <a:cubicBezTo>
                  <a:pt x="13039" y="8037"/>
                  <a:pt x="13030" y="8037"/>
                  <a:pt x="13022" y="8037"/>
                </a:cubicBezTo>
                <a:cubicBezTo>
                  <a:pt x="13022" y="7994"/>
                  <a:pt x="13027" y="7977"/>
                  <a:pt x="13072" y="7962"/>
                </a:cubicBezTo>
                <a:cubicBezTo>
                  <a:pt x="13123" y="7945"/>
                  <a:pt x="13165" y="7938"/>
                  <a:pt x="13221" y="7938"/>
                </a:cubicBezTo>
                <a:cubicBezTo>
                  <a:pt x="13262" y="7938"/>
                  <a:pt x="13304" y="7938"/>
                  <a:pt x="13345" y="7938"/>
                </a:cubicBezTo>
              </a:path>
              <a:path w="1440" h="522">
                <a:moveTo>
                  <a:pt x="13692" y="7665"/>
                </a:moveTo>
                <a:cubicBezTo>
                  <a:pt x="13692" y="7591"/>
                  <a:pt x="13692" y="7789"/>
                  <a:pt x="13692" y="7789"/>
                </a:cubicBezTo>
                <a:cubicBezTo>
                  <a:pt x="13692" y="7863"/>
                  <a:pt x="13692" y="7938"/>
                  <a:pt x="13692" y="8012"/>
                </a:cubicBezTo>
              </a:path>
              <a:path w="1440" h="522">
                <a:moveTo>
                  <a:pt x="13990" y="7665"/>
                </a:moveTo>
                <a:cubicBezTo>
                  <a:pt x="14030" y="7645"/>
                  <a:pt x="14036" y="7636"/>
                  <a:pt x="14064" y="7640"/>
                </a:cubicBezTo>
                <a:cubicBezTo>
                  <a:pt x="14037" y="7676"/>
                  <a:pt x="14020" y="7715"/>
                  <a:pt x="14015" y="7764"/>
                </a:cubicBezTo>
                <a:cubicBezTo>
                  <a:pt x="14009" y="7828"/>
                  <a:pt x="14028" y="7834"/>
                  <a:pt x="14089" y="7838"/>
                </a:cubicBezTo>
                <a:cubicBezTo>
                  <a:pt x="14154" y="7842"/>
                  <a:pt x="14212" y="7822"/>
                  <a:pt x="14263" y="7863"/>
                </a:cubicBezTo>
                <a:cubicBezTo>
                  <a:pt x="14312" y="7902"/>
                  <a:pt x="14312" y="7927"/>
                  <a:pt x="14312" y="7987"/>
                </a:cubicBezTo>
                <a:cubicBezTo>
                  <a:pt x="14312" y="8027"/>
                  <a:pt x="14287" y="8097"/>
                  <a:pt x="14238" y="8111"/>
                </a:cubicBezTo>
                <a:cubicBezTo>
                  <a:pt x="14198" y="8122"/>
                  <a:pt x="14131" y="8111"/>
                  <a:pt x="14089" y="8111"/>
                </a:cubicBezTo>
              </a:path>
              <a:path w="1440" h="522">
                <a:moveTo>
                  <a:pt x="14387" y="7665"/>
                </a:moveTo>
                <a:cubicBezTo>
                  <a:pt x="14425" y="7619"/>
                  <a:pt x="14426" y="7602"/>
                  <a:pt x="14461" y="7590"/>
                </a:cubicBezTo>
                <a:cubicBezTo>
                  <a:pt x="14398" y="7599"/>
                  <a:pt x="14351" y="7616"/>
                  <a:pt x="14288" y="764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89120" y="3375000"/>
            <a:ext cx="907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7317" y="9401"/>
                </a:moveTo>
                <a:cubicBezTo>
                  <a:pt x="7334" y="9393"/>
                  <a:pt x="7350" y="9384"/>
                  <a:pt x="7367" y="9376"/>
                </a:cubicBezTo>
                <a:cubicBezTo>
                  <a:pt x="7315" y="9376"/>
                  <a:pt x="7285" y="9388"/>
                  <a:pt x="7243" y="9401"/>
                </a:cubicBezTo>
                <a:cubicBezTo>
                  <a:pt x="7215" y="9401"/>
                  <a:pt x="7204" y="9403"/>
                  <a:pt x="7193" y="9426"/>
                </a:cubicBezTo>
              </a:path>
              <a:path w="249" h="224">
                <a:moveTo>
                  <a:pt x="7342" y="9525"/>
                </a:moveTo>
                <a:cubicBezTo>
                  <a:pt x="7404" y="9525"/>
                  <a:pt x="7419" y="9515"/>
                  <a:pt x="7441" y="9550"/>
                </a:cubicBezTo>
                <a:cubicBezTo>
                  <a:pt x="7409" y="9575"/>
                  <a:pt x="7360" y="9589"/>
                  <a:pt x="7317" y="9599"/>
                </a:cubicBezTo>
                <a:cubicBezTo>
                  <a:pt x="7309" y="9599"/>
                  <a:pt x="7301" y="9599"/>
                  <a:pt x="7293" y="959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11320" y="3357720"/>
            <a:ext cx="125640" cy="17280"/>
          </a:xfrm>
          <a:custGeom>
            <a:avLst/>
            <a:gdLst/>
            <a:ahLst/>
            <a:rect l="l" t="t" r="r" b="b"/>
            <a:pathLst>
              <a:path w="349" h="50">
                <a:moveTo>
                  <a:pt x="8086" y="9376"/>
                </a:moveTo>
                <a:cubicBezTo>
                  <a:pt x="8135" y="9376"/>
                  <a:pt x="8173" y="9358"/>
                  <a:pt x="8210" y="9351"/>
                </a:cubicBezTo>
                <a:cubicBezTo>
                  <a:pt x="8264" y="9340"/>
                  <a:pt x="8331" y="9336"/>
                  <a:pt x="8384" y="9327"/>
                </a:cubicBezTo>
                <a:cubicBezTo>
                  <a:pt x="8401" y="9327"/>
                  <a:pt x="8417" y="9327"/>
                  <a:pt x="8434" y="932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52880" y="3178080"/>
            <a:ext cx="561960" cy="216000"/>
          </a:xfrm>
          <a:custGeom>
            <a:avLst/>
            <a:gdLst/>
            <a:ahLst/>
            <a:rect l="l" t="t" r="r" b="b"/>
            <a:pathLst>
              <a:path w="1564" h="597">
                <a:moveTo>
                  <a:pt x="8830" y="9153"/>
                </a:moveTo>
                <a:cubicBezTo>
                  <a:pt x="8805" y="9153"/>
                  <a:pt x="8781" y="9153"/>
                  <a:pt x="8756" y="9153"/>
                </a:cubicBezTo>
                <a:cubicBezTo>
                  <a:pt x="8761" y="9139"/>
                  <a:pt x="8802" y="9087"/>
                  <a:pt x="8830" y="9079"/>
                </a:cubicBezTo>
                <a:cubicBezTo>
                  <a:pt x="8876" y="9066"/>
                  <a:pt x="8945" y="9076"/>
                  <a:pt x="8979" y="9103"/>
                </a:cubicBezTo>
                <a:cubicBezTo>
                  <a:pt x="9029" y="9142"/>
                  <a:pt x="9008" y="9230"/>
                  <a:pt x="8979" y="9277"/>
                </a:cubicBezTo>
                <a:cubicBezTo>
                  <a:pt x="8963" y="9303"/>
                  <a:pt x="8890" y="9368"/>
                  <a:pt x="8905" y="9401"/>
                </a:cubicBezTo>
                <a:cubicBezTo>
                  <a:pt x="8926" y="9447"/>
                  <a:pt x="9016" y="9426"/>
                  <a:pt x="9054" y="9426"/>
                </a:cubicBezTo>
                <a:cubicBezTo>
                  <a:pt x="9107" y="9426"/>
                  <a:pt x="9137" y="9390"/>
                  <a:pt x="9178" y="9376"/>
                </a:cubicBezTo>
                <a:cubicBezTo>
                  <a:pt x="9203" y="9376"/>
                  <a:pt x="9211" y="9376"/>
                  <a:pt x="9227" y="9376"/>
                </a:cubicBezTo>
              </a:path>
              <a:path w="1564" h="597">
                <a:moveTo>
                  <a:pt x="9550" y="9079"/>
                </a:moveTo>
                <a:cubicBezTo>
                  <a:pt x="9590" y="9059"/>
                  <a:pt x="9596" y="9050"/>
                  <a:pt x="9624" y="9054"/>
                </a:cubicBezTo>
                <a:cubicBezTo>
                  <a:pt x="9624" y="9009"/>
                  <a:pt x="9626" y="8985"/>
                  <a:pt x="9575" y="8979"/>
                </a:cubicBezTo>
                <a:cubicBezTo>
                  <a:pt x="9497" y="8970"/>
                  <a:pt x="9460" y="8977"/>
                  <a:pt x="9451" y="9054"/>
                </a:cubicBezTo>
                <a:cubicBezTo>
                  <a:pt x="9441" y="9143"/>
                  <a:pt x="9452" y="9161"/>
                  <a:pt x="9525" y="9203"/>
                </a:cubicBezTo>
                <a:cubicBezTo>
                  <a:pt x="9557" y="9187"/>
                  <a:pt x="9613" y="9127"/>
                  <a:pt x="9624" y="9079"/>
                </a:cubicBezTo>
                <a:cubicBezTo>
                  <a:pt x="9624" y="9037"/>
                  <a:pt x="9616" y="9021"/>
                  <a:pt x="9649" y="9029"/>
                </a:cubicBezTo>
                <a:cubicBezTo>
                  <a:pt x="9693" y="9116"/>
                  <a:pt x="9699" y="9188"/>
                  <a:pt x="9723" y="9277"/>
                </a:cubicBezTo>
                <a:cubicBezTo>
                  <a:pt x="9731" y="9294"/>
                  <a:pt x="9740" y="9310"/>
                  <a:pt x="9748" y="9327"/>
                </a:cubicBezTo>
              </a:path>
              <a:path w="1564" h="597">
                <a:moveTo>
                  <a:pt x="9971" y="8905"/>
                </a:moveTo>
                <a:cubicBezTo>
                  <a:pt x="9947" y="8905"/>
                  <a:pt x="9938" y="8905"/>
                  <a:pt x="9922" y="8905"/>
                </a:cubicBezTo>
                <a:cubicBezTo>
                  <a:pt x="9980" y="8893"/>
                  <a:pt x="10038" y="8865"/>
                  <a:pt x="10096" y="8855"/>
                </a:cubicBezTo>
                <a:cubicBezTo>
                  <a:pt x="10146" y="8847"/>
                  <a:pt x="10217" y="8813"/>
                  <a:pt x="10269" y="8830"/>
                </a:cubicBezTo>
                <a:cubicBezTo>
                  <a:pt x="10350" y="8857"/>
                  <a:pt x="10319" y="8930"/>
                  <a:pt x="10319" y="9004"/>
                </a:cubicBezTo>
                <a:cubicBezTo>
                  <a:pt x="10319" y="9091"/>
                  <a:pt x="10294" y="9165"/>
                  <a:pt x="10294" y="925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929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313000" y="108000"/>
            <a:ext cx="1071720" cy="731880"/>
          </a:xfrm>
          <a:custGeom>
            <a:avLst/>
            <a:gdLst/>
            <a:ahLst/>
            <a:rect l="l" t="t" r="r" b="b"/>
            <a:pathLst>
              <a:path w="2978" h="2035">
                <a:moveTo>
                  <a:pt x="8409" y="1042"/>
                </a:moveTo>
                <a:cubicBezTo>
                  <a:pt x="8426" y="1002"/>
                  <a:pt x="8434" y="875"/>
                  <a:pt x="8434" y="918"/>
                </a:cubicBezTo>
                <a:cubicBezTo>
                  <a:pt x="8434" y="1092"/>
                  <a:pt x="8434" y="1265"/>
                  <a:pt x="8434" y="1439"/>
                </a:cubicBezTo>
              </a:path>
              <a:path w="2978" h="2035">
                <a:moveTo>
                  <a:pt x="9376" y="1687"/>
                </a:moveTo>
                <a:cubicBezTo>
                  <a:pt x="9348" y="1659"/>
                  <a:pt x="9361" y="1659"/>
                  <a:pt x="9327" y="1637"/>
                </a:cubicBezTo>
                <a:cubicBezTo>
                  <a:pt x="9285" y="1610"/>
                  <a:pt x="9232" y="1612"/>
                  <a:pt x="9178" y="1612"/>
                </a:cubicBezTo>
                <a:cubicBezTo>
                  <a:pt x="8927" y="1612"/>
                  <a:pt x="8624" y="1565"/>
                  <a:pt x="8384" y="1637"/>
                </a:cubicBezTo>
                <a:cubicBezTo>
                  <a:pt x="8304" y="1661"/>
                  <a:pt x="8214" y="1662"/>
                  <a:pt x="8136" y="1687"/>
                </a:cubicBezTo>
                <a:cubicBezTo>
                  <a:pt x="8063" y="1710"/>
                  <a:pt x="7993" y="1732"/>
                  <a:pt x="7913" y="1736"/>
                </a:cubicBezTo>
                <a:cubicBezTo>
                  <a:pt x="7855" y="1739"/>
                  <a:pt x="7811" y="1752"/>
                  <a:pt x="7764" y="1761"/>
                </a:cubicBezTo>
                <a:cubicBezTo>
                  <a:pt x="7723" y="1769"/>
                  <a:pt x="7699" y="1776"/>
                  <a:pt x="7665" y="1786"/>
                </a:cubicBezTo>
                <a:cubicBezTo>
                  <a:pt x="7657" y="1786"/>
                  <a:pt x="7648" y="1786"/>
                  <a:pt x="7640" y="1786"/>
                </a:cubicBezTo>
              </a:path>
              <a:path w="2978" h="2035">
                <a:moveTo>
                  <a:pt x="7441" y="2133"/>
                </a:moveTo>
                <a:cubicBezTo>
                  <a:pt x="7441" y="2077"/>
                  <a:pt x="7451" y="2055"/>
                  <a:pt x="7466" y="2009"/>
                </a:cubicBezTo>
                <a:cubicBezTo>
                  <a:pt x="7476" y="1980"/>
                  <a:pt x="7523" y="1963"/>
                  <a:pt x="7565" y="1984"/>
                </a:cubicBezTo>
                <a:cubicBezTo>
                  <a:pt x="7618" y="2011"/>
                  <a:pt x="7662" y="2083"/>
                  <a:pt x="7689" y="2133"/>
                </a:cubicBezTo>
                <a:cubicBezTo>
                  <a:pt x="7710" y="2172"/>
                  <a:pt x="7736" y="2262"/>
                  <a:pt x="7714" y="2307"/>
                </a:cubicBezTo>
                <a:cubicBezTo>
                  <a:pt x="7685" y="2364"/>
                  <a:pt x="7578" y="2322"/>
                  <a:pt x="7541" y="2307"/>
                </a:cubicBezTo>
                <a:cubicBezTo>
                  <a:pt x="7515" y="2297"/>
                  <a:pt x="7429" y="2257"/>
                  <a:pt x="7417" y="2232"/>
                </a:cubicBezTo>
                <a:cubicBezTo>
                  <a:pt x="7417" y="2204"/>
                  <a:pt x="7419" y="2194"/>
                  <a:pt x="7441" y="2183"/>
                </a:cubicBezTo>
              </a:path>
              <a:path w="2978" h="2035">
                <a:moveTo>
                  <a:pt x="8285" y="2108"/>
                </a:moveTo>
                <a:cubicBezTo>
                  <a:pt x="8293" y="2108"/>
                  <a:pt x="8302" y="2108"/>
                  <a:pt x="8310" y="2108"/>
                </a:cubicBezTo>
                <a:cubicBezTo>
                  <a:pt x="8244" y="2108"/>
                  <a:pt x="8177" y="2108"/>
                  <a:pt x="8111" y="2108"/>
                </a:cubicBezTo>
              </a:path>
              <a:path w="2978" h="2035">
                <a:moveTo>
                  <a:pt x="8136" y="2009"/>
                </a:moveTo>
                <a:cubicBezTo>
                  <a:pt x="8166" y="2059"/>
                  <a:pt x="8161" y="2096"/>
                  <a:pt x="8161" y="2158"/>
                </a:cubicBezTo>
                <a:cubicBezTo>
                  <a:pt x="8161" y="2199"/>
                  <a:pt x="8161" y="2207"/>
                  <a:pt x="8161" y="2232"/>
                </a:cubicBezTo>
              </a:path>
              <a:path w="2978" h="2035">
                <a:moveTo>
                  <a:pt x="8409" y="2133"/>
                </a:moveTo>
                <a:cubicBezTo>
                  <a:pt x="8425" y="2133"/>
                  <a:pt x="8442" y="2133"/>
                  <a:pt x="8458" y="2133"/>
                </a:cubicBezTo>
                <a:cubicBezTo>
                  <a:pt x="8458" y="2107"/>
                  <a:pt x="8459" y="2036"/>
                  <a:pt x="8409" y="2059"/>
                </a:cubicBezTo>
                <a:cubicBezTo>
                  <a:pt x="8383" y="2071"/>
                  <a:pt x="8333" y="2071"/>
                  <a:pt x="8310" y="2084"/>
                </a:cubicBezTo>
                <a:cubicBezTo>
                  <a:pt x="8275" y="2103"/>
                  <a:pt x="8246" y="2141"/>
                  <a:pt x="8210" y="2158"/>
                </a:cubicBezTo>
                <a:cubicBezTo>
                  <a:pt x="8205" y="2160"/>
                  <a:pt x="8140" y="2178"/>
                  <a:pt x="8136" y="2183"/>
                </a:cubicBezTo>
                <a:cubicBezTo>
                  <a:pt x="8136" y="2191"/>
                  <a:pt x="8136" y="2200"/>
                  <a:pt x="8136" y="2208"/>
                </a:cubicBezTo>
                <a:cubicBezTo>
                  <a:pt x="8168" y="2184"/>
                  <a:pt x="8218" y="2143"/>
                  <a:pt x="8260" y="2133"/>
                </a:cubicBezTo>
                <a:cubicBezTo>
                  <a:pt x="8318" y="2119"/>
                  <a:pt x="8372" y="2094"/>
                  <a:pt x="8434" y="2084"/>
                </a:cubicBezTo>
                <a:cubicBezTo>
                  <a:pt x="8486" y="2076"/>
                  <a:pt x="8529" y="2059"/>
                  <a:pt x="8582" y="2059"/>
                </a:cubicBezTo>
                <a:cubicBezTo>
                  <a:pt x="8590" y="2059"/>
                  <a:pt x="8674" y="2059"/>
                  <a:pt x="8607" y="2059"/>
                </a:cubicBezTo>
                <a:cubicBezTo>
                  <a:pt x="8532" y="2059"/>
                  <a:pt x="8451" y="2044"/>
                  <a:pt x="8384" y="2084"/>
                </a:cubicBezTo>
                <a:cubicBezTo>
                  <a:pt x="8341" y="2110"/>
                  <a:pt x="8312" y="2112"/>
                  <a:pt x="8285" y="2133"/>
                </a:cubicBezTo>
                <a:cubicBezTo>
                  <a:pt x="8277" y="2141"/>
                  <a:pt x="8268" y="2150"/>
                  <a:pt x="8260" y="2158"/>
                </a:cubicBezTo>
              </a:path>
              <a:path w="2978" h="2035">
                <a:moveTo>
                  <a:pt x="8855" y="1836"/>
                </a:moveTo>
                <a:cubicBezTo>
                  <a:pt x="8878" y="1813"/>
                  <a:pt x="8882" y="1805"/>
                  <a:pt x="8905" y="1811"/>
                </a:cubicBezTo>
                <a:cubicBezTo>
                  <a:pt x="8905" y="1877"/>
                  <a:pt x="8868" y="2126"/>
                  <a:pt x="8930" y="2158"/>
                </a:cubicBezTo>
                <a:cubicBezTo>
                  <a:pt x="8985" y="2186"/>
                  <a:pt x="8979" y="2175"/>
                  <a:pt x="9029" y="2158"/>
                </a:cubicBezTo>
                <a:cubicBezTo>
                  <a:pt x="9058" y="2148"/>
                  <a:pt x="9100" y="2135"/>
                  <a:pt x="9128" y="2133"/>
                </a:cubicBezTo>
                <a:cubicBezTo>
                  <a:pt x="9139" y="2132"/>
                  <a:pt x="9244" y="2118"/>
                  <a:pt x="9252" y="2108"/>
                </a:cubicBezTo>
                <a:cubicBezTo>
                  <a:pt x="9252" y="2100"/>
                  <a:pt x="9252" y="2092"/>
                  <a:pt x="9252" y="2084"/>
                </a:cubicBezTo>
              </a:path>
              <a:path w="2978" h="2035">
                <a:moveTo>
                  <a:pt x="9178" y="2059"/>
                </a:moveTo>
                <a:cubicBezTo>
                  <a:pt x="9155" y="2036"/>
                  <a:pt x="9151" y="2028"/>
                  <a:pt x="9128" y="2034"/>
                </a:cubicBezTo>
                <a:cubicBezTo>
                  <a:pt x="9128" y="2093"/>
                  <a:pt x="9132" y="2127"/>
                  <a:pt x="9153" y="2183"/>
                </a:cubicBezTo>
              </a:path>
              <a:path w="2978" h="2035">
                <a:moveTo>
                  <a:pt x="6623" y="1414"/>
                </a:moveTo>
                <a:cubicBezTo>
                  <a:pt x="6631" y="1397"/>
                  <a:pt x="6640" y="1381"/>
                  <a:pt x="6648" y="1364"/>
                </a:cubicBezTo>
                <a:cubicBezTo>
                  <a:pt x="6648" y="1463"/>
                  <a:pt x="6648" y="1563"/>
                  <a:pt x="6648" y="1662"/>
                </a:cubicBezTo>
              </a:path>
              <a:path w="2978" h="2035">
                <a:moveTo>
                  <a:pt x="6524" y="1191"/>
                </a:moveTo>
                <a:cubicBezTo>
                  <a:pt x="6524" y="1166"/>
                  <a:pt x="6524" y="1158"/>
                  <a:pt x="6524" y="1141"/>
                </a:cubicBezTo>
              </a:path>
              <a:path w="2978" h="2035">
                <a:moveTo>
                  <a:pt x="6524" y="1067"/>
                </a:moveTo>
                <a:cubicBezTo>
                  <a:pt x="6565" y="1049"/>
                  <a:pt x="6611" y="1030"/>
                  <a:pt x="6648" y="1017"/>
                </a:cubicBezTo>
                <a:cubicBezTo>
                  <a:pt x="6699" y="1000"/>
                  <a:pt x="6758" y="1036"/>
                  <a:pt x="6796" y="1067"/>
                </a:cubicBezTo>
                <a:cubicBezTo>
                  <a:pt x="6866" y="1124"/>
                  <a:pt x="6893" y="1207"/>
                  <a:pt x="6921" y="1290"/>
                </a:cubicBezTo>
                <a:cubicBezTo>
                  <a:pt x="6961" y="1406"/>
                  <a:pt x="6934" y="1476"/>
                  <a:pt x="6896" y="1588"/>
                </a:cubicBezTo>
                <a:cubicBezTo>
                  <a:pt x="6866" y="1676"/>
                  <a:pt x="6819" y="1734"/>
                  <a:pt x="6747" y="1786"/>
                </a:cubicBezTo>
              </a:path>
              <a:path w="2978" h="2035">
                <a:moveTo>
                  <a:pt x="6449" y="571"/>
                </a:moveTo>
                <a:cubicBezTo>
                  <a:pt x="6474" y="571"/>
                  <a:pt x="6482" y="571"/>
                  <a:pt x="6474" y="546"/>
                </a:cubicBezTo>
                <a:cubicBezTo>
                  <a:pt x="6456" y="509"/>
                  <a:pt x="6427" y="555"/>
                  <a:pt x="6424" y="595"/>
                </a:cubicBezTo>
                <a:cubicBezTo>
                  <a:pt x="6422" y="628"/>
                  <a:pt x="6424" y="662"/>
                  <a:pt x="6424" y="695"/>
                </a:cubicBezTo>
                <a:cubicBezTo>
                  <a:pt x="6476" y="695"/>
                  <a:pt x="6477" y="700"/>
                  <a:pt x="6499" y="670"/>
                </a:cubicBezTo>
                <a:cubicBezTo>
                  <a:pt x="6531" y="627"/>
                  <a:pt x="6518" y="620"/>
                  <a:pt x="6573" y="620"/>
                </a:cubicBezTo>
                <a:cubicBezTo>
                  <a:pt x="6614" y="620"/>
                  <a:pt x="6586" y="633"/>
                  <a:pt x="6623" y="645"/>
                </a:cubicBezTo>
              </a:path>
              <a:path w="2978" h="2035">
                <a:moveTo>
                  <a:pt x="6424" y="372"/>
                </a:moveTo>
                <a:cubicBezTo>
                  <a:pt x="6522" y="310"/>
                  <a:pt x="6555" y="264"/>
                  <a:pt x="6648" y="347"/>
                </a:cubicBezTo>
                <a:cubicBezTo>
                  <a:pt x="6704" y="397"/>
                  <a:pt x="6776" y="543"/>
                  <a:pt x="6772" y="620"/>
                </a:cubicBezTo>
                <a:cubicBezTo>
                  <a:pt x="6764" y="637"/>
                  <a:pt x="6755" y="653"/>
                  <a:pt x="6747" y="67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70200" y="177840"/>
            <a:ext cx="1062000" cy="581040"/>
          </a:xfrm>
          <a:custGeom>
            <a:avLst/>
            <a:gdLst/>
            <a:ahLst/>
            <a:rect l="l" t="t" r="r" b="b"/>
            <a:pathLst>
              <a:path w="2952" h="1613">
                <a:moveTo>
                  <a:pt x="10344" y="893"/>
                </a:moveTo>
                <a:cubicBezTo>
                  <a:pt x="10331" y="867"/>
                  <a:pt x="10288" y="900"/>
                  <a:pt x="10269" y="943"/>
                </a:cubicBezTo>
                <a:cubicBezTo>
                  <a:pt x="10242" y="1002"/>
                  <a:pt x="10235" y="1049"/>
                  <a:pt x="10220" y="1116"/>
                </a:cubicBezTo>
                <a:cubicBezTo>
                  <a:pt x="10195" y="1225"/>
                  <a:pt x="10177" y="1349"/>
                  <a:pt x="10195" y="1463"/>
                </a:cubicBezTo>
                <a:cubicBezTo>
                  <a:pt x="10215" y="1586"/>
                  <a:pt x="10264" y="1703"/>
                  <a:pt x="10319" y="1811"/>
                </a:cubicBezTo>
                <a:cubicBezTo>
                  <a:pt x="10363" y="1897"/>
                  <a:pt x="10387" y="2004"/>
                  <a:pt x="10443" y="2084"/>
                </a:cubicBezTo>
                <a:cubicBezTo>
                  <a:pt x="10451" y="2092"/>
                  <a:pt x="10460" y="2100"/>
                  <a:pt x="10468" y="2108"/>
                </a:cubicBezTo>
              </a:path>
              <a:path w="2952" h="1613">
                <a:moveTo>
                  <a:pt x="10716" y="943"/>
                </a:moveTo>
                <a:cubicBezTo>
                  <a:pt x="10716" y="898"/>
                  <a:pt x="10709" y="877"/>
                  <a:pt x="10740" y="843"/>
                </a:cubicBezTo>
                <a:cubicBezTo>
                  <a:pt x="10767" y="813"/>
                  <a:pt x="10824" y="806"/>
                  <a:pt x="10864" y="819"/>
                </a:cubicBezTo>
                <a:cubicBezTo>
                  <a:pt x="10925" y="839"/>
                  <a:pt x="10975" y="930"/>
                  <a:pt x="10988" y="992"/>
                </a:cubicBezTo>
                <a:cubicBezTo>
                  <a:pt x="11001" y="1052"/>
                  <a:pt x="10950" y="1105"/>
                  <a:pt x="10889" y="1091"/>
                </a:cubicBezTo>
                <a:cubicBezTo>
                  <a:pt x="10817" y="1075"/>
                  <a:pt x="10773" y="1001"/>
                  <a:pt x="10740" y="943"/>
                </a:cubicBezTo>
              </a:path>
              <a:path w="2952" h="1613">
                <a:moveTo>
                  <a:pt x="11956" y="893"/>
                </a:moveTo>
                <a:cubicBezTo>
                  <a:pt x="11964" y="885"/>
                  <a:pt x="11973" y="876"/>
                  <a:pt x="11981" y="868"/>
                </a:cubicBezTo>
                <a:cubicBezTo>
                  <a:pt x="11924" y="868"/>
                  <a:pt x="11903" y="878"/>
                  <a:pt x="11857" y="893"/>
                </a:cubicBezTo>
                <a:cubicBezTo>
                  <a:pt x="11838" y="899"/>
                  <a:pt x="11802" y="893"/>
                  <a:pt x="11782" y="893"/>
                </a:cubicBezTo>
              </a:path>
              <a:path w="2952" h="1613">
                <a:moveTo>
                  <a:pt x="12154" y="794"/>
                </a:moveTo>
                <a:cubicBezTo>
                  <a:pt x="12165" y="750"/>
                  <a:pt x="12199" y="709"/>
                  <a:pt x="12229" y="695"/>
                </a:cubicBezTo>
                <a:cubicBezTo>
                  <a:pt x="12277" y="672"/>
                  <a:pt x="12281" y="670"/>
                  <a:pt x="12328" y="670"/>
                </a:cubicBezTo>
                <a:cubicBezTo>
                  <a:pt x="12328" y="723"/>
                  <a:pt x="12327" y="750"/>
                  <a:pt x="12303" y="794"/>
                </a:cubicBezTo>
                <a:cubicBezTo>
                  <a:pt x="12275" y="847"/>
                  <a:pt x="12278" y="886"/>
                  <a:pt x="12278" y="943"/>
                </a:cubicBezTo>
                <a:cubicBezTo>
                  <a:pt x="12278" y="951"/>
                  <a:pt x="12278" y="959"/>
                  <a:pt x="12278" y="967"/>
                </a:cubicBezTo>
                <a:cubicBezTo>
                  <a:pt x="12390" y="967"/>
                  <a:pt x="12502" y="962"/>
                  <a:pt x="12601" y="943"/>
                </a:cubicBezTo>
                <a:cubicBezTo>
                  <a:pt x="12617" y="943"/>
                  <a:pt x="12634" y="943"/>
                  <a:pt x="12650" y="943"/>
                </a:cubicBezTo>
              </a:path>
              <a:path w="2952" h="1613">
                <a:moveTo>
                  <a:pt x="10914" y="1736"/>
                </a:moveTo>
                <a:cubicBezTo>
                  <a:pt x="10914" y="1728"/>
                  <a:pt x="10914" y="1720"/>
                  <a:pt x="10914" y="1712"/>
                </a:cubicBezTo>
                <a:cubicBezTo>
                  <a:pt x="10886" y="1740"/>
                  <a:pt x="10850" y="1774"/>
                  <a:pt x="10815" y="1786"/>
                </a:cubicBezTo>
                <a:cubicBezTo>
                  <a:pt x="10796" y="1792"/>
                  <a:pt x="10760" y="1786"/>
                  <a:pt x="10740" y="1786"/>
                </a:cubicBezTo>
              </a:path>
              <a:path w="2952" h="1613">
                <a:moveTo>
                  <a:pt x="11237" y="1588"/>
                </a:moveTo>
                <a:cubicBezTo>
                  <a:pt x="11248" y="1541"/>
                  <a:pt x="11291" y="1522"/>
                  <a:pt x="11336" y="1513"/>
                </a:cubicBezTo>
                <a:cubicBezTo>
                  <a:pt x="11383" y="1503"/>
                  <a:pt x="11427" y="1509"/>
                  <a:pt x="11460" y="1538"/>
                </a:cubicBezTo>
                <a:cubicBezTo>
                  <a:pt x="11501" y="1574"/>
                  <a:pt x="11489" y="1618"/>
                  <a:pt x="11460" y="1662"/>
                </a:cubicBezTo>
                <a:cubicBezTo>
                  <a:pt x="11434" y="1700"/>
                  <a:pt x="11379" y="1745"/>
                  <a:pt x="11361" y="1786"/>
                </a:cubicBezTo>
                <a:cubicBezTo>
                  <a:pt x="11350" y="1812"/>
                  <a:pt x="11358" y="1871"/>
                  <a:pt x="11385" y="1885"/>
                </a:cubicBezTo>
                <a:cubicBezTo>
                  <a:pt x="11439" y="1912"/>
                  <a:pt x="11542" y="1872"/>
                  <a:pt x="11584" y="1860"/>
                </a:cubicBezTo>
                <a:cubicBezTo>
                  <a:pt x="11619" y="1860"/>
                  <a:pt x="11636" y="1856"/>
                  <a:pt x="11658" y="1836"/>
                </a:cubicBezTo>
              </a:path>
              <a:path w="2952" h="1613">
                <a:moveTo>
                  <a:pt x="12229" y="1662"/>
                </a:moveTo>
                <a:cubicBezTo>
                  <a:pt x="12219" y="1623"/>
                  <a:pt x="12204" y="1607"/>
                  <a:pt x="12204" y="1563"/>
                </a:cubicBezTo>
                <a:cubicBezTo>
                  <a:pt x="12204" y="1510"/>
                  <a:pt x="12216" y="1501"/>
                  <a:pt x="12254" y="1463"/>
                </a:cubicBezTo>
                <a:cubicBezTo>
                  <a:pt x="12293" y="1424"/>
                  <a:pt x="12340" y="1429"/>
                  <a:pt x="12378" y="1463"/>
                </a:cubicBezTo>
                <a:cubicBezTo>
                  <a:pt x="12422" y="1502"/>
                  <a:pt x="12402" y="1582"/>
                  <a:pt x="12402" y="1637"/>
                </a:cubicBezTo>
                <a:cubicBezTo>
                  <a:pt x="12402" y="1645"/>
                  <a:pt x="12402" y="1654"/>
                  <a:pt x="12402" y="1662"/>
                </a:cubicBezTo>
                <a:cubicBezTo>
                  <a:pt x="12344" y="1662"/>
                  <a:pt x="12296" y="1675"/>
                  <a:pt x="12254" y="1637"/>
                </a:cubicBezTo>
                <a:cubicBezTo>
                  <a:pt x="12246" y="1629"/>
                  <a:pt x="12237" y="1620"/>
                  <a:pt x="12229" y="1612"/>
                </a:cubicBezTo>
              </a:path>
              <a:path w="2952" h="1613">
                <a:moveTo>
                  <a:pt x="12626" y="496"/>
                </a:moveTo>
                <a:cubicBezTo>
                  <a:pt x="12662" y="501"/>
                  <a:pt x="12699" y="517"/>
                  <a:pt x="12725" y="521"/>
                </a:cubicBezTo>
                <a:cubicBezTo>
                  <a:pt x="12791" y="531"/>
                  <a:pt x="12816" y="528"/>
                  <a:pt x="12874" y="571"/>
                </a:cubicBezTo>
                <a:cubicBezTo>
                  <a:pt x="12914" y="601"/>
                  <a:pt x="12990" y="633"/>
                  <a:pt x="13022" y="670"/>
                </a:cubicBezTo>
                <a:cubicBezTo>
                  <a:pt x="13069" y="724"/>
                  <a:pt x="13080" y="779"/>
                  <a:pt x="13097" y="843"/>
                </a:cubicBezTo>
                <a:cubicBezTo>
                  <a:pt x="13122" y="939"/>
                  <a:pt x="13137" y="1044"/>
                  <a:pt x="13146" y="1141"/>
                </a:cubicBezTo>
                <a:cubicBezTo>
                  <a:pt x="13157" y="1268"/>
                  <a:pt x="13110" y="1394"/>
                  <a:pt x="13072" y="1513"/>
                </a:cubicBezTo>
                <a:cubicBezTo>
                  <a:pt x="13049" y="1584"/>
                  <a:pt x="13024" y="1657"/>
                  <a:pt x="12973" y="1712"/>
                </a:cubicBezTo>
                <a:cubicBezTo>
                  <a:pt x="12965" y="1720"/>
                  <a:pt x="12956" y="1728"/>
                  <a:pt x="12948" y="173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68960" y="392040"/>
            <a:ext cx="81000" cy="637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14808" y="1116"/>
                </a:moveTo>
                <a:cubicBezTo>
                  <a:pt x="14816" y="1116"/>
                  <a:pt x="14825" y="1116"/>
                  <a:pt x="14833" y="1116"/>
                </a:cubicBezTo>
                <a:cubicBezTo>
                  <a:pt x="14795" y="1103"/>
                  <a:pt x="14813" y="1091"/>
                  <a:pt x="14759" y="1091"/>
                </a:cubicBezTo>
                <a:cubicBezTo>
                  <a:pt x="14709" y="1091"/>
                  <a:pt x="14649" y="1075"/>
                  <a:pt x="14635" y="1116"/>
                </a:cubicBezTo>
              </a:path>
              <a:path w="224" h="175">
                <a:moveTo>
                  <a:pt x="14833" y="1191"/>
                </a:moveTo>
                <a:cubicBezTo>
                  <a:pt x="14841" y="1199"/>
                  <a:pt x="14850" y="1207"/>
                  <a:pt x="14858" y="1215"/>
                </a:cubicBezTo>
                <a:cubicBezTo>
                  <a:pt x="14818" y="1245"/>
                  <a:pt x="14795" y="1220"/>
                  <a:pt x="14759" y="1240"/>
                </a:cubicBezTo>
                <a:cubicBezTo>
                  <a:pt x="14751" y="1248"/>
                  <a:pt x="14742" y="1257"/>
                  <a:pt x="14734" y="126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45120" y="231840"/>
            <a:ext cx="152640" cy="162000"/>
          </a:xfrm>
          <a:custGeom>
            <a:avLst/>
            <a:gdLst/>
            <a:ahLst/>
            <a:rect l="l" t="t" r="r" b="b"/>
            <a:pathLst>
              <a:path w="422" h="447">
                <a:moveTo>
                  <a:pt x="16867" y="843"/>
                </a:moveTo>
                <a:cubicBezTo>
                  <a:pt x="16845" y="836"/>
                  <a:pt x="16822" y="805"/>
                  <a:pt x="16842" y="769"/>
                </a:cubicBezTo>
                <a:cubicBezTo>
                  <a:pt x="16869" y="721"/>
                  <a:pt x="16877" y="730"/>
                  <a:pt x="16917" y="695"/>
                </a:cubicBezTo>
                <a:cubicBezTo>
                  <a:pt x="16945" y="670"/>
                  <a:pt x="16979" y="649"/>
                  <a:pt x="17016" y="645"/>
                </a:cubicBezTo>
                <a:cubicBezTo>
                  <a:pt x="17067" y="639"/>
                  <a:pt x="17075" y="657"/>
                  <a:pt x="17115" y="670"/>
                </a:cubicBezTo>
                <a:cubicBezTo>
                  <a:pt x="17151" y="682"/>
                  <a:pt x="17177" y="704"/>
                  <a:pt x="17190" y="744"/>
                </a:cubicBezTo>
                <a:cubicBezTo>
                  <a:pt x="17202" y="780"/>
                  <a:pt x="17214" y="801"/>
                  <a:pt x="17214" y="843"/>
                </a:cubicBezTo>
                <a:cubicBezTo>
                  <a:pt x="17214" y="910"/>
                  <a:pt x="17208" y="938"/>
                  <a:pt x="17190" y="992"/>
                </a:cubicBezTo>
                <a:cubicBezTo>
                  <a:pt x="17167" y="1064"/>
                  <a:pt x="17148" y="1039"/>
                  <a:pt x="17090" y="1067"/>
                </a:cubicBezTo>
                <a:cubicBezTo>
                  <a:pt x="17039" y="1092"/>
                  <a:pt x="17007" y="1091"/>
                  <a:pt x="16942" y="1091"/>
                </a:cubicBezTo>
                <a:cubicBezTo>
                  <a:pt x="16876" y="1091"/>
                  <a:pt x="16862" y="1062"/>
                  <a:pt x="16818" y="1017"/>
                </a:cubicBezTo>
                <a:cubicBezTo>
                  <a:pt x="16785" y="984"/>
                  <a:pt x="16793" y="963"/>
                  <a:pt x="16793" y="918"/>
                </a:cubicBezTo>
                <a:cubicBezTo>
                  <a:pt x="16793" y="874"/>
                  <a:pt x="16792" y="878"/>
                  <a:pt x="16818" y="84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13720" y="214200"/>
            <a:ext cx="107640" cy="21456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18951" y="595"/>
                </a:moveTo>
                <a:cubicBezTo>
                  <a:pt x="18951" y="636"/>
                  <a:pt x="18951" y="678"/>
                  <a:pt x="18951" y="719"/>
                </a:cubicBezTo>
              </a:path>
              <a:path w="299" h="597">
                <a:moveTo>
                  <a:pt x="19149" y="794"/>
                </a:moveTo>
                <a:cubicBezTo>
                  <a:pt x="19124" y="800"/>
                  <a:pt x="19073" y="807"/>
                  <a:pt x="19050" y="819"/>
                </a:cubicBezTo>
                <a:cubicBezTo>
                  <a:pt x="19009" y="841"/>
                  <a:pt x="19001" y="843"/>
                  <a:pt x="18951" y="843"/>
                </a:cubicBezTo>
                <a:cubicBezTo>
                  <a:pt x="18943" y="843"/>
                  <a:pt x="18934" y="843"/>
                  <a:pt x="18926" y="843"/>
                </a:cubicBezTo>
              </a:path>
              <a:path w="299" h="597">
                <a:moveTo>
                  <a:pt x="19025" y="992"/>
                </a:moveTo>
                <a:cubicBezTo>
                  <a:pt x="19000" y="992"/>
                  <a:pt x="18992" y="992"/>
                  <a:pt x="19000" y="967"/>
                </a:cubicBezTo>
                <a:cubicBezTo>
                  <a:pt x="19055" y="967"/>
                  <a:pt x="19035" y="948"/>
                  <a:pt x="19075" y="943"/>
                </a:cubicBezTo>
                <a:cubicBezTo>
                  <a:pt x="19102" y="940"/>
                  <a:pt x="19121" y="969"/>
                  <a:pt x="19124" y="992"/>
                </a:cubicBezTo>
                <a:cubicBezTo>
                  <a:pt x="19131" y="1052"/>
                  <a:pt x="19096" y="1045"/>
                  <a:pt x="19075" y="1091"/>
                </a:cubicBezTo>
                <a:cubicBezTo>
                  <a:pt x="19060" y="1125"/>
                  <a:pt x="19050" y="1150"/>
                  <a:pt x="19050" y="1191"/>
                </a:cubicBezTo>
                <a:cubicBezTo>
                  <a:pt x="19107" y="1191"/>
                  <a:pt x="19128" y="1181"/>
                  <a:pt x="19174" y="1166"/>
                </a:cubicBezTo>
                <a:cubicBezTo>
                  <a:pt x="19202" y="1166"/>
                  <a:pt x="19213" y="1164"/>
                  <a:pt x="19224" y="114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75200" y="187200"/>
            <a:ext cx="304920" cy="554040"/>
          </a:xfrm>
          <a:custGeom>
            <a:avLst/>
            <a:gdLst/>
            <a:ahLst/>
            <a:rect l="l" t="t" r="r" b="b"/>
            <a:pathLst>
              <a:path w="845" h="1539">
                <a:moveTo>
                  <a:pt x="16842" y="1389"/>
                </a:moveTo>
                <a:cubicBezTo>
                  <a:pt x="16850" y="1389"/>
                  <a:pt x="16859" y="1389"/>
                  <a:pt x="16867" y="1389"/>
                </a:cubicBezTo>
                <a:cubicBezTo>
                  <a:pt x="16867" y="1464"/>
                  <a:pt x="16874" y="1518"/>
                  <a:pt x="16892" y="1588"/>
                </a:cubicBezTo>
                <a:cubicBezTo>
                  <a:pt x="16892" y="1612"/>
                  <a:pt x="16892" y="1620"/>
                  <a:pt x="16917" y="1612"/>
                </a:cubicBezTo>
              </a:path>
              <a:path w="845" h="1539">
                <a:moveTo>
                  <a:pt x="17115" y="1687"/>
                </a:moveTo>
                <a:cubicBezTo>
                  <a:pt x="17047" y="1687"/>
                  <a:pt x="17005" y="1696"/>
                  <a:pt x="16942" y="1712"/>
                </a:cubicBezTo>
                <a:cubicBezTo>
                  <a:pt x="16899" y="1723"/>
                  <a:pt x="16864" y="1736"/>
                  <a:pt x="16818" y="1736"/>
                </a:cubicBezTo>
              </a:path>
              <a:path w="845" h="1539">
                <a:moveTo>
                  <a:pt x="16892" y="1860"/>
                </a:moveTo>
                <a:cubicBezTo>
                  <a:pt x="16851" y="1860"/>
                  <a:pt x="16925" y="1860"/>
                  <a:pt x="16966" y="1860"/>
                </a:cubicBezTo>
                <a:cubicBezTo>
                  <a:pt x="16999" y="1860"/>
                  <a:pt x="17033" y="1860"/>
                  <a:pt x="17066" y="1860"/>
                </a:cubicBezTo>
                <a:cubicBezTo>
                  <a:pt x="17066" y="1912"/>
                  <a:pt x="17071" y="1913"/>
                  <a:pt x="17041" y="1935"/>
                </a:cubicBezTo>
                <a:cubicBezTo>
                  <a:pt x="17008" y="1960"/>
                  <a:pt x="16970" y="1994"/>
                  <a:pt x="16966" y="2034"/>
                </a:cubicBezTo>
                <a:cubicBezTo>
                  <a:pt x="16966" y="2042"/>
                  <a:pt x="16966" y="2051"/>
                  <a:pt x="16966" y="2059"/>
                </a:cubicBezTo>
                <a:cubicBezTo>
                  <a:pt x="17032" y="2059"/>
                  <a:pt x="17099" y="2059"/>
                  <a:pt x="17165" y="2059"/>
                </a:cubicBezTo>
              </a:path>
              <a:path w="845" h="1539">
                <a:moveTo>
                  <a:pt x="16644" y="546"/>
                </a:moveTo>
                <a:cubicBezTo>
                  <a:pt x="16652" y="546"/>
                  <a:pt x="16661" y="546"/>
                  <a:pt x="16669" y="546"/>
                </a:cubicBezTo>
                <a:cubicBezTo>
                  <a:pt x="16646" y="535"/>
                  <a:pt x="16645" y="516"/>
                  <a:pt x="16594" y="546"/>
                </a:cubicBezTo>
                <a:cubicBezTo>
                  <a:pt x="16522" y="589"/>
                  <a:pt x="16434" y="698"/>
                  <a:pt x="16396" y="769"/>
                </a:cubicBezTo>
                <a:cubicBezTo>
                  <a:pt x="16384" y="791"/>
                  <a:pt x="16352" y="844"/>
                  <a:pt x="16346" y="868"/>
                </a:cubicBezTo>
                <a:cubicBezTo>
                  <a:pt x="16331" y="924"/>
                  <a:pt x="16324" y="956"/>
                  <a:pt x="16321" y="1017"/>
                </a:cubicBezTo>
                <a:cubicBezTo>
                  <a:pt x="16313" y="1191"/>
                  <a:pt x="16322" y="1379"/>
                  <a:pt x="16346" y="1538"/>
                </a:cubicBezTo>
                <a:cubicBezTo>
                  <a:pt x="16355" y="1598"/>
                  <a:pt x="16361" y="1661"/>
                  <a:pt x="16371" y="1712"/>
                </a:cubicBezTo>
                <a:cubicBezTo>
                  <a:pt x="16383" y="1773"/>
                  <a:pt x="16354" y="1809"/>
                  <a:pt x="16396" y="1860"/>
                </a:cubicBezTo>
                <a:cubicBezTo>
                  <a:pt x="16427" y="1899"/>
                  <a:pt x="16422" y="1944"/>
                  <a:pt x="16446" y="1984"/>
                </a:cubicBezTo>
                <a:cubicBezTo>
                  <a:pt x="16468" y="2007"/>
                  <a:pt x="16473" y="2015"/>
                  <a:pt x="16495" y="2009"/>
                </a:cubicBezTo>
                <a:cubicBezTo>
                  <a:pt x="16510" y="2030"/>
                  <a:pt x="16505" y="2038"/>
                  <a:pt x="16520" y="205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759720" y="534960"/>
            <a:ext cx="161640" cy="171360"/>
          </a:xfrm>
          <a:custGeom>
            <a:avLst/>
            <a:gdLst/>
            <a:ahLst/>
            <a:rect l="l" t="t" r="r" b="b"/>
            <a:pathLst>
              <a:path w="448" h="473">
                <a:moveTo>
                  <a:pt x="18876" y="1588"/>
                </a:moveTo>
                <a:cubicBezTo>
                  <a:pt x="18884" y="1556"/>
                  <a:pt x="18915" y="1504"/>
                  <a:pt x="18951" y="1488"/>
                </a:cubicBezTo>
                <a:cubicBezTo>
                  <a:pt x="18986" y="1473"/>
                  <a:pt x="19027" y="1493"/>
                  <a:pt x="19050" y="1513"/>
                </a:cubicBezTo>
                <a:cubicBezTo>
                  <a:pt x="19084" y="1543"/>
                  <a:pt x="19107" y="1566"/>
                  <a:pt x="19124" y="1588"/>
                </a:cubicBezTo>
                <a:cubicBezTo>
                  <a:pt x="19150" y="1623"/>
                  <a:pt x="19184" y="1666"/>
                  <a:pt x="19199" y="1712"/>
                </a:cubicBezTo>
                <a:cubicBezTo>
                  <a:pt x="19212" y="1749"/>
                  <a:pt x="19224" y="1768"/>
                  <a:pt x="19224" y="1811"/>
                </a:cubicBezTo>
                <a:cubicBezTo>
                  <a:pt x="19224" y="1864"/>
                  <a:pt x="19168" y="1867"/>
                  <a:pt x="19149" y="1910"/>
                </a:cubicBezTo>
                <a:cubicBezTo>
                  <a:pt x="19136" y="1939"/>
                  <a:pt x="19090" y="1948"/>
                  <a:pt x="19050" y="1960"/>
                </a:cubicBezTo>
                <a:cubicBezTo>
                  <a:pt x="19016" y="1970"/>
                  <a:pt x="18950" y="1950"/>
                  <a:pt x="18926" y="1935"/>
                </a:cubicBezTo>
                <a:cubicBezTo>
                  <a:pt x="18877" y="1906"/>
                  <a:pt x="18847" y="1904"/>
                  <a:pt x="18802" y="1860"/>
                </a:cubicBezTo>
                <a:cubicBezTo>
                  <a:pt x="18769" y="1828"/>
                  <a:pt x="18777" y="1805"/>
                  <a:pt x="18777" y="1761"/>
                </a:cubicBezTo>
                <a:cubicBezTo>
                  <a:pt x="18777" y="1707"/>
                  <a:pt x="18793" y="1679"/>
                  <a:pt x="18802" y="1637"/>
                </a:cubicBezTo>
                <a:cubicBezTo>
                  <a:pt x="18819" y="1558"/>
                  <a:pt x="18809" y="1617"/>
                  <a:pt x="18827" y="156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45200" y="223920"/>
            <a:ext cx="125640" cy="507960"/>
          </a:xfrm>
          <a:custGeom>
            <a:avLst/>
            <a:gdLst/>
            <a:ahLst/>
            <a:rect l="l" t="t" r="r" b="b"/>
            <a:pathLst>
              <a:path w="348" h="1415">
                <a:moveTo>
                  <a:pt x="19571" y="620"/>
                </a:moveTo>
                <a:cubicBezTo>
                  <a:pt x="19596" y="620"/>
                  <a:pt x="19604" y="620"/>
                  <a:pt x="19621" y="620"/>
                </a:cubicBezTo>
                <a:cubicBezTo>
                  <a:pt x="19648" y="641"/>
                  <a:pt x="19618" y="636"/>
                  <a:pt x="19670" y="645"/>
                </a:cubicBezTo>
                <a:cubicBezTo>
                  <a:pt x="19695" y="688"/>
                  <a:pt x="19701" y="695"/>
                  <a:pt x="19745" y="719"/>
                </a:cubicBezTo>
                <a:cubicBezTo>
                  <a:pt x="19755" y="743"/>
                  <a:pt x="19759" y="770"/>
                  <a:pt x="19769" y="794"/>
                </a:cubicBezTo>
                <a:cubicBezTo>
                  <a:pt x="19787" y="812"/>
                  <a:pt x="19799" y="841"/>
                  <a:pt x="19819" y="868"/>
                </a:cubicBezTo>
                <a:cubicBezTo>
                  <a:pt x="19845" y="902"/>
                  <a:pt x="19851" y="931"/>
                  <a:pt x="19869" y="967"/>
                </a:cubicBezTo>
                <a:cubicBezTo>
                  <a:pt x="19885" y="1000"/>
                  <a:pt x="19891" y="1027"/>
                  <a:pt x="19893" y="1067"/>
                </a:cubicBezTo>
                <a:cubicBezTo>
                  <a:pt x="19896" y="1123"/>
                  <a:pt x="19909" y="1171"/>
                  <a:pt x="19918" y="1215"/>
                </a:cubicBezTo>
                <a:cubicBezTo>
                  <a:pt x="19939" y="1318"/>
                  <a:pt x="19951" y="1606"/>
                  <a:pt x="19893" y="1687"/>
                </a:cubicBezTo>
                <a:cubicBezTo>
                  <a:pt x="19869" y="1721"/>
                  <a:pt x="19861" y="1751"/>
                  <a:pt x="19844" y="1786"/>
                </a:cubicBezTo>
                <a:cubicBezTo>
                  <a:pt x="19817" y="1841"/>
                  <a:pt x="19806" y="1884"/>
                  <a:pt x="19769" y="1935"/>
                </a:cubicBezTo>
                <a:cubicBezTo>
                  <a:pt x="19741" y="1974"/>
                  <a:pt x="19751" y="1965"/>
                  <a:pt x="19745" y="2009"/>
                </a:cubicBezTo>
                <a:cubicBezTo>
                  <a:pt x="19720" y="2009"/>
                  <a:pt x="19712" y="2009"/>
                  <a:pt x="19720" y="203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438280" y="1251000"/>
            <a:ext cx="23184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6821" y="3894"/>
                </a:moveTo>
                <a:cubicBezTo>
                  <a:pt x="6821" y="3830"/>
                  <a:pt x="6821" y="3933"/>
                  <a:pt x="6821" y="3944"/>
                </a:cubicBezTo>
                <a:cubicBezTo>
                  <a:pt x="6821" y="4027"/>
                  <a:pt x="6821" y="4109"/>
                  <a:pt x="6821" y="4192"/>
                </a:cubicBezTo>
              </a:path>
              <a:path w="646" h="745">
                <a:moveTo>
                  <a:pt x="6995" y="3845"/>
                </a:moveTo>
                <a:cubicBezTo>
                  <a:pt x="7018" y="3822"/>
                  <a:pt x="7022" y="3814"/>
                  <a:pt x="7045" y="3820"/>
                </a:cubicBezTo>
                <a:cubicBezTo>
                  <a:pt x="7058" y="3873"/>
                  <a:pt x="7069" y="3906"/>
                  <a:pt x="7069" y="3969"/>
                </a:cubicBezTo>
                <a:cubicBezTo>
                  <a:pt x="7069" y="4010"/>
                  <a:pt x="7069" y="4052"/>
                  <a:pt x="7069" y="4093"/>
                </a:cubicBezTo>
              </a:path>
              <a:path w="646" h="745">
                <a:moveTo>
                  <a:pt x="6970" y="3746"/>
                </a:moveTo>
                <a:cubicBezTo>
                  <a:pt x="6970" y="3704"/>
                  <a:pt x="6978" y="3688"/>
                  <a:pt x="6945" y="3696"/>
                </a:cubicBezTo>
              </a:path>
              <a:path w="646" h="745">
                <a:moveTo>
                  <a:pt x="6871" y="3671"/>
                </a:moveTo>
                <a:cubicBezTo>
                  <a:pt x="6822" y="3650"/>
                  <a:pt x="6820" y="3646"/>
                  <a:pt x="6772" y="3646"/>
                </a:cubicBezTo>
              </a:path>
              <a:path w="646" h="745">
                <a:moveTo>
                  <a:pt x="6945" y="3497"/>
                </a:moveTo>
                <a:cubicBezTo>
                  <a:pt x="6986" y="3473"/>
                  <a:pt x="7041" y="3461"/>
                  <a:pt x="7094" y="3473"/>
                </a:cubicBezTo>
                <a:cubicBezTo>
                  <a:pt x="7196" y="3495"/>
                  <a:pt x="7246" y="3550"/>
                  <a:pt x="7317" y="3621"/>
                </a:cubicBezTo>
                <a:cubicBezTo>
                  <a:pt x="7384" y="3688"/>
                  <a:pt x="7432" y="3796"/>
                  <a:pt x="7417" y="3894"/>
                </a:cubicBezTo>
                <a:cubicBezTo>
                  <a:pt x="7401" y="3998"/>
                  <a:pt x="7347" y="4061"/>
                  <a:pt x="7293" y="4142"/>
                </a:cubicBezTo>
                <a:cubicBezTo>
                  <a:pt x="7268" y="4192"/>
                  <a:pt x="7260" y="4209"/>
                  <a:pt x="7218" y="421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19240" y="1143000"/>
            <a:ext cx="349560" cy="509760"/>
          </a:xfrm>
          <a:custGeom>
            <a:avLst/>
            <a:gdLst/>
            <a:ahLst/>
            <a:rect l="l" t="t" r="r" b="b"/>
            <a:pathLst>
              <a:path w="969" h="1415">
                <a:moveTo>
                  <a:pt x="8632" y="3621"/>
                </a:moveTo>
                <a:cubicBezTo>
                  <a:pt x="8619" y="3584"/>
                  <a:pt x="8607" y="3600"/>
                  <a:pt x="8607" y="3547"/>
                </a:cubicBezTo>
                <a:cubicBezTo>
                  <a:pt x="8607" y="3491"/>
                  <a:pt x="8606" y="3469"/>
                  <a:pt x="8632" y="3423"/>
                </a:cubicBezTo>
                <a:cubicBezTo>
                  <a:pt x="8661" y="3372"/>
                  <a:pt x="8690" y="3341"/>
                  <a:pt x="8731" y="3299"/>
                </a:cubicBezTo>
                <a:cubicBezTo>
                  <a:pt x="8783" y="3247"/>
                  <a:pt x="8840" y="3271"/>
                  <a:pt x="8880" y="3324"/>
                </a:cubicBezTo>
                <a:cubicBezTo>
                  <a:pt x="8928" y="3387"/>
                  <a:pt x="8950" y="3471"/>
                  <a:pt x="8954" y="3547"/>
                </a:cubicBezTo>
                <a:cubicBezTo>
                  <a:pt x="8957" y="3603"/>
                  <a:pt x="8943" y="3667"/>
                  <a:pt x="8880" y="3671"/>
                </a:cubicBezTo>
                <a:cubicBezTo>
                  <a:pt x="8819" y="3675"/>
                  <a:pt x="8752" y="3683"/>
                  <a:pt x="8706" y="3646"/>
                </a:cubicBezTo>
                <a:cubicBezTo>
                  <a:pt x="8663" y="3611"/>
                  <a:pt x="8643" y="3575"/>
                  <a:pt x="8632" y="3522"/>
                </a:cubicBezTo>
              </a:path>
              <a:path w="969" h="1415">
                <a:moveTo>
                  <a:pt x="8632" y="4266"/>
                </a:moveTo>
                <a:cubicBezTo>
                  <a:pt x="8632" y="4291"/>
                  <a:pt x="8632" y="4299"/>
                  <a:pt x="8607" y="4291"/>
                </a:cubicBezTo>
                <a:cubicBezTo>
                  <a:pt x="8607" y="4265"/>
                  <a:pt x="8615" y="4204"/>
                  <a:pt x="8632" y="4192"/>
                </a:cubicBezTo>
                <a:cubicBezTo>
                  <a:pt x="8661" y="4173"/>
                  <a:pt x="8717" y="4145"/>
                  <a:pt x="8756" y="4142"/>
                </a:cubicBezTo>
                <a:cubicBezTo>
                  <a:pt x="8797" y="4139"/>
                  <a:pt x="8865" y="4139"/>
                  <a:pt x="8880" y="4192"/>
                </a:cubicBezTo>
                <a:cubicBezTo>
                  <a:pt x="8899" y="4259"/>
                  <a:pt x="8867" y="4336"/>
                  <a:pt x="8830" y="4390"/>
                </a:cubicBezTo>
                <a:cubicBezTo>
                  <a:pt x="8801" y="4433"/>
                  <a:pt x="8759" y="4471"/>
                  <a:pt x="8731" y="4514"/>
                </a:cubicBezTo>
                <a:cubicBezTo>
                  <a:pt x="8711" y="4555"/>
                  <a:pt x="8702" y="4561"/>
                  <a:pt x="8706" y="4589"/>
                </a:cubicBezTo>
                <a:cubicBezTo>
                  <a:pt x="8830" y="4589"/>
                  <a:pt x="8955" y="4589"/>
                  <a:pt x="9079" y="4589"/>
                </a:cubicBezTo>
              </a:path>
              <a:path w="969" h="1415">
                <a:moveTo>
                  <a:pt x="8334" y="3200"/>
                </a:moveTo>
                <a:cubicBezTo>
                  <a:pt x="8377" y="3200"/>
                  <a:pt x="8372" y="3210"/>
                  <a:pt x="8384" y="3175"/>
                </a:cubicBezTo>
                <a:cubicBezTo>
                  <a:pt x="8361" y="3183"/>
                  <a:pt x="8331" y="3216"/>
                  <a:pt x="8310" y="3249"/>
                </a:cubicBezTo>
                <a:cubicBezTo>
                  <a:pt x="8259" y="3328"/>
                  <a:pt x="8217" y="3382"/>
                  <a:pt x="8186" y="3473"/>
                </a:cubicBezTo>
                <a:cubicBezTo>
                  <a:pt x="8158" y="3553"/>
                  <a:pt x="8124" y="3662"/>
                  <a:pt x="8111" y="3746"/>
                </a:cubicBezTo>
                <a:cubicBezTo>
                  <a:pt x="8096" y="3841"/>
                  <a:pt x="8124" y="3928"/>
                  <a:pt x="8136" y="4018"/>
                </a:cubicBezTo>
                <a:cubicBezTo>
                  <a:pt x="8146" y="4093"/>
                  <a:pt x="8177" y="4169"/>
                  <a:pt x="8186" y="4242"/>
                </a:cubicBezTo>
                <a:cubicBezTo>
                  <a:pt x="8196" y="4319"/>
                  <a:pt x="8201" y="4376"/>
                  <a:pt x="8235" y="4440"/>
                </a:cubicBezTo>
                <a:cubicBezTo>
                  <a:pt x="8263" y="4492"/>
                  <a:pt x="8260" y="4502"/>
                  <a:pt x="8310" y="451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44920" y="1089000"/>
            <a:ext cx="830160" cy="573120"/>
          </a:xfrm>
          <a:custGeom>
            <a:avLst/>
            <a:gdLst/>
            <a:ahLst/>
            <a:rect l="l" t="t" r="r" b="b"/>
            <a:pathLst>
              <a:path w="2308" h="1589">
                <a:moveTo>
                  <a:pt x="9897" y="3423"/>
                </a:moveTo>
                <a:cubicBezTo>
                  <a:pt x="9882" y="3418"/>
                  <a:pt x="9832" y="3383"/>
                  <a:pt x="9847" y="3349"/>
                </a:cubicBezTo>
                <a:cubicBezTo>
                  <a:pt x="9860" y="3320"/>
                  <a:pt x="9922" y="3283"/>
                  <a:pt x="9947" y="3274"/>
                </a:cubicBezTo>
                <a:cubicBezTo>
                  <a:pt x="9984" y="3261"/>
                  <a:pt x="10031" y="3290"/>
                  <a:pt x="10046" y="3324"/>
                </a:cubicBezTo>
                <a:cubicBezTo>
                  <a:pt x="10068" y="3373"/>
                  <a:pt x="10084" y="3392"/>
                  <a:pt x="10046" y="3448"/>
                </a:cubicBezTo>
                <a:cubicBezTo>
                  <a:pt x="10023" y="3483"/>
                  <a:pt x="9987" y="3532"/>
                  <a:pt x="9971" y="3572"/>
                </a:cubicBezTo>
                <a:cubicBezTo>
                  <a:pt x="9971" y="3580"/>
                  <a:pt x="9971" y="3589"/>
                  <a:pt x="9971" y="3597"/>
                </a:cubicBezTo>
                <a:cubicBezTo>
                  <a:pt x="10040" y="3597"/>
                  <a:pt x="10080" y="3588"/>
                  <a:pt x="10145" y="3572"/>
                </a:cubicBezTo>
                <a:cubicBezTo>
                  <a:pt x="10153" y="3572"/>
                  <a:pt x="10162" y="3572"/>
                  <a:pt x="10170" y="3572"/>
                </a:cubicBezTo>
              </a:path>
              <a:path w="2308" h="1589">
                <a:moveTo>
                  <a:pt x="10046" y="4192"/>
                </a:moveTo>
                <a:cubicBezTo>
                  <a:pt x="10046" y="4135"/>
                  <a:pt x="10056" y="4114"/>
                  <a:pt x="10071" y="4068"/>
                </a:cubicBezTo>
                <a:cubicBezTo>
                  <a:pt x="10075" y="4056"/>
                  <a:pt x="10121" y="4013"/>
                  <a:pt x="10145" y="4043"/>
                </a:cubicBezTo>
                <a:cubicBezTo>
                  <a:pt x="10176" y="4083"/>
                  <a:pt x="10170" y="4167"/>
                  <a:pt x="10170" y="4217"/>
                </a:cubicBezTo>
                <a:cubicBezTo>
                  <a:pt x="10170" y="4269"/>
                  <a:pt x="10183" y="4311"/>
                  <a:pt x="10120" y="4316"/>
                </a:cubicBezTo>
                <a:cubicBezTo>
                  <a:pt x="10057" y="4321"/>
                  <a:pt x="10038" y="4283"/>
                  <a:pt x="9996" y="4242"/>
                </a:cubicBezTo>
                <a:cubicBezTo>
                  <a:pt x="9966" y="4212"/>
                  <a:pt x="9971" y="4207"/>
                  <a:pt x="9971" y="4167"/>
                </a:cubicBezTo>
              </a:path>
              <a:path w="2308" h="1589">
                <a:moveTo>
                  <a:pt x="10319" y="3101"/>
                </a:moveTo>
                <a:cubicBezTo>
                  <a:pt x="10383" y="3119"/>
                  <a:pt x="10338" y="3115"/>
                  <a:pt x="10393" y="3150"/>
                </a:cubicBezTo>
                <a:cubicBezTo>
                  <a:pt x="10422" y="3169"/>
                  <a:pt x="10458" y="3204"/>
                  <a:pt x="10492" y="3225"/>
                </a:cubicBezTo>
                <a:cubicBezTo>
                  <a:pt x="10564" y="3270"/>
                  <a:pt x="10577" y="3295"/>
                  <a:pt x="10616" y="3373"/>
                </a:cubicBezTo>
                <a:cubicBezTo>
                  <a:pt x="10647" y="3436"/>
                  <a:pt x="10680" y="3504"/>
                  <a:pt x="10691" y="3572"/>
                </a:cubicBezTo>
                <a:cubicBezTo>
                  <a:pt x="10714" y="3709"/>
                  <a:pt x="10682" y="3865"/>
                  <a:pt x="10666" y="3994"/>
                </a:cubicBezTo>
                <a:cubicBezTo>
                  <a:pt x="10655" y="4084"/>
                  <a:pt x="10633" y="4135"/>
                  <a:pt x="10592" y="4217"/>
                </a:cubicBezTo>
                <a:cubicBezTo>
                  <a:pt x="10555" y="4290"/>
                  <a:pt x="10528" y="4366"/>
                  <a:pt x="10492" y="4440"/>
                </a:cubicBezTo>
                <a:cubicBezTo>
                  <a:pt x="10460" y="4506"/>
                  <a:pt x="10442" y="4529"/>
                  <a:pt x="10393" y="4564"/>
                </a:cubicBezTo>
              </a:path>
              <a:path w="2308" h="1589">
                <a:moveTo>
                  <a:pt x="11261" y="3150"/>
                </a:moveTo>
                <a:cubicBezTo>
                  <a:pt x="11331" y="3081"/>
                  <a:pt x="11319" y="3123"/>
                  <a:pt x="11336" y="3051"/>
                </a:cubicBezTo>
                <a:cubicBezTo>
                  <a:pt x="11336" y="3043"/>
                  <a:pt x="11336" y="3034"/>
                  <a:pt x="11336" y="3026"/>
                </a:cubicBezTo>
                <a:cubicBezTo>
                  <a:pt x="11295" y="3067"/>
                  <a:pt x="11238" y="3126"/>
                  <a:pt x="11212" y="3175"/>
                </a:cubicBezTo>
                <a:cubicBezTo>
                  <a:pt x="11164" y="3268"/>
                  <a:pt x="11122" y="3345"/>
                  <a:pt x="11088" y="3448"/>
                </a:cubicBezTo>
                <a:cubicBezTo>
                  <a:pt x="11055" y="3548"/>
                  <a:pt x="11038" y="3617"/>
                  <a:pt x="11038" y="3721"/>
                </a:cubicBezTo>
                <a:cubicBezTo>
                  <a:pt x="11038" y="3818"/>
                  <a:pt x="11033" y="3904"/>
                  <a:pt x="11063" y="3994"/>
                </a:cubicBezTo>
                <a:cubicBezTo>
                  <a:pt x="11091" y="4078"/>
                  <a:pt x="11106" y="4161"/>
                  <a:pt x="11137" y="4242"/>
                </a:cubicBezTo>
                <a:cubicBezTo>
                  <a:pt x="11176" y="4344"/>
                  <a:pt x="11239" y="4484"/>
                  <a:pt x="11311" y="4564"/>
                </a:cubicBezTo>
                <a:cubicBezTo>
                  <a:pt x="11336" y="4589"/>
                  <a:pt x="11344" y="4597"/>
                  <a:pt x="11361" y="4614"/>
                </a:cubicBezTo>
              </a:path>
              <a:path w="2308" h="1589">
                <a:moveTo>
                  <a:pt x="11708" y="3349"/>
                </a:moveTo>
                <a:cubicBezTo>
                  <a:pt x="11670" y="3336"/>
                  <a:pt x="11683" y="3319"/>
                  <a:pt x="11683" y="3274"/>
                </a:cubicBezTo>
                <a:cubicBezTo>
                  <a:pt x="11683" y="3238"/>
                  <a:pt x="11689" y="3188"/>
                  <a:pt x="11733" y="3175"/>
                </a:cubicBezTo>
                <a:cubicBezTo>
                  <a:pt x="11773" y="3164"/>
                  <a:pt x="11862" y="3213"/>
                  <a:pt x="11881" y="3249"/>
                </a:cubicBezTo>
                <a:cubicBezTo>
                  <a:pt x="11911" y="3307"/>
                  <a:pt x="11952" y="3407"/>
                  <a:pt x="11931" y="3473"/>
                </a:cubicBezTo>
                <a:cubicBezTo>
                  <a:pt x="11913" y="3531"/>
                  <a:pt x="11839" y="3544"/>
                  <a:pt x="11782" y="3522"/>
                </a:cubicBezTo>
                <a:cubicBezTo>
                  <a:pt x="11738" y="3505"/>
                  <a:pt x="11694" y="3466"/>
                  <a:pt x="11683" y="3423"/>
                </a:cubicBezTo>
              </a:path>
              <a:path w="2308" h="1589">
                <a:moveTo>
                  <a:pt x="11658" y="4192"/>
                </a:moveTo>
                <a:cubicBezTo>
                  <a:pt x="11633" y="4192"/>
                  <a:pt x="11625" y="4192"/>
                  <a:pt x="11633" y="4167"/>
                </a:cubicBezTo>
                <a:cubicBezTo>
                  <a:pt x="11638" y="4151"/>
                  <a:pt x="11656" y="4106"/>
                  <a:pt x="11683" y="4093"/>
                </a:cubicBezTo>
                <a:cubicBezTo>
                  <a:pt x="11713" y="4078"/>
                  <a:pt x="11839" y="4083"/>
                  <a:pt x="11857" y="4118"/>
                </a:cubicBezTo>
                <a:cubicBezTo>
                  <a:pt x="11876" y="4155"/>
                  <a:pt x="11853" y="4216"/>
                  <a:pt x="11832" y="4242"/>
                </a:cubicBezTo>
                <a:cubicBezTo>
                  <a:pt x="11807" y="4273"/>
                  <a:pt x="11772" y="4328"/>
                  <a:pt x="11757" y="4366"/>
                </a:cubicBezTo>
                <a:cubicBezTo>
                  <a:pt x="11739" y="4410"/>
                  <a:pt x="11764" y="4427"/>
                  <a:pt x="11782" y="4440"/>
                </a:cubicBezTo>
                <a:cubicBezTo>
                  <a:pt x="11823" y="4471"/>
                  <a:pt x="11855" y="4465"/>
                  <a:pt x="11906" y="4465"/>
                </a:cubicBezTo>
                <a:cubicBezTo>
                  <a:pt x="11976" y="4465"/>
                  <a:pt x="12022" y="4459"/>
                  <a:pt x="12080" y="4440"/>
                </a:cubicBezTo>
                <a:cubicBezTo>
                  <a:pt x="12108" y="4431"/>
                  <a:pt x="12125" y="4422"/>
                  <a:pt x="12154" y="441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60920" y="1044720"/>
            <a:ext cx="403200" cy="625320"/>
          </a:xfrm>
          <a:custGeom>
            <a:avLst/>
            <a:gdLst/>
            <a:ahLst/>
            <a:rect l="l" t="t" r="r" b="b"/>
            <a:pathLst>
              <a:path w="1117" h="1737">
                <a:moveTo>
                  <a:pt x="13047" y="3274"/>
                </a:moveTo>
                <a:cubicBezTo>
                  <a:pt x="12972" y="3224"/>
                  <a:pt x="13001" y="3241"/>
                  <a:pt x="13022" y="3175"/>
                </a:cubicBezTo>
                <a:cubicBezTo>
                  <a:pt x="13031" y="3146"/>
                  <a:pt x="13056" y="3130"/>
                  <a:pt x="13097" y="3125"/>
                </a:cubicBezTo>
                <a:cubicBezTo>
                  <a:pt x="13129" y="3121"/>
                  <a:pt x="13164" y="3125"/>
                  <a:pt x="13196" y="3125"/>
                </a:cubicBezTo>
                <a:cubicBezTo>
                  <a:pt x="13196" y="3192"/>
                  <a:pt x="13210" y="3265"/>
                  <a:pt x="13171" y="3324"/>
                </a:cubicBezTo>
                <a:cubicBezTo>
                  <a:pt x="13147" y="3360"/>
                  <a:pt x="13127" y="3405"/>
                  <a:pt x="13122" y="3448"/>
                </a:cubicBezTo>
                <a:cubicBezTo>
                  <a:pt x="13122" y="3456"/>
                  <a:pt x="13122" y="3465"/>
                  <a:pt x="13122" y="3473"/>
                </a:cubicBezTo>
                <a:cubicBezTo>
                  <a:pt x="13221" y="3473"/>
                  <a:pt x="13320" y="3473"/>
                  <a:pt x="13419" y="3473"/>
                </a:cubicBezTo>
              </a:path>
              <a:path w="1117" h="1737">
                <a:moveTo>
                  <a:pt x="12998" y="4118"/>
                </a:moveTo>
                <a:cubicBezTo>
                  <a:pt x="12998" y="4055"/>
                  <a:pt x="13026" y="4075"/>
                  <a:pt x="13047" y="4043"/>
                </a:cubicBezTo>
                <a:cubicBezTo>
                  <a:pt x="13055" y="4031"/>
                  <a:pt x="13084" y="3978"/>
                  <a:pt x="13122" y="3994"/>
                </a:cubicBezTo>
                <a:cubicBezTo>
                  <a:pt x="13173" y="4016"/>
                  <a:pt x="13192" y="4072"/>
                  <a:pt x="13196" y="4118"/>
                </a:cubicBezTo>
                <a:cubicBezTo>
                  <a:pt x="13200" y="4169"/>
                  <a:pt x="13204" y="4205"/>
                  <a:pt x="13171" y="4242"/>
                </a:cubicBezTo>
                <a:cubicBezTo>
                  <a:pt x="13148" y="4267"/>
                  <a:pt x="13104" y="4287"/>
                  <a:pt x="13072" y="4291"/>
                </a:cubicBezTo>
                <a:cubicBezTo>
                  <a:pt x="13039" y="4295"/>
                  <a:pt x="12991" y="4301"/>
                  <a:pt x="12973" y="4266"/>
                </a:cubicBezTo>
                <a:cubicBezTo>
                  <a:pt x="12957" y="4234"/>
                  <a:pt x="12948" y="4207"/>
                  <a:pt x="12948" y="4167"/>
                </a:cubicBezTo>
              </a:path>
              <a:path w="1117" h="1737">
                <a:moveTo>
                  <a:pt x="13593" y="2902"/>
                </a:moveTo>
                <a:cubicBezTo>
                  <a:pt x="13631" y="2907"/>
                  <a:pt x="13662" y="2908"/>
                  <a:pt x="13692" y="2927"/>
                </a:cubicBezTo>
                <a:cubicBezTo>
                  <a:pt x="13740" y="2957"/>
                  <a:pt x="13760" y="3009"/>
                  <a:pt x="13791" y="3051"/>
                </a:cubicBezTo>
                <a:cubicBezTo>
                  <a:pt x="13825" y="3096"/>
                  <a:pt x="13876" y="3131"/>
                  <a:pt x="13915" y="3175"/>
                </a:cubicBezTo>
                <a:cubicBezTo>
                  <a:pt x="13959" y="3224"/>
                  <a:pt x="13956" y="3272"/>
                  <a:pt x="13990" y="3324"/>
                </a:cubicBezTo>
                <a:cubicBezTo>
                  <a:pt x="14028" y="3382"/>
                  <a:pt x="14015" y="3418"/>
                  <a:pt x="14039" y="3473"/>
                </a:cubicBezTo>
                <a:cubicBezTo>
                  <a:pt x="14061" y="3524"/>
                  <a:pt x="14064" y="3558"/>
                  <a:pt x="14064" y="3621"/>
                </a:cubicBezTo>
                <a:cubicBezTo>
                  <a:pt x="14064" y="3695"/>
                  <a:pt x="14071" y="3759"/>
                  <a:pt x="14039" y="3820"/>
                </a:cubicBezTo>
                <a:cubicBezTo>
                  <a:pt x="13999" y="3897"/>
                  <a:pt x="13996" y="3963"/>
                  <a:pt x="13965" y="4043"/>
                </a:cubicBezTo>
                <a:cubicBezTo>
                  <a:pt x="13939" y="4111"/>
                  <a:pt x="13920" y="4177"/>
                  <a:pt x="13891" y="4242"/>
                </a:cubicBezTo>
                <a:cubicBezTo>
                  <a:pt x="13857" y="4319"/>
                  <a:pt x="13811" y="4373"/>
                  <a:pt x="13767" y="4440"/>
                </a:cubicBezTo>
                <a:cubicBezTo>
                  <a:pt x="13733" y="4491"/>
                  <a:pt x="13708" y="4543"/>
                  <a:pt x="13667" y="4589"/>
                </a:cubicBezTo>
                <a:cubicBezTo>
                  <a:pt x="13645" y="4611"/>
                  <a:pt x="13637" y="4616"/>
                  <a:pt x="13643" y="463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19800" y="1285920"/>
            <a:ext cx="1080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5280" y="3597"/>
                </a:moveTo>
                <a:cubicBezTo>
                  <a:pt x="15288" y="3589"/>
                  <a:pt x="15296" y="3580"/>
                  <a:pt x="15304" y="3572"/>
                </a:cubicBezTo>
                <a:cubicBezTo>
                  <a:pt x="15234" y="3572"/>
                  <a:pt x="15189" y="3578"/>
                  <a:pt x="15131" y="3597"/>
                </a:cubicBezTo>
                <a:cubicBezTo>
                  <a:pt x="15086" y="3612"/>
                  <a:pt x="15072" y="3574"/>
                  <a:pt x="15056" y="3621"/>
                </a:cubicBezTo>
              </a:path>
              <a:path w="299" h="150">
                <a:moveTo>
                  <a:pt x="15354" y="3696"/>
                </a:moveTo>
                <a:cubicBezTo>
                  <a:pt x="15296" y="3696"/>
                  <a:pt x="15260" y="3708"/>
                  <a:pt x="15205" y="3721"/>
                </a:cubicBezTo>
                <a:cubicBezTo>
                  <a:pt x="15197" y="3721"/>
                  <a:pt x="15188" y="3721"/>
                  <a:pt x="15180" y="372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59280" y="1071720"/>
            <a:ext cx="447840" cy="544320"/>
          </a:xfrm>
          <a:custGeom>
            <a:avLst/>
            <a:gdLst/>
            <a:ahLst/>
            <a:rect l="l" t="t" r="r" b="b"/>
            <a:pathLst>
              <a:path w="1241" h="1514">
                <a:moveTo>
                  <a:pt x="16396" y="2977"/>
                </a:moveTo>
                <a:cubicBezTo>
                  <a:pt x="16404" y="2977"/>
                  <a:pt x="16413" y="2977"/>
                  <a:pt x="16421" y="2977"/>
                </a:cubicBezTo>
                <a:cubicBezTo>
                  <a:pt x="16378" y="3001"/>
                  <a:pt x="16373" y="3015"/>
                  <a:pt x="16346" y="3051"/>
                </a:cubicBezTo>
                <a:cubicBezTo>
                  <a:pt x="16322" y="3083"/>
                  <a:pt x="16291" y="3125"/>
                  <a:pt x="16272" y="3150"/>
                </a:cubicBezTo>
                <a:cubicBezTo>
                  <a:pt x="16243" y="3188"/>
                  <a:pt x="16220" y="3211"/>
                  <a:pt x="16197" y="3249"/>
                </a:cubicBezTo>
                <a:cubicBezTo>
                  <a:pt x="16181" y="3276"/>
                  <a:pt x="16164" y="3321"/>
                  <a:pt x="16148" y="3349"/>
                </a:cubicBezTo>
                <a:cubicBezTo>
                  <a:pt x="16126" y="3370"/>
                  <a:pt x="16109" y="3376"/>
                  <a:pt x="16098" y="3423"/>
                </a:cubicBezTo>
                <a:cubicBezTo>
                  <a:pt x="16089" y="3462"/>
                  <a:pt x="16088" y="3487"/>
                  <a:pt x="16073" y="3522"/>
                </a:cubicBezTo>
                <a:cubicBezTo>
                  <a:pt x="16059" y="3554"/>
                  <a:pt x="16061" y="3588"/>
                  <a:pt x="16049" y="3621"/>
                </a:cubicBezTo>
                <a:cubicBezTo>
                  <a:pt x="16036" y="3658"/>
                  <a:pt x="16027" y="3678"/>
                  <a:pt x="16024" y="3721"/>
                </a:cubicBezTo>
                <a:cubicBezTo>
                  <a:pt x="16021" y="3765"/>
                  <a:pt x="16006" y="3780"/>
                  <a:pt x="15999" y="3820"/>
                </a:cubicBezTo>
                <a:cubicBezTo>
                  <a:pt x="15990" y="3875"/>
                  <a:pt x="16016" y="3903"/>
                  <a:pt x="16024" y="3944"/>
                </a:cubicBezTo>
                <a:cubicBezTo>
                  <a:pt x="16032" y="3981"/>
                  <a:pt x="16030" y="4012"/>
                  <a:pt x="16049" y="4043"/>
                </a:cubicBezTo>
                <a:cubicBezTo>
                  <a:pt x="16072" y="4080"/>
                  <a:pt x="16098" y="4104"/>
                  <a:pt x="16123" y="4142"/>
                </a:cubicBezTo>
                <a:cubicBezTo>
                  <a:pt x="16142" y="4171"/>
                  <a:pt x="16163" y="4248"/>
                  <a:pt x="16197" y="4266"/>
                </a:cubicBezTo>
                <a:cubicBezTo>
                  <a:pt x="16205" y="4266"/>
                  <a:pt x="16214" y="4266"/>
                  <a:pt x="16222" y="4266"/>
                </a:cubicBezTo>
                <a:cubicBezTo>
                  <a:pt x="16243" y="4297"/>
                  <a:pt x="16241" y="4295"/>
                  <a:pt x="16272" y="4316"/>
                </a:cubicBezTo>
                <a:cubicBezTo>
                  <a:pt x="16292" y="4346"/>
                  <a:pt x="16291" y="4346"/>
                  <a:pt x="16321" y="4366"/>
                </a:cubicBezTo>
                <a:cubicBezTo>
                  <a:pt x="16344" y="4406"/>
                  <a:pt x="16366" y="4452"/>
                  <a:pt x="16396" y="4490"/>
                </a:cubicBezTo>
              </a:path>
              <a:path w="1241" h="1514">
                <a:moveTo>
                  <a:pt x="16818" y="3101"/>
                </a:moveTo>
                <a:cubicBezTo>
                  <a:pt x="16842" y="3101"/>
                  <a:pt x="16850" y="3101"/>
                  <a:pt x="16842" y="3076"/>
                </a:cubicBezTo>
                <a:cubicBezTo>
                  <a:pt x="16842" y="3113"/>
                  <a:pt x="16832" y="3171"/>
                  <a:pt x="16818" y="3200"/>
                </a:cubicBezTo>
                <a:cubicBezTo>
                  <a:pt x="16800" y="3237"/>
                  <a:pt x="16773" y="3256"/>
                  <a:pt x="16768" y="3299"/>
                </a:cubicBezTo>
                <a:cubicBezTo>
                  <a:pt x="16765" y="3323"/>
                  <a:pt x="16768" y="3349"/>
                  <a:pt x="16768" y="3373"/>
                </a:cubicBezTo>
                <a:cubicBezTo>
                  <a:pt x="16814" y="3373"/>
                  <a:pt x="16831" y="3356"/>
                  <a:pt x="16867" y="3349"/>
                </a:cubicBezTo>
                <a:cubicBezTo>
                  <a:pt x="16967" y="3328"/>
                  <a:pt x="17104" y="3345"/>
                  <a:pt x="17190" y="3373"/>
                </a:cubicBezTo>
                <a:cubicBezTo>
                  <a:pt x="17197" y="3375"/>
                  <a:pt x="17282" y="3373"/>
                  <a:pt x="17214" y="3373"/>
                </a:cubicBezTo>
              </a:path>
              <a:path w="1241" h="1514">
                <a:moveTo>
                  <a:pt x="17041" y="3249"/>
                </a:moveTo>
                <a:cubicBezTo>
                  <a:pt x="17041" y="3357"/>
                  <a:pt x="17041" y="3464"/>
                  <a:pt x="17041" y="3572"/>
                </a:cubicBezTo>
              </a:path>
              <a:path w="1241" h="1514">
                <a:moveTo>
                  <a:pt x="16793" y="4043"/>
                </a:moveTo>
                <a:cubicBezTo>
                  <a:pt x="16793" y="3999"/>
                  <a:pt x="16800" y="3994"/>
                  <a:pt x="16818" y="3969"/>
                </a:cubicBezTo>
                <a:cubicBezTo>
                  <a:pt x="16840" y="3939"/>
                  <a:pt x="16885" y="3905"/>
                  <a:pt x="16917" y="3894"/>
                </a:cubicBezTo>
                <a:cubicBezTo>
                  <a:pt x="16971" y="3876"/>
                  <a:pt x="17102" y="3885"/>
                  <a:pt x="17140" y="3919"/>
                </a:cubicBezTo>
                <a:cubicBezTo>
                  <a:pt x="17185" y="3959"/>
                  <a:pt x="17168" y="3978"/>
                  <a:pt x="17190" y="4018"/>
                </a:cubicBezTo>
                <a:cubicBezTo>
                  <a:pt x="17212" y="4059"/>
                  <a:pt x="17214" y="4068"/>
                  <a:pt x="17214" y="4118"/>
                </a:cubicBezTo>
                <a:cubicBezTo>
                  <a:pt x="17214" y="4167"/>
                  <a:pt x="17203" y="4177"/>
                  <a:pt x="17190" y="4217"/>
                </a:cubicBezTo>
                <a:cubicBezTo>
                  <a:pt x="17181" y="4244"/>
                  <a:pt x="17171" y="4262"/>
                  <a:pt x="17140" y="4266"/>
                </a:cubicBezTo>
                <a:cubicBezTo>
                  <a:pt x="17089" y="4272"/>
                  <a:pt x="17103" y="4286"/>
                  <a:pt x="17066" y="4291"/>
                </a:cubicBezTo>
                <a:cubicBezTo>
                  <a:pt x="17039" y="4294"/>
                  <a:pt x="17032" y="4339"/>
                  <a:pt x="16991" y="4316"/>
                </a:cubicBezTo>
                <a:cubicBezTo>
                  <a:pt x="16961" y="4299"/>
                  <a:pt x="16919" y="4283"/>
                  <a:pt x="16892" y="4266"/>
                </a:cubicBezTo>
                <a:cubicBezTo>
                  <a:pt x="16878" y="4257"/>
                  <a:pt x="16824" y="4205"/>
                  <a:pt x="16818" y="4192"/>
                </a:cubicBezTo>
                <a:cubicBezTo>
                  <a:pt x="16800" y="4155"/>
                  <a:pt x="16815" y="4145"/>
                  <a:pt x="16793" y="4093"/>
                </a:cubicBezTo>
                <a:cubicBezTo>
                  <a:pt x="16788" y="4081"/>
                  <a:pt x="16740" y="4015"/>
                  <a:pt x="16768" y="3994"/>
                </a:cubicBezTo>
                <a:cubicBezTo>
                  <a:pt x="16776" y="3994"/>
                  <a:pt x="16785" y="3994"/>
                  <a:pt x="16793" y="399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42080" y="1009800"/>
            <a:ext cx="465120" cy="588960"/>
          </a:xfrm>
          <a:custGeom>
            <a:avLst/>
            <a:gdLst/>
            <a:ahLst/>
            <a:rect l="l" t="t" r="r" b="b"/>
            <a:pathLst>
              <a:path w="1290" h="1638">
                <a:moveTo>
                  <a:pt x="19472" y="2803"/>
                </a:moveTo>
                <a:cubicBezTo>
                  <a:pt x="19472" y="2811"/>
                  <a:pt x="19472" y="2820"/>
                  <a:pt x="19472" y="2828"/>
                </a:cubicBezTo>
                <a:cubicBezTo>
                  <a:pt x="19501" y="2839"/>
                  <a:pt x="19544" y="2840"/>
                  <a:pt x="19571" y="2853"/>
                </a:cubicBezTo>
                <a:cubicBezTo>
                  <a:pt x="19619" y="2876"/>
                  <a:pt x="19649" y="2940"/>
                  <a:pt x="19670" y="2977"/>
                </a:cubicBezTo>
                <a:cubicBezTo>
                  <a:pt x="19708" y="3004"/>
                  <a:pt x="19711" y="3013"/>
                  <a:pt x="19745" y="3051"/>
                </a:cubicBezTo>
                <a:cubicBezTo>
                  <a:pt x="19789" y="3101"/>
                  <a:pt x="19835" y="3153"/>
                  <a:pt x="19869" y="3200"/>
                </a:cubicBezTo>
                <a:cubicBezTo>
                  <a:pt x="19894" y="3234"/>
                  <a:pt x="19901" y="3264"/>
                  <a:pt x="19918" y="3299"/>
                </a:cubicBezTo>
                <a:cubicBezTo>
                  <a:pt x="19930" y="3323"/>
                  <a:pt x="19961" y="3373"/>
                  <a:pt x="19968" y="3398"/>
                </a:cubicBezTo>
                <a:cubicBezTo>
                  <a:pt x="19968" y="3423"/>
                  <a:pt x="19968" y="3431"/>
                  <a:pt x="19968" y="3448"/>
                </a:cubicBezTo>
                <a:cubicBezTo>
                  <a:pt x="19981" y="3469"/>
                  <a:pt x="19979" y="3482"/>
                  <a:pt x="19993" y="3522"/>
                </a:cubicBezTo>
                <a:cubicBezTo>
                  <a:pt x="20007" y="3562"/>
                  <a:pt x="20030" y="3601"/>
                  <a:pt x="20017" y="3646"/>
                </a:cubicBezTo>
                <a:cubicBezTo>
                  <a:pt x="20009" y="3674"/>
                  <a:pt x="19979" y="3715"/>
                  <a:pt x="19968" y="3746"/>
                </a:cubicBezTo>
                <a:cubicBezTo>
                  <a:pt x="19953" y="3788"/>
                  <a:pt x="19945" y="3773"/>
                  <a:pt x="19918" y="3795"/>
                </a:cubicBezTo>
                <a:cubicBezTo>
                  <a:pt x="19907" y="3824"/>
                  <a:pt x="19906" y="3867"/>
                  <a:pt x="19893" y="3894"/>
                </a:cubicBezTo>
                <a:cubicBezTo>
                  <a:pt x="19874" y="3932"/>
                  <a:pt x="19835" y="3955"/>
                  <a:pt x="19819" y="3994"/>
                </a:cubicBezTo>
                <a:cubicBezTo>
                  <a:pt x="19819" y="4002"/>
                  <a:pt x="19819" y="4010"/>
                  <a:pt x="19819" y="4018"/>
                </a:cubicBezTo>
                <a:cubicBezTo>
                  <a:pt x="19803" y="4034"/>
                  <a:pt x="19767" y="4058"/>
                  <a:pt x="19745" y="4093"/>
                </a:cubicBezTo>
                <a:cubicBezTo>
                  <a:pt x="19726" y="4122"/>
                  <a:pt x="19692" y="4158"/>
                  <a:pt x="19670" y="4192"/>
                </a:cubicBezTo>
                <a:cubicBezTo>
                  <a:pt x="19653" y="4218"/>
                  <a:pt x="19636" y="4264"/>
                  <a:pt x="19621" y="4291"/>
                </a:cubicBezTo>
                <a:cubicBezTo>
                  <a:pt x="19604" y="4308"/>
                  <a:pt x="19591" y="4339"/>
                  <a:pt x="19571" y="4366"/>
                </a:cubicBezTo>
                <a:cubicBezTo>
                  <a:pt x="19547" y="4397"/>
                  <a:pt x="19546" y="4409"/>
                  <a:pt x="19521" y="4440"/>
                </a:cubicBezTo>
              </a:path>
              <a:path w="1290" h="1638">
                <a:moveTo>
                  <a:pt x="18852" y="3125"/>
                </a:moveTo>
                <a:cubicBezTo>
                  <a:pt x="18825" y="3116"/>
                  <a:pt x="18806" y="3108"/>
                  <a:pt x="18802" y="3076"/>
                </a:cubicBezTo>
                <a:cubicBezTo>
                  <a:pt x="18796" y="3032"/>
                  <a:pt x="18834" y="3014"/>
                  <a:pt x="18852" y="3001"/>
                </a:cubicBezTo>
                <a:cubicBezTo>
                  <a:pt x="18896" y="2968"/>
                  <a:pt x="18894" y="2952"/>
                  <a:pt x="18951" y="2952"/>
                </a:cubicBezTo>
                <a:cubicBezTo>
                  <a:pt x="19007" y="2952"/>
                  <a:pt x="19058" y="2940"/>
                  <a:pt x="19100" y="2977"/>
                </a:cubicBezTo>
                <a:cubicBezTo>
                  <a:pt x="19134" y="3007"/>
                  <a:pt x="19158" y="3029"/>
                  <a:pt x="19174" y="3051"/>
                </a:cubicBezTo>
                <a:cubicBezTo>
                  <a:pt x="19198" y="3084"/>
                  <a:pt x="19204" y="3120"/>
                  <a:pt x="19224" y="3150"/>
                </a:cubicBezTo>
                <a:cubicBezTo>
                  <a:pt x="19249" y="3189"/>
                  <a:pt x="19248" y="3201"/>
                  <a:pt x="19248" y="3249"/>
                </a:cubicBezTo>
                <a:cubicBezTo>
                  <a:pt x="19248" y="3284"/>
                  <a:pt x="19242" y="3323"/>
                  <a:pt x="19224" y="3349"/>
                </a:cubicBezTo>
                <a:cubicBezTo>
                  <a:pt x="19201" y="3383"/>
                  <a:pt x="19152" y="3379"/>
                  <a:pt x="19124" y="3398"/>
                </a:cubicBezTo>
                <a:cubicBezTo>
                  <a:pt x="19085" y="3425"/>
                  <a:pt x="19075" y="3423"/>
                  <a:pt x="19025" y="3423"/>
                </a:cubicBezTo>
                <a:cubicBezTo>
                  <a:pt x="18974" y="3423"/>
                  <a:pt x="18939" y="3432"/>
                  <a:pt x="18901" y="3398"/>
                </a:cubicBezTo>
                <a:cubicBezTo>
                  <a:pt x="18859" y="3360"/>
                  <a:pt x="18822" y="3369"/>
                  <a:pt x="18777" y="3324"/>
                </a:cubicBezTo>
                <a:cubicBezTo>
                  <a:pt x="18739" y="3287"/>
                  <a:pt x="18728" y="3277"/>
                  <a:pt x="18728" y="3225"/>
                </a:cubicBezTo>
                <a:cubicBezTo>
                  <a:pt x="18728" y="3159"/>
                  <a:pt x="18752" y="3151"/>
                  <a:pt x="18802" y="3101"/>
                </a:cubicBezTo>
                <a:cubicBezTo>
                  <a:pt x="18810" y="3093"/>
                  <a:pt x="18819" y="3084"/>
                  <a:pt x="18827" y="3076"/>
                </a:cubicBezTo>
              </a:path>
              <a:path w="1290" h="1638">
                <a:moveTo>
                  <a:pt x="18827" y="3870"/>
                </a:moveTo>
                <a:cubicBezTo>
                  <a:pt x="18827" y="3862"/>
                  <a:pt x="18827" y="3853"/>
                  <a:pt x="18827" y="3845"/>
                </a:cubicBezTo>
                <a:cubicBezTo>
                  <a:pt x="18827" y="3887"/>
                  <a:pt x="18837" y="3883"/>
                  <a:pt x="18802" y="3894"/>
                </a:cubicBezTo>
                <a:cubicBezTo>
                  <a:pt x="18802" y="3953"/>
                  <a:pt x="18792" y="3973"/>
                  <a:pt x="18777" y="4018"/>
                </a:cubicBezTo>
                <a:cubicBezTo>
                  <a:pt x="18766" y="4051"/>
                  <a:pt x="18777" y="4107"/>
                  <a:pt x="18777" y="4142"/>
                </a:cubicBezTo>
                <a:cubicBezTo>
                  <a:pt x="18881" y="4142"/>
                  <a:pt x="18984" y="4147"/>
                  <a:pt x="19075" y="4118"/>
                </a:cubicBezTo>
                <a:cubicBezTo>
                  <a:pt x="19122" y="4103"/>
                  <a:pt x="19199" y="4118"/>
                  <a:pt x="19248" y="4118"/>
                </a:cubicBezTo>
              </a:path>
              <a:path w="1290" h="1638">
                <a:moveTo>
                  <a:pt x="19050" y="3969"/>
                </a:moveTo>
                <a:cubicBezTo>
                  <a:pt x="19050" y="4109"/>
                  <a:pt x="19050" y="4250"/>
                  <a:pt x="19050" y="439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19200" y="1928880"/>
            <a:ext cx="250920" cy="312840"/>
          </a:xfrm>
          <a:custGeom>
            <a:avLst/>
            <a:gdLst/>
            <a:ahLst/>
            <a:rect l="l" t="t" r="r" b="b"/>
            <a:pathLst>
              <a:path w="696" h="869">
                <a:moveTo>
                  <a:pt x="6722" y="5606"/>
                </a:moveTo>
                <a:cubicBezTo>
                  <a:pt x="6732" y="5567"/>
                  <a:pt x="6747" y="5551"/>
                  <a:pt x="6747" y="5507"/>
                </a:cubicBezTo>
                <a:cubicBezTo>
                  <a:pt x="6747" y="5482"/>
                  <a:pt x="6747" y="5474"/>
                  <a:pt x="6772" y="5482"/>
                </a:cubicBezTo>
                <a:cubicBezTo>
                  <a:pt x="6772" y="5651"/>
                  <a:pt x="6774" y="5814"/>
                  <a:pt x="6796" y="5978"/>
                </a:cubicBezTo>
                <a:cubicBezTo>
                  <a:pt x="6801" y="6018"/>
                  <a:pt x="6796" y="6062"/>
                  <a:pt x="6796" y="6102"/>
                </a:cubicBezTo>
                <a:cubicBezTo>
                  <a:pt x="6796" y="6063"/>
                  <a:pt x="6799" y="5954"/>
                  <a:pt x="6821" y="5928"/>
                </a:cubicBezTo>
                <a:cubicBezTo>
                  <a:pt x="6863" y="5879"/>
                  <a:pt x="6921" y="5833"/>
                  <a:pt x="6995" y="5854"/>
                </a:cubicBezTo>
                <a:cubicBezTo>
                  <a:pt x="7059" y="5872"/>
                  <a:pt x="7100" y="5968"/>
                  <a:pt x="7119" y="6028"/>
                </a:cubicBezTo>
                <a:cubicBezTo>
                  <a:pt x="7139" y="6091"/>
                  <a:pt x="7029" y="6100"/>
                  <a:pt x="6995" y="6102"/>
                </a:cubicBezTo>
                <a:cubicBezTo>
                  <a:pt x="6945" y="6102"/>
                  <a:pt x="6929" y="6102"/>
                  <a:pt x="6896" y="6102"/>
                </a:cubicBezTo>
              </a:path>
              <a:path w="696" h="869">
                <a:moveTo>
                  <a:pt x="6995" y="5358"/>
                </a:moveTo>
                <a:cubicBezTo>
                  <a:pt x="7070" y="5358"/>
                  <a:pt x="7125" y="5353"/>
                  <a:pt x="7193" y="5383"/>
                </a:cubicBezTo>
                <a:cubicBezTo>
                  <a:pt x="7293" y="5427"/>
                  <a:pt x="7339" y="5534"/>
                  <a:pt x="7367" y="5631"/>
                </a:cubicBezTo>
                <a:cubicBezTo>
                  <a:pt x="7404" y="5756"/>
                  <a:pt x="7451" y="5903"/>
                  <a:pt x="7392" y="6028"/>
                </a:cubicBezTo>
                <a:cubicBezTo>
                  <a:pt x="7336" y="6149"/>
                  <a:pt x="7208" y="6188"/>
                  <a:pt x="7094" y="622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71880" y="1919160"/>
            <a:ext cx="420480" cy="573120"/>
          </a:xfrm>
          <a:custGeom>
            <a:avLst/>
            <a:gdLst/>
            <a:ahLst/>
            <a:rect l="l" t="t" r="r" b="b"/>
            <a:pathLst>
              <a:path w="1167" h="1589">
                <a:moveTo>
                  <a:pt x="9079" y="5730"/>
                </a:moveTo>
                <a:cubicBezTo>
                  <a:pt x="9079" y="5669"/>
                  <a:pt x="9089" y="5639"/>
                  <a:pt x="9103" y="5581"/>
                </a:cubicBezTo>
                <a:cubicBezTo>
                  <a:pt x="9113" y="5539"/>
                  <a:pt x="9131" y="5478"/>
                  <a:pt x="9178" y="5457"/>
                </a:cubicBezTo>
                <a:cubicBezTo>
                  <a:pt x="9226" y="5436"/>
                  <a:pt x="9291" y="5461"/>
                  <a:pt x="9327" y="5482"/>
                </a:cubicBezTo>
                <a:cubicBezTo>
                  <a:pt x="9397" y="5523"/>
                  <a:pt x="9421" y="5574"/>
                  <a:pt x="9426" y="5655"/>
                </a:cubicBezTo>
                <a:cubicBezTo>
                  <a:pt x="9430" y="5735"/>
                  <a:pt x="9433" y="5807"/>
                  <a:pt x="9401" y="5879"/>
                </a:cubicBezTo>
                <a:cubicBezTo>
                  <a:pt x="9360" y="5971"/>
                  <a:pt x="9291" y="5953"/>
                  <a:pt x="9203" y="5953"/>
                </a:cubicBezTo>
                <a:cubicBezTo>
                  <a:pt x="9119" y="5953"/>
                  <a:pt x="9049" y="5883"/>
                  <a:pt x="9029" y="5804"/>
                </a:cubicBezTo>
                <a:cubicBezTo>
                  <a:pt x="9015" y="5748"/>
                  <a:pt x="9036" y="5704"/>
                  <a:pt x="9054" y="5655"/>
                </a:cubicBezTo>
              </a:path>
              <a:path w="1167" h="1589">
                <a:moveTo>
                  <a:pt x="9252" y="6499"/>
                </a:moveTo>
                <a:cubicBezTo>
                  <a:pt x="9252" y="6474"/>
                  <a:pt x="9252" y="6466"/>
                  <a:pt x="9252" y="6449"/>
                </a:cubicBezTo>
                <a:cubicBezTo>
                  <a:pt x="9252" y="6557"/>
                  <a:pt x="9252" y="6664"/>
                  <a:pt x="9252" y="6772"/>
                </a:cubicBezTo>
                <a:cubicBezTo>
                  <a:pt x="9312" y="6772"/>
                  <a:pt x="9351" y="6774"/>
                  <a:pt x="9401" y="6747"/>
                </a:cubicBezTo>
                <a:cubicBezTo>
                  <a:pt x="9456" y="6718"/>
                  <a:pt x="9489" y="6722"/>
                  <a:pt x="9550" y="6722"/>
                </a:cubicBezTo>
                <a:cubicBezTo>
                  <a:pt x="9602" y="6722"/>
                  <a:pt x="9685" y="6704"/>
                  <a:pt x="9699" y="6747"/>
                </a:cubicBezTo>
              </a:path>
              <a:path w="1167" h="1589">
                <a:moveTo>
                  <a:pt x="9475" y="6648"/>
                </a:moveTo>
                <a:cubicBezTo>
                  <a:pt x="9488" y="6700"/>
                  <a:pt x="9500" y="6733"/>
                  <a:pt x="9500" y="6796"/>
                </a:cubicBezTo>
                <a:cubicBezTo>
                  <a:pt x="9500" y="6845"/>
                  <a:pt x="9516" y="6876"/>
                  <a:pt x="9525" y="6921"/>
                </a:cubicBezTo>
              </a:path>
              <a:path w="1167" h="1589">
                <a:moveTo>
                  <a:pt x="8731" y="5358"/>
                </a:moveTo>
                <a:cubicBezTo>
                  <a:pt x="8707" y="5309"/>
                  <a:pt x="8704" y="5399"/>
                  <a:pt x="8682" y="5432"/>
                </a:cubicBezTo>
                <a:cubicBezTo>
                  <a:pt x="8630" y="5511"/>
                  <a:pt x="8631" y="5570"/>
                  <a:pt x="8607" y="5655"/>
                </a:cubicBezTo>
                <a:cubicBezTo>
                  <a:pt x="8578" y="5755"/>
                  <a:pt x="8544" y="5849"/>
                  <a:pt x="8533" y="5953"/>
                </a:cubicBezTo>
                <a:cubicBezTo>
                  <a:pt x="8520" y="6069"/>
                  <a:pt x="8507" y="6268"/>
                  <a:pt x="8558" y="6375"/>
                </a:cubicBezTo>
                <a:cubicBezTo>
                  <a:pt x="8594" y="6449"/>
                  <a:pt x="8655" y="6536"/>
                  <a:pt x="8706" y="6598"/>
                </a:cubicBezTo>
                <a:cubicBezTo>
                  <a:pt x="8735" y="6633"/>
                  <a:pt x="8773" y="6665"/>
                  <a:pt x="8806" y="669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51200" y="1893960"/>
            <a:ext cx="392040" cy="527040"/>
          </a:xfrm>
          <a:custGeom>
            <a:avLst/>
            <a:gdLst/>
            <a:ahLst/>
            <a:rect l="l" t="t" r="r" b="b"/>
            <a:pathLst>
              <a:path w="1092" h="1464">
                <a:moveTo>
                  <a:pt x="10418" y="5358"/>
                </a:moveTo>
                <a:cubicBezTo>
                  <a:pt x="10426" y="5358"/>
                  <a:pt x="10435" y="5358"/>
                  <a:pt x="10443" y="5358"/>
                </a:cubicBezTo>
                <a:cubicBezTo>
                  <a:pt x="10443" y="5426"/>
                  <a:pt x="10405" y="5648"/>
                  <a:pt x="10468" y="5680"/>
                </a:cubicBezTo>
                <a:cubicBezTo>
                  <a:pt x="10500" y="5696"/>
                  <a:pt x="10527" y="5705"/>
                  <a:pt x="10567" y="5705"/>
                </a:cubicBezTo>
                <a:cubicBezTo>
                  <a:pt x="10631" y="5705"/>
                  <a:pt x="10675" y="5680"/>
                  <a:pt x="10740" y="5680"/>
                </a:cubicBezTo>
                <a:cubicBezTo>
                  <a:pt x="10794" y="5680"/>
                  <a:pt x="10820" y="5660"/>
                  <a:pt x="10864" y="5655"/>
                </a:cubicBezTo>
                <a:cubicBezTo>
                  <a:pt x="10906" y="5650"/>
                  <a:pt x="10926" y="5640"/>
                  <a:pt x="10964" y="5631"/>
                </a:cubicBezTo>
              </a:path>
              <a:path w="1092" h="1464">
                <a:moveTo>
                  <a:pt x="10765" y="5482"/>
                </a:moveTo>
                <a:cubicBezTo>
                  <a:pt x="10740" y="5482"/>
                  <a:pt x="10732" y="5482"/>
                  <a:pt x="10716" y="5482"/>
                </a:cubicBezTo>
                <a:cubicBezTo>
                  <a:pt x="10716" y="5580"/>
                  <a:pt x="10727" y="5661"/>
                  <a:pt x="10740" y="5755"/>
                </a:cubicBezTo>
                <a:cubicBezTo>
                  <a:pt x="10749" y="5818"/>
                  <a:pt x="10777" y="5867"/>
                  <a:pt x="10790" y="5928"/>
                </a:cubicBezTo>
              </a:path>
              <a:path w="1092" h="1464">
                <a:moveTo>
                  <a:pt x="10616" y="6424"/>
                </a:moveTo>
                <a:cubicBezTo>
                  <a:pt x="10592" y="6424"/>
                  <a:pt x="10583" y="6424"/>
                  <a:pt x="10567" y="6424"/>
                </a:cubicBezTo>
                <a:cubicBezTo>
                  <a:pt x="10567" y="6384"/>
                  <a:pt x="10573" y="6344"/>
                  <a:pt x="10616" y="6325"/>
                </a:cubicBezTo>
                <a:cubicBezTo>
                  <a:pt x="10678" y="6297"/>
                  <a:pt x="10709" y="6342"/>
                  <a:pt x="10740" y="6375"/>
                </a:cubicBezTo>
                <a:cubicBezTo>
                  <a:pt x="10797" y="6436"/>
                  <a:pt x="10847" y="6513"/>
                  <a:pt x="10864" y="6598"/>
                </a:cubicBezTo>
                <a:cubicBezTo>
                  <a:pt x="10881" y="6681"/>
                  <a:pt x="10823" y="6672"/>
                  <a:pt x="10765" y="6672"/>
                </a:cubicBezTo>
                <a:cubicBezTo>
                  <a:pt x="10722" y="6672"/>
                  <a:pt x="10638" y="6638"/>
                  <a:pt x="10616" y="6598"/>
                </a:cubicBezTo>
                <a:cubicBezTo>
                  <a:pt x="10616" y="6590"/>
                  <a:pt x="10616" y="6581"/>
                  <a:pt x="10616" y="6573"/>
                </a:cubicBezTo>
              </a:path>
              <a:path w="1092" h="1464">
                <a:moveTo>
                  <a:pt x="10864" y="5259"/>
                </a:moveTo>
                <a:cubicBezTo>
                  <a:pt x="10915" y="5266"/>
                  <a:pt x="10901" y="5276"/>
                  <a:pt x="10939" y="5283"/>
                </a:cubicBezTo>
                <a:cubicBezTo>
                  <a:pt x="10976" y="5290"/>
                  <a:pt x="11008" y="5289"/>
                  <a:pt x="11038" y="5308"/>
                </a:cubicBezTo>
                <a:cubicBezTo>
                  <a:pt x="11101" y="5347"/>
                  <a:pt x="11150" y="5416"/>
                  <a:pt x="11212" y="5457"/>
                </a:cubicBezTo>
                <a:cubicBezTo>
                  <a:pt x="11292" y="5511"/>
                  <a:pt x="11346" y="5562"/>
                  <a:pt x="11385" y="5655"/>
                </a:cubicBezTo>
                <a:cubicBezTo>
                  <a:pt x="11428" y="5759"/>
                  <a:pt x="11451" y="5871"/>
                  <a:pt x="11485" y="5978"/>
                </a:cubicBezTo>
                <a:cubicBezTo>
                  <a:pt x="11518" y="6083"/>
                  <a:pt x="11516" y="6171"/>
                  <a:pt x="11485" y="6276"/>
                </a:cubicBezTo>
                <a:cubicBezTo>
                  <a:pt x="11458" y="6367"/>
                  <a:pt x="11395" y="6473"/>
                  <a:pt x="11336" y="6548"/>
                </a:cubicBezTo>
                <a:cubicBezTo>
                  <a:pt x="11285" y="6612"/>
                  <a:pt x="11220" y="6645"/>
                  <a:pt x="11162" y="6697"/>
                </a:cubicBezTo>
                <a:cubicBezTo>
                  <a:pt x="11154" y="6705"/>
                  <a:pt x="11145" y="6714"/>
                  <a:pt x="11137" y="672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75080" y="2178000"/>
            <a:ext cx="125640" cy="117360"/>
          </a:xfrm>
          <a:custGeom>
            <a:avLst/>
            <a:gdLst/>
            <a:ahLst/>
            <a:rect l="l" t="t" r="r" b="b"/>
            <a:pathLst>
              <a:path w="349" h="324">
                <a:moveTo>
                  <a:pt x="12477" y="6152"/>
                </a:moveTo>
                <a:cubicBezTo>
                  <a:pt x="12485" y="6152"/>
                  <a:pt x="12494" y="6152"/>
                  <a:pt x="12502" y="6152"/>
                </a:cubicBezTo>
                <a:cubicBezTo>
                  <a:pt x="12414" y="6152"/>
                  <a:pt x="12330" y="6161"/>
                  <a:pt x="12254" y="6176"/>
                </a:cubicBezTo>
                <a:cubicBezTo>
                  <a:pt x="12209" y="6185"/>
                  <a:pt x="12194" y="6191"/>
                  <a:pt x="12154" y="6201"/>
                </a:cubicBezTo>
              </a:path>
              <a:path w="349" h="324">
                <a:moveTo>
                  <a:pt x="12278" y="6052"/>
                </a:moveTo>
                <a:cubicBezTo>
                  <a:pt x="12291" y="6117"/>
                  <a:pt x="12320" y="6187"/>
                  <a:pt x="12328" y="6251"/>
                </a:cubicBezTo>
                <a:cubicBezTo>
                  <a:pt x="12328" y="6319"/>
                  <a:pt x="12325" y="6338"/>
                  <a:pt x="12353" y="637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68920" y="1857240"/>
            <a:ext cx="455400" cy="536760"/>
          </a:xfrm>
          <a:custGeom>
            <a:avLst/>
            <a:gdLst/>
            <a:ahLst/>
            <a:rect l="l" t="t" r="r" b="b"/>
            <a:pathLst>
              <a:path w="1266" h="1490">
                <a:moveTo>
                  <a:pt x="13444" y="5184"/>
                </a:moveTo>
                <a:cubicBezTo>
                  <a:pt x="13467" y="5161"/>
                  <a:pt x="13471" y="5153"/>
                  <a:pt x="13494" y="5159"/>
                </a:cubicBezTo>
                <a:cubicBezTo>
                  <a:pt x="13473" y="5191"/>
                  <a:pt x="13472" y="5206"/>
                  <a:pt x="13444" y="5259"/>
                </a:cubicBezTo>
                <a:cubicBezTo>
                  <a:pt x="13397" y="5346"/>
                  <a:pt x="13354" y="5439"/>
                  <a:pt x="13320" y="5531"/>
                </a:cubicBezTo>
                <a:cubicBezTo>
                  <a:pt x="13277" y="5646"/>
                  <a:pt x="13250" y="5758"/>
                  <a:pt x="13246" y="5879"/>
                </a:cubicBezTo>
                <a:cubicBezTo>
                  <a:pt x="13243" y="5983"/>
                  <a:pt x="13242" y="6077"/>
                  <a:pt x="13271" y="6176"/>
                </a:cubicBezTo>
                <a:cubicBezTo>
                  <a:pt x="13298" y="6269"/>
                  <a:pt x="13328" y="6362"/>
                  <a:pt x="13370" y="6449"/>
                </a:cubicBezTo>
                <a:cubicBezTo>
                  <a:pt x="13398" y="6509"/>
                  <a:pt x="13423" y="6552"/>
                  <a:pt x="13469" y="6598"/>
                </a:cubicBezTo>
                <a:cubicBezTo>
                  <a:pt x="13492" y="6621"/>
                  <a:pt x="13500" y="6625"/>
                  <a:pt x="13494" y="6648"/>
                </a:cubicBezTo>
              </a:path>
              <a:path w="1266" h="1490">
                <a:moveTo>
                  <a:pt x="13791" y="5358"/>
                </a:moveTo>
                <a:cubicBezTo>
                  <a:pt x="13791" y="5333"/>
                  <a:pt x="13791" y="5325"/>
                  <a:pt x="13791" y="5308"/>
                </a:cubicBezTo>
                <a:cubicBezTo>
                  <a:pt x="13837" y="5308"/>
                  <a:pt x="13850" y="5288"/>
                  <a:pt x="13891" y="5283"/>
                </a:cubicBezTo>
                <a:cubicBezTo>
                  <a:pt x="13944" y="5277"/>
                  <a:pt x="13940" y="5239"/>
                  <a:pt x="13990" y="5283"/>
                </a:cubicBezTo>
                <a:cubicBezTo>
                  <a:pt x="14015" y="5305"/>
                  <a:pt x="14048" y="5373"/>
                  <a:pt x="14039" y="5407"/>
                </a:cubicBezTo>
                <a:cubicBezTo>
                  <a:pt x="14023" y="5468"/>
                  <a:pt x="13980" y="5520"/>
                  <a:pt x="13965" y="5581"/>
                </a:cubicBezTo>
                <a:cubicBezTo>
                  <a:pt x="13960" y="5601"/>
                  <a:pt x="13935" y="5669"/>
                  <a:pt x="13940" y="5680"/>
                </a:cubicBezTo>
                <a:cubicBezTo>
                  <a:pt x="13963" y="5731"/>
                  <a:pt x="14034" y="5700"/>
                  <a:pt x="14064" y="5680"/>
                </a:cubicBezTo>
                <a:cubicBezTo>
                  <a:pt x="14106" y="5651"/>
                  <a:pt x="14160" y="5641"/>
                  <a:pt x="14213" y="5631"/>
                </a:cubicBezTo>
              </a:path>
              <a:path w="1266" h="1490">
                <a:moveTo>
                  <a:pt x="13891" y="5358"/>
                </a:moveTo>
                <a:cubicBezTo>
                  <a:pt x="13900" y="5397"/>
                  <a:pt x="13915" y="5413"/>
                  <a:pt x="13915" y="5457"/>
                </a:cubicBezTo>
                <a:cubicBezTo>
                  <a:pt x="13915" y="5510"/>
                  <a:pt x="13935" y="5527"/>
                  <a:pt x="13940" y="5581"/>
                </a:cubicBezTo>
                <a:cubicBezTo>
                  <a:pt x="13957" y="5783"/>
                  <a:pt x="13903" y="6017"/>
                  <a:pt x="13965" y="6201"/>
                </a:cubicBezTo>
                <a:cubicBezTo>
                  <a:pt x="13983" y="6254"/>
                  <a:pt x="13965" y="6174"/>
                  <a:pt x="13965" y="6152"/>
                </a:cubicBezTo>
                <a:cubicBezTo>
                  <a:pt x="13965" y="6023"/>
                  <a:pt x="13961" y="5901"/>
                  <a:pt x="13940" y="5779"/>
                </a:cubicBezTo>
                <a:cubicBezTo>
                  <a:pt x="13924" y="5683"/>
                  <a:pt x="13938" y="5563"/>
                  <a:pt x="13965" y="5482"/>
                </a:cubicBezTo>
                <a:cubicBezTo>
                  <a:pt x="13975" y="5452"/>
                  <a:pt x="13967" y="5418"/>
                  <a:pt x="13990" y="5407"/>
                </a:cubicBezTo>
                <a:cubicBezTo>
                  <a:pt x="14022" y="5391"/>
                  <a:pt x="14050" y="5383"/>
                  <a:pt x="14089" y="5383"/>
                </a:cubicBezTo>
                <a:cubicBezTo>
                  <a:pt x="14155" y="5383"/>
                  <a:pt x="14204" y="5391"/>
                  <a:pt x="14238" y="5407"/>
                </a:cubicBezTo>
                <a:cubicBezTo>
                  <a:pt x="14261" y="5418"/>
                  <a:pt x="14306" y="5444"/>
                  <a:pt x="14312" y="5457"/>
                </a:cubicBezTo>
                <a:cubicBezTo>
                  <a:pt x="14335" y="5505"/>
                  <a:pt x="14309" y="5615"/>
                  <a:pt x="14288" y="5631"/>
                </a:cubicBezTo>
                <a:cubicBezTo>
                  <a:pt x="14274" y="5642"/>
                  <a:pt x="14189" y="5679"/>
                  <a:pt x="14188" y="5680"/>
                </a:cubicBezTo>
                <a:cubicBezTo>
                  <a:pt x="14170" y="5702"/>
                  <a:pt x="14161" y="5725"/>
                  <a:pt x="14114" y="5730"/>
                </a:cubicBezTo>
                <a:cubicBezTo>
                  <a:pt x="14074" y="5734"/>
                  <a:pt x="14030" y="5730"/>
                  <a:pt x="13990" y="5730"/>
                </a:cubicBezTo>
              </a:path>
              <a:path w="1266" h="1490">
                <a:moveTo>
                  <a:pt x="14163" y="6400"/>
                </a:moveTo>
                <a:cubicBezTo>
                  <a:pt x="14163" y="6354"/>
                  <a:pt x="14156" y="6335"/>
                  <a:pt x="14188" y="6300"/>
                </a:cubicBezTo>
                <a:cubicBezTo>
                  <a:pt x="14217" y="6268"/>
                  <a:pt x="14246" y="6231"/>
                  <a:pt x="14288" y="6226"/>
                </a:cubicBezTo>
                <a:cubicBezTo>
                  <a:pt x="14346" y="6219"/>
                  <a:pt x="14411" y="6222"/>
                  <a:pt x="14436" y="6251"/>
                </a:cubicBezTo>
                <a:cubicBezTo>
                  <a:pt x="14469" y="6289"/>
                  <a:pt x="14502" y="6349"/>
                  <a:pt x="14511" y="6400"/>
                </a:cubicBezTo>
                <a:cubicBezTo>
                  <a:pt x="14522" y="6461"/>
                  <a:pt x="14512" y="6503"/>
                  <a:pt x="14486" y="6548"/>
                </a:cubicBezTo>
                <a:cubicBezTo>
                  <a:pt x="14459" y="6595"/>
                  <a:pt x="14421" y="6628"/>
                  <a:pt x="14362" y="6648"/>
                </a:cubicBezTo>
                <a:cubicBezTo>
                  <a:pt x="14325" y="6660"/>
                  <a:pt x="14261" y="6656"/>
                  <a:pt x="14238" y="6623"/>
                </a:cubicBezTo>
                <a:cubicBezTo>
                  <a:pt x="14209" y="6580"/>
                  <a:pt x="14198" y="6497"/>
                  <a:pt x="14188" y="644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16720" y="1776240"/>
            <a:ext cx="482400" cy="669960"/>
          </a:xfrm>
          <a:custGeom>
            <a:avLst/>
            <a:gdLst/>
            <a:ahLst/>
            <a:rect l="l" t="t" r="r" b="b"/>
            <a:pathLst>
              <a:path w="1341" h="1861">
                <a:moveTo>
                  <a:pt x="15627" y="5333"/>
                </a:moveTo>
                <a:cubicBezTo>
                  <a:pt x="15606" y="5305"/>
                  <a:pt x="15576" y="5259"/>
                  <a:pt x="15627" y="5234"/>
                </a:cubicBezTo>
                <a:cubicBezTo>
                  <a:pt x="15684" y="5206"/>
                  <a:pt x="15704" y="5184"/>
                  <a:pt x="15776" y="5184"/>
                </a:cubicBezTo>
                <a:cubicBezTo>
                  <a:pt x="15822" y="5184"/>
                  <a:pt x="15844" y="5183"/>
                  <a:pt x="15850" y="5234"/>
                </a:cubicBezTo>
                <a:cubicBezTo>
                  <a:pt x="15857" y="5299"/>
                  <a:pt x="15859" y="5376"/>
                  <a:pt x="15825" y="5432"/>
                </a:cubicBezTo>
                <a:cubicBezTo>
                  <a:pt x="15803" y="5468"/>
                  <a:pt x="15793" y="5501"/>
                  <a:pt x="15776" y="5531"/>
                </a:cubicBezTo>
                <a:cubicBezTo>
                  <a:pt x="15753" y="5554"/>
                  <a:pt x="15745" y="5558"/>
                  <a:pt x="15751" y="5581"/>
                </a:cubicBezTo>
                <a:cubicBezTo>
                  <a:pt x="15805" y="5581"/>
                  <a:pt x="15833" y="5565"/>
                  <a:pt x="15875" y="5556"/>
                </a:cubicBezTo>
                <a:cubicBezTo>
                  <a:pt x="15930" y="5544"/>
                  <a:pt x="15964" y="5531"/>
                  <a:pt x="16024" y="5531"/>
                </a:cubicBezTo>
                <a:cubicBezTo>
                  <a:pt x="16065" y="5531"/>
                  <a:pt x="16107" y="5531"/>
                  <a:pt x="16148" y="5531"/>
                </a:cubicBezTo>
              </a:path>
              <a:path w="1341" h="1861">
                <a:moveTo>
                  <a:pt x="16098" y="6375"/>
                </a:moveTo>
                <a:cubicBezTo>
                  <a:pt x="16098" y="6330"/>
                  <a:pt x="16100" y="6306"/>
                  <a:pt x="16049" y="6300"/>
                </a:cubicBezTo>
                <a:cubicBezTo>
                  <a:pt x="16018" y="6297"/>
                  <a:pt x="16002" y="6344"/>
                  <a:pt x="15999" y="6375"/>
                </a:cubicBezTo>
                <a:cubicBezTo>
                  <a:pt x="15993" y="6426"/>
                  <a:pt x="15992" y="6462"/>
                  <a:pt x="16024" y="6499"/>
                </a:cubicBezTo>
                <a:cubicBezTo>
                  <a:pt x="16064" y="6544"/>
                  <a:pt x="16079" y="6525"/>
                  <a:pt x="16098" y="6499"/>
                </a:cubicBezTo>
                <a:cubicBezTo>
                  <a:pt x="16123" y="6465"/>
                  <a:pt x="16143" y="6416"/>
                  <a:pt x="16148" y="6375"/>
                </a:cubicBezTo>
                <a:cubicBezTo>
                  <a:pt x="16155" y="6309"/>
                  <a:pt x="16148" y="6458"/>
                  <a:pt x="16148" y="6474"/>
                </a:cubicBezTo>
                <a:cubicBezTo>
                  <a:pt x="16148" y="6548"/>
                  <a:pt x="16128" y="6602"/>
                  <a:pt x="16123" y="6672"/>
                </a:cubicBezTo>
                <a:cubicBezTo>
                  <a:pt x="16121" y="6703"/>
                  <a:pt x="16123" y="6780"/>
                  <a:pt x="16148" y="6796"/>
                </a:cubicBezTo>
                <a:cubicBezTo>
                  <a:pt x="16180" y="6817"/>
                  <a:pt x="16225" y="6784"/>
                  <a:pt x="16247" y="6772"/>
                </a:cubicBezTo>
                <a:cubicBezTo>
                  <a:pt x="16290" y="6748"/>
                  <a:pt x="16336" y="6741"/>
                  <a:pt x="16371" y="6722"/>
                </a:cubicBezTo>
                <a:cubicBezTo>
                  <a:pt x="16403" y="6704"/>
                  <a:pt x="16448" y="6726"/>
                  <a:pt x="16470" y="6697"/>
                </a:cubicBezTo>
                <a:cubicBezTo>
                  <a:pt x="16470" y="6672"/>
                  <a:pt x="16470" y="6664"/>
                  <a:pt x="16495" y="6672"/>
                </a:cubicBezTo>
              </a:path>
              <a:path w="1341" h="1861">
                <a:moveTo>
                  <a:pt x="16421" y="4961"/>
                </a:moveTo>
                <a:cubicBezTo>
                  <a:pt x="16421" y="4953"/>
                  <a:pt x="16421" y="4944"/>
                  <a:pt x="16421" y="4936"/>
                </a:cubicBezTo>
                <a:cubicBezTo>
                  <a:pt x="16450" y="4954"/>
                  <a:pt x="16459" y="4943"/>
                  <a:pt x="16495" y="4961"/>
                </a:cubicBezTo>
                <a:cubicBezTo>
                  <a:pt x="16529" y="4978"/>
                  <a:pt x="16561" y="4995"/>
                  <a:pt x="16594" y="5011"/>
                </a:cubicBezTo>
                <a:cubicBezTo>
                  <a:pt x="16660" y="5043"/>
                  <a:pt x="16690" y="5091"/>
                  <a:pt x="16743" y="5135"/>
                </a:cubicBezTo>
                <a:cubicBezTo>
                  <a:pt x="16804" y="5185"/>
                  <a:pt x="16832" y="5239"/>
                  <a:pt x="16867" y="5308"/>
                </a:cubicBezTo>
                <a:cubicBezTo>
                  <a:pt x="16924" y="5422"/>
                  <a:pt x="16942" y="5503"/>
                  <a:pt x="16942" y="5631"/>
                </a:cubicBezTo>
                <a:cubicBezTo>
                  <a:pt x="16942" y="5710"/>
                  <a:pt x="16915" y="5802"/>
                  <a:pt x="16892" y="5879"/>
                </a:cubicBezTo>
                <a:cubicBezTo>
                  <a:pt x="16867" y="5963"/>
                  <a:pt x="16831" y="6048"/>
                  <a:pt x="16793" y="6127"/>
                </a:cubicBezTo>
                <a:cubicBezTo>
                  <a:pt x="16762" y="6191"/>
                  <a:pt x="16744" y="6267"/>
                  <a:pt x="16718" y="6325"/>
                </a:cubicBezTo>
                <a:cubicBezTo>
                  <a:pt x="16707" y="6350"/>
                  <a:pt x="16664" y="6380"/>
                  <a:pt x="16644" y="640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18160" y="2125800"/>
            <a:ext cx="9072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18306" y="5904"/>
                </a:moveTo>
                <a:cubicBezTo>
                  <a:pt x="18314" y="5904"/>
                  <a:pt x="18323" y="5904"/>
                  <a:pt x="18331" y="5904"/>
                </a:cubicBezTo>
                <a:cubicBezTo>
                  <a:pt x="18269" y="5904"/>
                  <a:pt x="18234" y="5911"/>
                  <a:pt x="18182" y="5928"/>
                </a:cubicBezTo>
                <a:cubicBezTo>
                  <a:pt x="18163" y="5934"/>
                  <a:pt x="18128" y="5928"/>
                  <a:pt x="18107" y="5928"/>
                </a:cubicBezTo>
              </a:path>
              <a:path w="249" h="174">
                <a:moveTo>
                  <a:pt x="18355" y="6028"/>
                </a:moveTo>
                <a:cubicBezTo>
                  <a:pt x="18311" y="6039"/>
                  <a:pt x="18284" y="6052"/>
                  <a:pt x="18231" y="6052"/>
                </a:cubicBezTo>
                <a:cubicBezTo>
                  <a:pt x="18178" y="6052"/>
                  <a:pt x="18151" y="6051"/>
                  <a:pt x="18107" y="607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67360" y="1820880"/>
            <a:ext cx="436680" cy="573120"/>
          </a:xfrm>
          <a:custGeom>
            <a:avLst/>
            <a:gdLst/>
            <a:ahLst/>
            <a:rect l="l" t="t" r="r" b="b"/>
            <a:pathLst>
              <a:path w="1216" h="1589">
                <a:moveTo>
                  <a:pt x="19621" y="5333"/>
                </a:moveTo>
                <a:cubicBezTo>
                  <a:pt x="19596" y="5333"/>
                  <a:pt x="19588" y="5333"/>
                  <a:pt x="19596" y="5308"/>
                </a:cubicBezTo>
                <a:cubicBezTo>
                  <a:pt x="19601" y="5294"/>
                  <a:pt x="19642" y="5242"/>
                  <a:pt x="19670" y="5234"/>
                </a:cubicBezTo>
                <a:cubicBezTo>
                  <a:pt x="19707" y="5223"/>
                  <a:pt x="19801" y="5191"/>
                  <a:pt x="19844" y="5209"/>
                </a:cubicBezTo>
                <a:cubicBezTo>
                  <a:pt x="19888" y="5227"/>
                  <a:pt x="19893" y="5269"/>
                  <a:pt x="19893" y="5308"/>
                </a:cubicBezTo>
                <a:cubicBezTo>
                  <a:pt x="19893" y="5390"/>
                  <a:pt x="19885" y="5415"/>
                  <a:pt x="19844" y="5482"/>
                </a:cubicBezTo>
                <a:cubicBezTo>
                  <a:pt x="19815" y="5531"/>
                  <a:pt x="19794" y="5551"/>
                  <a:pt x="19794" y="5606"/>
                </a:cubicBezTo>
                <a:cubicBezTo>
                  <a:pt x="19794" y="5631"/>
                  <a:pt x="19794" y="5639"/>
                  <a:pt x="19794" y="5655"/>
                </a:cubicBezTo>
                <a:cubicBezTo>
                  <a:pt x="19862" y="5655"/>
                  <a:pt x="19904" y="5646"/>
                  <a:pt x="19968" y="5631"/>
                </a:cubicBezTo>
                <a:cubicBezTo>
                  <a:pt x="20018" y="5619"/>
                  <a:pt x="20067" y="5619"/>
                  <a:pt x="20117" y="5606"/>
                </a:cubicBezTo>
                <a:cubicBezTo>
                  <a:pt x="20161" y="5595"/>
                  <a:pt x="20150" y="5612"/>
                  <a:pt x="20191" y="5581"/>
                </a:cubicBezTo>
              </a:path>
              <a:path w="1216" h="1589">
                <a:moveTo>
                  <a:pt x="19893" y="6077"/>
                </a:moveTo>
                <a:cubicBezTo>
                  <a:pt x="19901" y="6069"/>
                  <a:pt x="19910" y="6060"/>
                  <a:pt x="19918" y="6052"/>
                </a:cubicBezTo>
                <a:cubicBezTo>
                  <a:pt x="19918" y="6104"/>
                  <a:pt x="19910" y="6134"/>
                  <a:pt x="19893" y="6176"/>
                </a:cubicBezTo>
                <a:cubicBezTo>
                  <a:pt x="19870" y="6231"/>
                  <a:pt x="19852" y="6254"/>
                  <a:pt x="19893" y="6300"/>
                </a:cubicBezTo>
                <a:cubicBezTo>
                  <a:pt x="19915" y="6325"/>
                  <a:pt x="19958" y="6338"/>
                  <a:pt x="19993" y="6325"/>
                </a:cubicBezTo>
                <a:cubicBezTo>
                  <a:pt x="20052" y="6304"/>
                  <a:pt x="20076" y="6300"/>
                  <a:pt x="20141" y="6300"/>
                </a:cubicBezTo>
                <a:cubicBezTo>
                  <a:pt x="20193" y="6300"/>
                  <a:pt x="20276" y="6282"/>
                  <a:pt x="20290" y="6325"/>
                </a:cubicBezTo>
              </a:path>
              <a:path w="1216" h="1589">
                <a:moveTo>
                  <a:pt x="20141" y="6201"/>
                </a:moveTo>
                <a:cubicBezTo>
                  <a:pt x="20129" y="6251"/>
                  <a:pt x="20117" y="6266"/>
                  <a:pt x="20117" y="6325"/>
                </a:cubicBezTo>
                <a:cubicBezTo>
                  <a:pt x="20117" y="6392"/>
                  <a:pt x="20109" y="6444"/>
                  <a:pt x="20141" y="6499"/>
                </a:cubicBezTo>
              </a:path>
              <a:path w="1216" h="1589">
                <a:moveTo>
                  <a:pt x="19422" y="5060"/>
                </a:moveTo>
                <a:cubicBezTo>
                  <a:pt x="19390" y="5100"/>
                  <a:pt x="19356" y="5120"/>
                  <a:pt x="19323" y="5159"/>
                </a:cubicBezTo>
                <a:cubicBezTo>
                  <a:pt x="19252" y="5242"/>
                  <a:pt x="19217" y="5384"/>
                  <a:pt x="19174" y="5482"/>
                </a:cubicBezTo>
                <a:cubicBezTo>
                  <a:pt x="19136" y="5570"/>
                  <a:pt x="19121" y="5641"/>
                  <a:pt x="19100" y="5730"/>
                </a:cubicBezTo>
                <a:cubicBezTo>
                  <a:pt x="19079" y="5820"/>
                  <a:pt x="19053" y="5933"/>
                  <a:pt x="19075" y="6028"/>
                </a:cubicBezTo>
                <a:cubicBezTo>
                  <a:pt x="19095" y="6117"/>
                  <a:pt x="19123" y="6212"/>
                  <a:pt x="19149" y="6300"/>
                </a:cubicBezTo>
                <a:cubicBezTo>
                  <a:pt x="19175" y="6387"/>
                  <a:pt x="19199" y="6496"/>
                  <a:pt x="19248" y="6573"/>
                </a:cubicBezTo>
                <a:cubicBezTo>
                  <a:pt x="19265" y="6600"/>
                  <a:pt x="19300" y="6625"/>
                  <a:pt x="19323" y="664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43880" y="1839960"/>
            <a:ext cx="295200" cy="509400"/>
          </a:xfrm>
          <a:custGeom>
            <a:avLst/>
            <a:gdLst/>
            <a:ahLst/>
            <a:rect l="l" t="t" r="r" b="b"/>
            <a:pathLst>
              <a:path w="819" h="1415">
                <a:moveTo>
                  <a:pt x="21406" y="5209"/>
                </a:moveTo>
                <a:cubicBezTo>
                  <a:pt x="21406" y="5184"/>
                  <a:pt x="21406" y="5176"/>
                  <a:pt x="21431" y="5184"/>
                </a:cubicBezTo>
                <a:cubicBezTo>
                  <a:pt x="21377" y="5198"/>
                  <a:pt x="21359" y="5232"/>
                  <a:pt x="21332" y="5283"/>
                </a:cubicBezTo>
                <a:cubicBezTo>
                  <a:pt x="21289" y="5363"/>
                  <a:pt x="21262" y="5417"/>
                  <a:pt x="21258" y="5507"/>
                </a:cubicBezTo>
                <a:cubicBezTo>
                  <a:pt x="21255" y="5574"/>
                  <a:pt x="21294" y="5649"/>
                  <a:pt x="21357" y="5680"/>
                </a:cubicBezTo>
                <a:cubicBezTo>
                  <a:pt x="21397" y="5700"/>
                  <a:pt x="21463" y="5671"/>
                  <a:pt x="21481" y="5631"/>
                </a:cubicBezTo>
                <a:cubicBezTo>
                  <a:pt x="21499" y="5591"/>
                  <a:pt x="21478" y="5515"/>
                  <a:pt x="21456" y="5482"/>
                </a:cubicBezTo>
                <a:cubicBezTo>
                  <a:pt x="21427" y="5439"/>
                  <a:pt x="21353" y="5457"/>
                  <a:pt x="21307" y="5457"/>
                </a:cubicBezTo>
                <a:cubicBezTo>
                  <a:pt x="21275" y="5457"/>
                  <a:pt x="21263" y="5474"/>
                  <a:pt x="21233" y="5482"/>
                </a:cubicBezTo>
              </a:path>
              <a:path w="819" h="1415">
                <a:moveTo>
                  <a:pt x="21258" y="6052"/>
                </a:moveTo>
                <a:cubicBezTo>
                  <a:pt x="21250" y="6060"/>
                  <a:pt x="21241" y="6069"/>
                  <a:pt x="21233" y="6077"/>
                </a:cubicBezTo>
                <a:cubicBezTo>
                  <a:pt x="21246" y="6037"/>
                  <a:pt x="21272" y="6052"/>
                  <a:pt x="21307" y="6028"/>
                </a:cubicBezTo>
                <a:cubicBezTo>
                  <a:pt x="21330" y="6013"/>
                  <a:pt x="21372" y="5984"/>
                  <a:pt x="21406" y="6003"/>
                </a:cubicBezTo>
                <a:cubicBezTo>
                  <a:pt x="21449" y="6027"/>
                  <a:pt x="21456" y="6058"/>
                  <a:pt x="21456" y="6102"/>
                </a:cubicBezTo>
                <a:cubicBezTo>
                  <a:pt x="21456" y="6128"/>
                  <a:pt x="21449" y="6189"/>
                  <a:pt x="21431" y="6201"/>
                </a:cubicBezTo>
                <a:cubicBezTo>
                  <a:pt x="21406" y="6218"/>
                  <a:pt x="21389" y="6202"/>
                  <a:pt x="21357" y="6226"/>
                </a:cubicBezTo>
                <a:cubicBezTo>
                  <a:pt x="21374" y="6277"/>
                  <a:pt x="21407" y="6252"/>
                  <a:pt x="21456" y="6276"/>
                </a:cubicBezTo>
                <a:cubicBezTo>
                  <a:pt x="21483" y="6289"/>
                  <a:pt x="21528" y="6310"/>
                  <a:pt x="21506" y="6350"/>
                </a:cubicBezTo>
                <a:cubicBezTo>
                  <a:pt x="21486" y="6387"/>
                  <a:pt x="21418" y="6398"/>
                  <a:pt x="21382" y="6400"/>
                </a:cubicBezTo>
                <a:cubicBezTo>
                  <a:pt x="21322" y="6404"/>
                  <a:pt x="21281" y="6404"/>
                  <a:pt x="21233" y="6375"/>
                </a:cubicBezTo>
              </a:path>
              <a:path w="819" h="1415">
                <a:moveTo>
                  <a:pt x="21605" y="5110"/>
                </a:moveTo>
                <a:cubicBezTo>
                  <a:pt x="21668" y="5110"/>
                  <a:pt x="21723" y="5101"/>
                  <a:pt x="21779" y="5135"/>
                </a:cubicBezTo>
                <a:cubicBezTo>
                  <a:pt x="21817" y="5158"/>
                  <a:pt x="21885" y="5243"/>
                  <a:pt x="21903" y="5283"/>
                </a:cubicBezTo>
                <a:cubicBezTo>
                  <a:pt x="21949" y="5387"/>
                  <a:pt x="21981" y="5443"/>
                  <a:pt x="22002" y="5556"/>
                </a:cubicBezTo>
                <a:cubicBezTo>
                  <a:pt x="22025" y="5677"/>
                  <a:pt x="22071" y="5777"/>
                  <a:pt x="22051" y="5904"/>
                </a:cubicBezTo>
                <a:cubicBezTo>
                  <a:pt x="22034" y="6008"/>
                  <a:pt x="21976" y="6135"/>
                  <a:pt x="21927" y="6226"/>
                </a:cubicBezTo>
                <a:cubicBezTo>
                  <a:pt x="21887" y="6302"/>
                  <a:pt x="21824" y="6421"/>
                  <a:pt x="21754" y="6474"/>
                </a:cubicBezTo>
                <a:cubicBezTo>
                  <a:pt x="21710" y="6496"/>
                  <a:pt x="21698" y="6499"/>
                  <a:pt x="21679" y="652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32160" y="2697120"/>
            <a:ext cx="108000" cy="16056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11832" y="7689"/>
                </a:moveTo>
                <a:cubicBezTo>
                  <a:pt x="11807" y="7689"/>
                  <a:pt x="11782" y="7689"/>
                  <a:pt x="11757" y="7689"/>
                </a:cubicBezTo>
                <a:cubicBezTo>
                  <a:pt x="11757" y="7634"/>
                  <a:pt x="11745" y="7582"/>
                  <a:pt x="11782" y="7541"/>
                </a:cubicBezTo>
                <a:cubicBezTo>
                  <a:pt x="11850" y="7465"/>
                  <a:pt x="11855" y="7495"/>
                  <a:pt x="11931" y="7541"/>
                </a:cubicBezTo>
                <a:cubicBezTo>
                  <a:pt x="11996" y="7580"/>
                  <a:pt x="12042" y="7683"/>
                  <a:pt x="12055" y="7764"/>
                </a:cubicBezTo>
                <a:cubicBezTo>
                  <a:pt x="12066" y="7838"/>
                  <a:pt x="12036" y="7919"/>
                  <a:pt x="11956" y="7938"/>
                </a:cubicBezTo>
                <a:cubicBezTo>
                  <a:pt x="11897" y="7952"/>
                  <a:pt x="11840" y="7940"/>
                  <a:pt x="11807" y="7888"/>
                </a:cubicBezTo>
                <a:cubicBezTo>
                  <a:pt x="11799" y="7871"/>
                  <a:pt x="11790" y="7855"/>
                  <a:pt x="11782" y="783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64000" y="2705040"/>
            <a:ext cx="268200" cy="196920"/>
          </a:xfrm>
          <a:custGeom>
            <a:avLst/>
            <a:gdLst/>
            <a:ahLst/>
            <a:rect l="l" t="t" r="r" b="b"/>
            <a:pathLst>
              <a:path w="745" h="547">
                <a:moveTo>
                  <a:pt x="12675" y="7640"/>
                </a:moveTo>
                <a:cubicBezTo>
                  <a:pt x="12716" y="7640"/>
                  <a:pt x="12642" y="7640"/>
                  <a:pt x="12601" y="7640"/>
                </a:cubicBezTo>
                <a:cubicBezTo>
                  <a:pt x="12535" y="7640"/>
                  <a:pt x="12468" y="7640"/>
                  <a:pt x="12402" y="7640"/>
                </a:cubicBezTo>
              </a:path>
              <a:path w="745" h="547">
                <a:moveTo>
                  <a:pt x="12452" y="7590"/>
                </a:moveTo>
                <a:cubicBezTo>
                  <a:pt x="12477" y="7590"/>
                  <a:pt x="12485" y="7590"/>
                  <a:pt x="12502" y="7590"/>
                </a:cubicBezTo>
                <a:cubicBezTo>
                  <a:pt x="12502" y="7645"/>
                  <a:pt x="12523" y="7684"/>
                  <a:pt x="12526" y="7739"/>
                </a:cubicBezTo>
                <a:cubicBezTo>
                  <a:pt x="12530" y="7805"/>
                  <a:pt x="12539" y="7863"/>
                  <a:pt x="12576" y="7913"/>
                </a:cubicBezTo>
              </a:path>
              <a:path w="745" h="547">
                <a:moveTo>
                  <a:pt x="12923" y="7665"/>
                </a:moveTo>
                <a:cubicBezTo>
                  <a:pt x="12946" y="7642"/>
                  <a:pt x="12950" y="7634"/>
                  <a:pt x="12973" y="7640"/>
                </a:cubicBezTo>
                <a:cubicBezTo>
                  <a:pt x="12973" y="7737"/>
                  <a:pt x="12985" y="7820"/>
                  <a:pt x="12998" y="7913"/>
                </a:cubicBezTo>
                <a:cubicBezTo>
                  <a:pt x="13005" y="7960"/>
                  <a:pt x="12998" y="8014"/>
                  <a:pt x="12998" y="8062"/>
                </a:cubicBezTo>
              </a:path>
              <a:path w="745" h="547">
                <a:moveTo>
                  <a:pt x="12948" y="7739"/>
                </a:moveTo>
                <a:cubicBezTo>
                  <a:pt x="12939" y="7649"/>
                  <a:pt x="12926" y="7656"/>
                  <a:pt x="12948" y="7590"/>
                </a:cubicBezTo>
                <a:cubicBezTo>
                  <a:pt x="12965" y="7538"/>
                  <a:pt x="12989" y="7528"/>
                  <a:pt x="13047" y="7516"/>
                </a:cubicBezTo>
                <a:cubicBezTo>
                  <a:pt x="13093" y="7580"/>
                  <a:pt x="13133" y="7606"/>
                  <a:pt x="13146" y="7689"/>
                </a:cubicBezTo>
                <a:cubicBezTo>
                  <a:pt x="13158" y="7765"/>
                  <a:pt x="13108" y="7784"/>
                  <a:pt x="13047" y="7789"/>
                </a:cubicBezTo>
                <a:cubicBezTo>
                  <a:pt x="13039" y="7789"/>
                  <a:pt x="13030" y="7789"/>
                  <a:pt x="13022" y="778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40200" y="2598840"/>
            <a:ext cx="312840" cy="152280"/>
          </a:xfrm>
          <a:custGeom>
            <a:avLst/>
            <a:gdLst/>
            <a:ahLst/>
            <a:rect l="l" t="t" r="r" b="b"/>
            <a:pathLst>
              <a:path w="869" h="423">
                <a:moveTo>
                  <a:pt x="13568" y="7491"/>
                </a:moveTo>
                <a:cubicBezTo>
                  <a:pt x="13593" y="7491"/>
                  <a:pt x="13601" y="7491"/>
                  <a:pt x="13618" y="7491"/>
                </a:cubicBezTo>
                <a:cubicBezTo>
                  <a:pt x="13568" y="7491"/>
                  <a:pt x="13559" y="7502"/>
                  <a:pt x="13519" y="7516"/>
                </a:cubicBezTo>
                <a:cubicBezTo>
                  <a:pt x="13500" y="7522"/>
                  <a:pt x="13464" y="7516"/>
                  <a:pt x="13444" y="7516"/>
                </a:cubicBezTo>
              </a:path>
              <a:path w="869" h="423">
                <a:moveTo>
                  <a:pt x="13643" y="7590"/>
                </a:moveTo>
                <a:cubicBezTo>
                  <a:pt x="13643" y="7598"/>
                  <a:pt x="13643" y="7607"/>
                  <a:pt x="13643" y="7615"/>
                </a:cubicBezTo>
                <a:cubicBezTo>
                  <a:pt x="13597" y="7630"/>
                  <a:pt x="13619" y="7640"/>
                  <a:pt x="13543" y="7640"/>
                </a:cubicBezTo>
                <a:cubicBezTo>
                  <a:pt x="13518" y="7640"/>
                  <a:pt x="13494" y="7640"/>
                  <a:pt x="13469" y="7640"/>
                </a:cubicBezTo>
              </a:path>
              <a:path w="869" h="423">
                <a:moveTo>
                  <a:pt x="13866" y="7342"/>
                </a:moveTo>
                <a:cubicBezTo>
                  <a:pt x="13866" y="7290"/>
                  <a:pt x="13862" y="7290"/>
                  <a:pt x="13891" y="7268"/>
                </a:cubicBezTo>
                <a:cubicBezTo>
                  <a:pt x="13930" y="7238"/>
                  <a:pt x="13953" y="7192"/>
                  <a:pt x="14015" y="7218"/>
                </a:cubicBezTo>
                <a:cubicBezTo>
                  <a:pt x="14055" y="7235"/>
                  <a:pt x="14039" y="7311"/>
                  <a:pt x="14039" y="7342"/>
                </a:cubicBezTo>
                <a:cubicBezTo>
                  <a:pt x="14039" y="7409"/>
                  <a:pt x="14004" y="7485"/>
                  <a:pt x="13965" y="7541"/>
                </a:cubicBezTo>
                <a:cubicBezTo>
                  <a:pt x="13938" y="7580"/>
                  <a:pt x="13940" y="7591"/>
                  <a:pt x="13940" y="7640"/>
                </a:cubicBezTo>
                <a:cubicBezTo>
                  <a:pt x="14008" y="7640"/>
                  <a:pt x="14051" y="7631"/>
                  <a:pt x="14114" y="7615"/>
                </a:cubicBezTo>
                <a:cubicBezTo>
                  <a:pt x="14145" y="7607"/>
                  <a:pt x="14212" y="7605"/>
                  <a:pt x="14238" y="7590"/>
                </a:cubicBezTo>
                <a:cubicBezTo>
                  <a:pt x="14276" y="7569"/>
                  <a:pt x="14266" y="7565"/>
                  <a:pt x="14312" y="756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00800" y="2652840"/>
            <a:ext cx="71280" cy="204840"/>
          </a:xfrm>
          <a:custGeom>
            <a:avLst/>
            <a:gdLst/>
            <a:ahLst/>
            <a:rect l="l" t="t" r="r" b="b"/>
            <a:pathLst>
              <a:path w="199" h="572">
                <a:moveTo>
                  <a:pt x="15304" y="7541"/>
                </a:moveTo>
                <a:cubicBezTo>
                  <a:pt x="15304" y="7524"/>
                  <a:pt x="15304" y="7508"/>
                  <a:pt x="15304" y="7491"/>
                </a:cubicBezTo>
                <a:cubicBezTo>
                  <a:pt x="15343" y="7517"/>
                  <a:pt x="15329" y="7579"/>
                  <a:pt x="15329" y="7640"/>
                </a:cubicBezTo>
                <a:cubicBezTo>
                  <a:pt x="15329" y="7744"/>
                  <a:pt x="15347" y="7843"/>
                  <a:pt x="15379" y="7938"/>
                </a:cubicBezTo>
              </a:path>
              <a:path w="199" h="572">
                <a:moveTo>
                  <a:pt x="15280" y="7491"/>
                </a:moveTo>
                <a:cubicBezTo>
                  <a:pt x="15305" y="7406"/>
                  <a:pt x="15290" y="7374"/>
                  <a:pt x="15379" y="7367"/>
                </a:cubicBezTo>
                <a:cubicBezTo>
                  <a:pt x="15436" y="7362"/>
                  <a:pt x="15459" y="7384"/>
                  <a:pt x="15478" y="7441"/>
                </a:cubicBezTo>
                <a:cubicBezTo>
                  <a:pt x="15493" y="7486"/>
                  <a:pt x="15481" y="7534"/>
                  <a:pt x="15453" y="7565"/>
                </a:cubicBezTo>
                <a:cubicBezTo>
                  <a:pt x="15425" y="7596"/>
                  <a:pt x="15417" y="7590"/>
                  <a:pt x="15379" y="759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80080" y="265284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15900" y="7367"/>
                </a:moveTo>
                <a:cubicBezTo>
                  <a:pt x="15925" y="7367"/>
                  <a:pt x="15933" y="7367"/>
                  <a:pt x="15949" y="7367"/>
                </a:cubicBezTo>
                <a:cubicBezTo>
                  <a:pt x="15904" y="7383"/>
                  <a:pt x="15926" y="7392"/>
                  <a:pt x="15850" y="7392"/>
                </a:cubicBezTo>
                <a:cubicBezTo>
                  <a:pt x="15825" y="7392"/>
                  <a:pt x="15801" y="7392"/>
                  <a:pt x="15776" y="7392"/>
                </a:cubicBezTo>
              </a:path>
              <a:path w="174" h="150">
                <a:moveTo>
                  <a:pt x="15925" y="7466"/>
                </a:moveTo>
                <a:cubicBezTo>
                  <a:pt x="15925" y="7474"/>
                  <a:pt x="15925" y="7483"/>
                  <a:pt x="15925" y="7491"/>
                </a:cubicBezTo>
                <a:cubicBezTo>
                  <a:pt x="15873" y="7491"/>
                  <a:pt x="15842" y="7503"/>
                  <a:pt x="15801" y="7516"/>
                </a:cubicBezTo>
                <a:cubicBezTo>
                  <a:pt x="15793" y="7516"/>
                  <a:pt x="15784" y="7516"/>
                  <a:pt x="15776" y="751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48200" y="2581200"/>
            <a:ext cx="152640" cy="13356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6247" y="7243"/>
                </a:moveTo>
                <a:cubicBezTo>
                  <a:pt x="16247" y="7203"/>
                  <a:pt x="16252" y="7178"/>
                  <a:pt x="16297" y="7169"/>
                </a:cubicBezTo>
                <a:cubicBezTo>
                  <a:pt x="16325" y="7163"/>
                  <a:pt x="16366" y="7169"/>
                  <a:pt x="16396" y="7169"/>
                </a:cubicBezTo>
                <a:cubicBezTo>
                  <a:pt x="16396" y="7253"/>
                  <a:pt x="16389" y="7314"/>
                  <a:pt x="16371" y="7392"/>
                </a:cubicBezTo>
                <a:cubicBezTo>
                  <a:pt x="16361" y="7437"/>
                  <a:pt x="16346" y="7462"/>
                  <a:pt x="16346" y="7516"/>
                </a:cubicBezTo>
                <a:cubicBezTo>
                  <a:pt x="16346" y="7524"/>
                  <a:pt x="16346" y="7533"/>
                  <a:pt x="16346" y="7541"/>
                </a:cubicBezTo>
                <a:cubicBezTo>
                  <a:pt x="16412" y="7541"/>
                  <a:pt x="16465" y="7527"/>
                  <a:pt x="16520" y="7516"/>
                </a:cubicBezTo>
                <a:cubicBezTo>
                  <a:pt x="16581" y="7504"/>
                  <a:pt x="16612" y="7507"/>
                  <a:pt x="16644" y="7491"/>
                </a:cubicBezTo>
                <a:cubicBezTo>
                  <a:pt x="16652" y="7491"/>
                  <a:pt x="16661" y="7491"/>
                  <a:pt x="16669" y="749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70240" y="3027240"/>
            <a:ext cx="26856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11658" y="8508"/>
                </a:moveTo>
                <a:cubicBezTo>
                  <a:pt x="11658" y="8516"/>
                  <a:pt x="11658" y="8525"/>
                  <a:pt x="11658" y="8533"/>
                </a:cubicBezTo>
              </a:path>
              <a:path w="745" h="373">
                <a:moveTo>
                  <a:pt x="11658" y="8508"/>
                </a:moveTo>
                <a:cubicBezTo>
                  <a:pt x="11617" y="8508"/>
                  <a:pt x="11601" y="8500"/>
                  <a:pt x="11609" y="8533"/>
                </a:cubicBezTo>
                <a:cubicBezTo>
                  <a:pt x="11593" y="8469"/>
                  <a:pt x="11589" y="8492"/>
                  <a:pt x="11609" y="8434"/>
                </a:cubicBezTo>
                <a:cubicBezTo>
                  <a:pt x="11623" y="8392"/>
                  <a:pt x="11656" y="8409"/>
                  <a:pt x="11708" y="8409"/>
                </a:cubicBezTo>
                <a:cubicBezTo>
                  <a:pt x="11791" y="8409"/>
                  <a:pt x="11818" y="8487"/>
                  <a:pt x="11832" y="8558"/>
                </a:cubicBezTo>
                <a:cubicBezTo>
                  <a:pt x="11850" y="8651"/>
                  <a:pt x="11835" y="8710"/>
                  <a:pt x="11757" y="8756"/>
                </a:cubicBezTo>
                <a:cubicBezTo>
                  <a:pt x="11707" y="8786"/>
                  <a:pt x="11644" y="8795"/>
                  <a:pt x="11609" y="8731"/>
                </a:cubicBezTo>
                <a:cubicBezTo>
                  <a:pt x="11592" y="8699"/>
                  <a:pt x="11572" y="8623"/>
                  <a:pt x="11584" y="8582"/>
                </a:cubicBezTo>
                <a:cubicBezTo>
                  <a:pt x="11592" y="8566"/>
                  <a:pt x="11601" y="8549"/>
                  <a:pt x="11609" y="8533"/>
                </a:cubicBezTo>
              </a:path>
              <a:path w="745" h="373">
                <a:moveTo>
                  <a:pt x="12303" y="8533"/>
                </a:moveTo>
                <a:cubicBezTo>
                  <a:pt x="12311" y="8533"/>
                  <a:pt x="12320" y="8533"/>
                  <a:pt x="12328" y="8533"/>
                </a:cubicBezTo>
                <a:cubicBezTo>
                  <a:pt x="12281" y="8533"/>
                  <a:pt x="12265" y="8550"/>
                  <a:pt x="12229" y="8558"/>
                </a:cubicBezTo>
                <a:cubicBezTo>
                  <a:pt x="12192" y="8566"/>
                  <a:pt x="12143" y="8558"/>
                  <a:pt x="12105" y="8558"/>
                </a:cubicBezTo>
              </a:path>
              <a:path w="745" h="373">
                <a:moveTo>
                  <a:pt x="12154" y="8458"/>
                </a:moveTo>
                <a:cubicBezTo>
                  <a:pt x="12170" y="8469"/>
                  <a:pt x="12199" y="8542"/>
                  <a:pt x="12204" y="8582"/>
                </a:cubicBezTo>
                <a:cubicBezTo>
                  <a:pt x="12204" y="8640"/>
                  <a:pt x="12204" y="8649"/>
                  <a:pt x="12204" y="868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89640" y="2928960"/>
            <a:ext cx="285480" cy="258840"/>
          </a:xfrm>
          <a:custGeom>
            <a:avLst/>
            <a:gdLst/>
            <a:ahLst/>
            <a:rect l="l" t="t" r="r" b="b"/>
            <a:pathLst>
              <a:path w="794" h="720">
                <a:moveTo>
                  <a:pt x="12799" y="8409"/>
                </a:moveTo>
                <a:cubicBezTo>
                  <a:pt x="12820" y="8402"/>
                  <a:pt x="12867" y="8384"/>
                  <a:pt x="12824" y="8384"/>
                </a:cubicBezTo>
                <a:cubicBezTo>
                  <a:pt x="12751" y="8384"/>
                  <a:pt x="12753" y="8454"/>
                  <a:pt x="12750" y="8508"/>
                </a:cubicBezTo>
                <a:cubicBezTo>
                  <a:pt x="12747" y="8561"/>
                  <a:pt x="12740" y="8600"/>
                  <a:pt x="12799" y="8607"/>
                </a:cubicBezTo>
                <a:cubicBezTo>
                  <a:pt x="12825" y="8610"/>
                  <a:pt x="12848" y="8558"/>
                  <a:pt x="12874" y="8533"/>
                </a:cubicBezTo>
                <a:cubicBezTo>
                  <a:pt x="12885" y="8602"/>
                  <a:pt x="12898" y="8660"/>
                  <a:pt x="12898" y="8731"/>
                </a:cubicBezTo>
                <a:cubicBezTo>
                  <a:pt x="12898" y="8766"/>
                  <a:pt x="12882" y="8835"/>
                  <a:pt x="12923" y="8855"/>
                </a:cubicBezTo>
                <a:cubicBezTo>
                  <a:pt x="12956" y="8871"/>
                  <a:pt x="13023" y="8846"/>
                  <a:pt x="13047" y="8830"/>
                </a:cubicBezTo>
                <a:cubicBezTo>
                  <a:pt x="13085" y="8805"/>
                  <a:pt x="13131" y="8769"/>
                  <a:pt x="13171" y="8756"/>
                </a:cubicBezTo>
                <a:cubicBezTo>
                  <a:pt x="13179" y="8756"/>
                  <a:pt x="13188" y="8756"/>
                  <a:pt x="13196" y="8756"/>
                </a:cubicBezTo>
              </a:path>
              <a:path w="794" h="720">
                <a:moveTo>
                  <a:pt x="13519" y="8136"/>
                </a:moveTo>
                <a:cubicBezTo>
                  <a:pt x="13473" y="8136"/>
                  <a:pt x="13460" y="8156"/>
                  <a:pt x="13419" y="8161"/>
                </a:cubicBezTo>
                <a:cubicBezTo>
                  <a:pt x="13395" y="8161"/>
                  <a:pt x="13386" y="8161"/>
                  <a:pt x="13370" y="8161"/>
                </a:cubicBezTo>
              </a:path>
              <a:path w="794" h="720">
                <a:moveTo>
                  <a:pt x="13543" y="8210"/>
                </a:moveTo>
                <a:cubicBezTo>
                  <a:pt x="13535" y="8210"/>
                  <a:pt x="13527" y="8210"/>
                  <a:pt x="13519" y="8210"/>
                </a:cubicBezTo>
                <a:cubicBezTo>
                  <a:pt x="13507" y="8246"/>
                  <a:pt x="13482" y="8232"/>
                  <a:pt x="13444" y="826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00760" y="2874960"/>
            <a:ext cx="142920" cy="1620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3915" y="8062"/>
                </a:moveTo>
                <a:cubicBezTo>
                  <a:pt x="13891" y="8012"/>
                  <a:pt x="13926" y="8003"/>
                  <a:pt x="13990" y="7987"/>
                </a:cubicBezTo>
                <a:cubicBezTo>
                  <a:pt x="14029" y="7977"/>
                  <a:pt x="14090" y="7977"/>
                  <a:pt x="14114" y="8012"/>
                </a:cubicBezTo>
                <a:cubicBezTo>
                  <a:pt x="14152" y="8067"/>
                  <a:pt x="14184" y="8105"/>
                  <a:pt x="14139" y="8161"/>
                </a:cubicBezTo>
                <a:cubicBezTo>
                  <a:pt x="14103" y="8207"/>
                  <a:pt x="14053" y="8229"/>
                  <a:pt x="14039" y="8285"/>
                </a:cubicBezTo>
                <a:cubicBezTo>
                  <a:pt x="14105" y="8294"/>
                  <a:pt x="14142" y="8330"/>
                  <a:pt x="14213" y="8334"/>
                </a:cubicBezTo>
                <a:cubicBezTo>
                  <a:pt x="14249" y="8336"/>
                  <a:pt x="14321" y="8350"/>
                  <a:pt x="14288" y="8409"/>
                </a:cubicBezTo>
                <a:cubicBezTo>
                  <a:pt x="14256" y="8466"/>
                  <a:pt x="14180" y="8425"/>
                  <a:pt x="14139" y="840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00800" y="2894040"/>
            <a:ext cx="268200" cy="1778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5478" y="8161"/>
                </a:moveTo>
                <a:cubicBezTo>
                  <a:pt x="15463" y="8100"/>
                  <a:pt x="15440" y="8111"/>
                  <a:pt x="15379" y="8111"/>
                </a:cubicBezTo>
                <a:cubicBezTo>
                  <a:pt x="15304" y="8111"/>
                  <a:pt x="15286" y="8140"/>
                  <a:pt x="15280" y="8210"/>
                </a:cubicBezTo>
                <a:cubicBezTo>
                  <a:pt x="15277" y="8247"/>
                  <a:pt x="15317" y="8281"/>
                  <a:pt x="15354" y="8260"/>
                </a:cubicBezTo>
                <a:cubicBezTo>
                  <a:pt x="15389" y="8241"/>
                  <a:pt x="15411" y="8215"/>
                  <a:pt x="15453" y="8210"/>
                </a:cubicBezTo>
                <a:cubicBezTo>
                  <a:pt x="15461" y="8210"/>
                  <a:pt x="15470" y="8210"/>
                  <a:pt x="15478" y="8210"/>
                </a:cubicBezTo>
                <a:cubicBezTo>
                  <a:pt x="15478" y="8277"/>
                  <a:pt x="15463" y="8323"/>
                  <a:pt x="15453" y="8384"/>
                </a:cubicBezTo>
                <a:cubicBezTo>
                  <a:pt x="15445" y="8431"/>
                  <a:pt x="15453" y="8485"/>
                  <a:pt x="15453" y="8533"/>
                </a:cubicBezTo>
                <a:cubicBezTo>
                  <a:pt x="15491" y="8533"/>
                  <a:pt x="15547" y="8523"/>
                  <a:pt x="15577" y="8508"/>
                </a:cubicBezTo>
                <a:cubicBezTo>
                  <a:pt x="15621" y="8486"/>
                  <a:pt x="15648" y="8483"/>
                  <a:pt x="15701" y="8483"/>
                </a:cubicBezTo>
                <a:cubicBezTo>
                  <a:pt x="15745" y="8483"/>
                  <a:pt x="15741" y="8484"/>
                  <a:pt x="15776" y="8458"/>
                </a:cubicBezTo>
              </a:path>
              <a:path w="745" h="497">
                <a:moveTo>
                  <a:pt x="16024" y="8062"/>
                </a:moveTo>
                <a:cubicBezTo>
                  <a:pt x="16024" y="8054"/>
                  <a:pt x="16024" y="8045"/>
                  <a:pt x="16024" y="8037"/>
                </a:cubicBezTo>
                <a:cubicBezTo>
                  <a:pt x="15999" y="8043"/>
                  <a:pt x="15947" y="8050"/>
                  <a:pt x="15925" y="8062"/>
                </a:cubicBezTo>
                <a:cubicBezTo>
                  <a:pt x="15902" y="8084"/>
                  <a:pt x="15897" y="8092"/>
                  <a:pt x="15875" y="8086"/>
                </a:cubicBezTo>
              </a:path>
              <a:path w="745" h="497">
                <a:moveTo>
                  <a:pt x="16024" y="8161"/>
                </a:moveTo>
                <a:cubicBezTo>
                  <a:pt x="16012" y="8210"/>
                  <a:pt x="15999" y="8210"/>
                  <a:pt x="15949" y="8210"/>
                </a:cubicBezTo>
                <a:cubicBezTo>
                  <a:pt x="15925" y="8210"/>
                  <a:pt x="15916" y="8210"/>
                  <a:pt x="15900" y="821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11920" y="2803680"/>
            <a:ext cx="12528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6446" y="7888"/>
                </a:moveTo>
                <a:cubicBezTo>
                  <a:pt x="16433" y="7848"/>
                  <a:pt x="16434" y="7878"/>
                  <a:pt x="16421" y="7838"/>
                </a:cubicBezTo>
                <a:cubicBezTo>
                  <a:pt x="16451" y="7815"/>
                  <a:pt x="16481" y="7792"/>
                  <a:pt x="16520" y="7789"/>
                </a:cubicBezTo>
                <a:cubicBezTo>
                  <a:pt x="16579" y="7785"/>
                  <a:pt x="16643" y="7783"/>
                  <a:pt x="16669" y="7813"/>
                </a:cubicBezTo>
                <a:cubicBezTo>
                  <a:pt x="16688" y="7834"/>
                  <a:pt x="16712" y="7881"/>
                  <a:pt x="16694" y="7913"/>
                </a:cubicBezTo>
                <a:cubicBezTo>
                  <a:pt x="16679" y="7941"/>
                  <a:pt x="16653" y="7997"/>
                  <a:pt x="16619" y="8012"/>
                </a:cubicBezTo>
                <a:cubicBezTo>
                  <a:pt x="16595" y="8023"/>
                  <a:pt x="16568" y="8061"/>
                  <a:pt x="16619" y="8086"/>
                </a:cubicBezTo>
                <a:cubicBezTo>
                  <a:pt x="16650" y="8101"/>
                  <a:pt x="16711" y="8125"/>
                  <a:pt x="16743" y="8136"/>
                </a:cubicBezTo>
                <a:cubicBezTo>
                  <a:pt x="16765" y="8143"/>
                  <a:pt x="16788" y="8174"/>
                  <a:pt x="16768" y="8210"/>
                </a:cubicBezTo>
                <a:cubicBezTo>
                  <a:pt x="16745" y="8251"/>
                  <a:pt x="16659" y="8244"/>
                  <a:pt x="16619" y="8260"/>
                </a:cubicBezTo>
                <a:cubicBezTo>
                  <a:pt x="16550" y="8288"/>
                  <a:pt x="16496" y="8285"/>
                  <a:pt x="16421" y="828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70120" y="3419640"/>
            <a:ext cx="152280" cy="277560"/>
          </a:xfrm>
          <a:custGeom>
            <a:avLst/>
            <a:gdLst/>
            <a:ahLst/>
            <a:rect l="l" t="t" r="r" b="b"/>
            <a:pathLst>
              <a:path w="422" h="770">
                <a:moveTo>
                  <a:pt x="7516" y="9798"/>
                </a:moveTo>
                <a:cubicBezTo>
                  <a:pt x="7516" y="9773"/>
                  <a:pt x="7516" y="9765"/>
                  <a:pt x="7516" y="9748"/>
                </a:cubicBezTo>
                <a:cubicBezTo>
                  <a:pt x="7476" y="9758"/>
                  <a:pt x="7428" y="9804"/>
                  <a:pt x="7417" y="9847"/>
                </a:cubicBezTo>
                <a:cubicBezTo>
                  <a:pt x="7405" y="9894"/>
                  <a:pt x="7421" y="9971"/>
                  <a:pt x="7466" y="9996"/>
                </a:cubicBezTo>
                <a:cubicBezTo>
                  <a:pt x="7516" y="10024"/>
                  <a:pt x="7578" y="9983"/>
                  <a:pt x="7615" y="9971"/>
                </a:cubicBezTo>
                <a:cubicBezTo>
                  <a:pt x="7623" y="9971"/>
                  <a:pt x="7632" y="9971"/>
                  <a:pt x="7640" y="9971"/>
                </a:cubicBezTo>
              </a:path>
              <a:path w="422" h="770">
                <a:moveTo>
                  <a:pt x="7466" y="9550"/>
                </a:moveTo>
                <a:cubicBezTo>
                  <a:pt x="7466" y="9525"/>
                  <a:pt x="7466" y="9517"/>
                  <a:pt x="7466" y="9500"/>
                </a:cubicBezTo>
                <a:cubicBezTo>
                  <a:pt x="7517" y="9500"/>
                  <a:pt x="7524" y="9501"/>
                  <a:pt x="7565" y="9525"/>
                </a:cubicBezTo>
                <a:cubicBezTo>
                  <a:pt x="7641" y="9569"/>
                  <a:pt x="7710" y="9600"/>
                  <a:pt x="7764" y="9674"/>
                </a:cubicBezTo>
                <a:cubicBezTo>
                  <a:pt x="7819" y="9749"/>
                  <a:pt x="7835" y="9859"/>
                  <a:pt x="7838" y="9947"/>
                </a:cubicBezTo>
                <a:cubicBezTo>
                  <a:pt x="7842" y="10055"/>
                  <a:pt x="7809" y="10119"/>
                  <a:pt x="7739" y="10195"/>
                </a:cubicBezTo>
                <a:cubicBezTo>
                  <a:pt x="7706" y="10228"/>
                  <a:pt x="7690" y="10244"/>
                  <a:pt x="7665" y="1026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36960" y="3357720"/>
            <a:ext cx="411120" cy="482400"/>
          </a:xfrm>
          <a:custGeom>
            <a:avLst/>
            <a:gdLst/>
            <a:ahLst/>
            <a:rect l="l" t="t" r="r" b="b"/>
            <a:pathLst>
              <a:path w="1142" h="1340">
                <a:moveTo>
                  <a:pt x="8508" y="9376"/>
                </a:moveTo>
                <a:cubicBezTo>
                  <a:pt x="8519" y="9342"/>
                  <a:pt x="8556" y="9342"/>
                  <a:pt x="8508" y="9327"/>
                </a:cubicBezTo>
                <a:cubicBezTo>
                  <a:pt x="8474" y="9382"/>
                  <a:pt x="8444" y="9480"/>
                  <a:pt x="8434" y="9550"/>
                </a:cubicBezTo>
                <a:cubicBezTo>
                  <a:pt x="8415" y="9691"/>
                  <a:pt x="8456" y="9834"/>
                  <a:pt x="8483" y="9971"/>
                </a:cubicBezTo>
                <a:cubicBezTo>
                  <a:pt x="8514" y="10128"/>
                  <a:pt x="8539" y="10289"/>
                  <a:pt x="8582" y="10443"/>
                </a:cubicBezTo>
                <a:cubicBezTo>
                  <a:pt x="8605" y="10526"/>
                  <a:pt x="8666" y="10584"/>
                  <a:pt x="8682" y="10666"/>
                </a:cubicBezTo>
              </a:path>
              <a:path w="1142" h="1340">
                <a:moveTo>
                  <a:pt x="8855" y="9575"/>
                </a:moveTo>
                <a:cubicBezTo>
                  <a:pt x="8812" y="9561"/>
                  <a:pt x="8825" y="9519"/>
                  <a:pt x="8855" y="9475"/>
                </a:cubicBezTo>
                <a:cubicBezTo>
                  <a:pt x="8876" y="9444"/>
                  <a:pt x="8944" y="9428"/>
                  <a:pt x="8979" y="9426"/>
                </a:cubicBezTo>
                <a:cubicBezTo>
                  <a:pt x="9064" y="9420"/>
                  <a:pt x="9089" y="9499"/>
                  <a:pt x="9103" y="9575"/>
                </a:cubicBezTo>
                <a:cubicBezTo>
                  <a:pt x="9116" y="9645"/>
                  <a:pt x="9120" y="9731"/>
                  <a:pt x="9054" y="9773"/>
                </a:cubicBezTo>
                <a:cubicBezTo>
                  <a:pt x="9017" y="9797"/>
                  <a:pt x="8929" y="9750"/>
                  <a:pt x="8905" y="9723"/>
                </a:cubicBezTo>
                <a:cubicBezTo>
                  <a:pt x="8871" y="9684"/>
                  <a:pt x="8880" y="9646"/>
                  <a:pt x="8880" y="9599"/>
                </a:cubicBezTo>
              </a:path>
              <a:path w="1142" h="1340">
                <a:moveTo>
                  <a:pt x="9004" y="10244"/>
                </a:moveTo>
                <a:cubicBezTo>
                  <a:pt x="8996" y="10236"/>
                  <a:pt x="8987" y="10228"/>
                  <a:pt x="8979" y="10220"/>
                </a:cubicBezTo>
                <a:cubicBezTo>
                  <a:pt x="8979" y="10278"/>
                  <a:pt x="8979" y="10335"/>
                  <a:pt x="8979" y="10393"/>
                </a:cubicBezTo>
              </a:path>
              <a:path w="1142" h="1340">
                <a:moveTo>
                  <a:pt x="9203" y="10145"/>
                </a:moveTo>
                <a:cubicBezTo>
                  <a:pt x="9257" y="10164"/>
                  <a:pt x="9201" y="10224"/>
                  <a:pt x="9178" y="10269"/>
                </a:cubicBezTo>
                <a:cubicBezTo>
                  <a:pt x="9147" y="10331"/>
                  <a:pt x="9154" y="10416"/>
                  <a:pt x="9128" y="10468"/>
                </a:cubicBezTo>
                <a:cubicBezTo>
                  <a:pt x="9120" y="10476"/>
                  <a:pt x="9111" y="10484"/>
                  <a:pt x="9103" y="10492"/>
                </a:cubicBezTo>
              </a:path>
              <a:path w="1142" h="1340">
                <a:moveTo>
                  <a:pt x="9277" y="10418"/>
                </a:moveTo>
                <a:cubicBezTo>
                  <a:pt x="9318" y="10377"/>
                  <a:pt x="9360" y="10346"/>
                  <a:pt x="9401" y="10319"/>
                </a:cubicBezTo>
                <a:cubicBezTo>
                  <a:pt x="9442" y="10292"/>
                  <a:pt x="9468" y="10280"/>
                  <a:pt x="9475" y="10344"/>
                </a:cubicBezTo>
                <a:cubicBezTo>
                  <a:pt x="9480" y="10391"/>
                  <a:pt x="9417" y="10428"/>
                  <a:pt x="9401" y="10468"/>
                </a:cubicBezTo>
                <a:cubicBezTo>
                  <a:pt x="9394" y="10485"/>
                  <a:pt x="9401" y="10524"/>
                  <a:pt x="9401" y="10542"/>
                </a:cubicBezTo>
                <a:cubicBezTo>
                  <a:pt x="9469" y="10542"/>
                  <a:pt x="9512" y="10544"/>
                  <a:pt x="9575" y="1051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303720"/>
            <a:ext cx="741600" cy="554040"/>
          </a:xfrm>
          <a:custGeom>
            <a:avLst/>
            <a:gdLst/>
            <a:ahLst/>
            <a:rect l="l" t="t" r="r" b="b"/>
            <a:pathLst>
              <a:path w="2059" h="1539">
                <a:moveTo>
                  <a:pt x="10418" y="9376"/>
                </a:moveTo>
                <a:cubicBezTo>
                  <a:pt x="10426" y="9353"/>
                  <a:pt x="10460" y="9337"/>
                  <a:pt x="10492" y="9327"/>
                </a:cubicBezTo>
                <a:cubicBezTo>
                  <a:pt x="10528" y="9315"/>
                  <a:pt x="10595" y="9351"/>
                  <a:pt x="10616" y="9376"/>
                </a:cubicBezTo>
                <a:cubicBezTo>
                  <a:pt x="10686" y="9458"/>
                  <a:pt x="10753" y="9598"/>
                  <a:pt x="10790" y="9699"/>
                </a:cubicBezTo>
                <a:cubicBezTo>
                  <a:pt x="10853" y="9872"/>
                  <a:pt x="10838" y="9978"/>
                  <a:pt x="10790" y="10145"/>
                </a:cubicBezTo>
                <a:cubicBezTo>
                  <a:pt x="10753" y="10277"/>
                  <a:pt x="10708" y="10373"/>
                  <a:pt x="10641" y="10492"/>
                </a:cubicBezTo>
                <a:cubicBezTo>
                  <a:pt x="10633" y="10509"/>
                  <a:pt x="10624" y="10525"/>
                  <a:pt x="10616" y="10542"/>
                </a:cubicBezTo>
              </a:path>
              <a:path w="2059" h="1539">
                <a:moveTo>
                  <a:pt x="11237" y="9203"/>
                </a:moveTo>
                <a:cubicBezTo>
                  <a:pt x="11261" y="9203"/>
                  <a:pt x="11269" y="9203"/>
                  <a:pt x="11261" y="9178"/>
                </a:cubicBezTo>
                <a:cubicBezTo>
                  <a:pt x="11243" y="9201"/>
                  <a:pt x="11235" y="9216"/>
                  <a:pt x="11212" y="9252"/>
                </a:cubicBezTo>
                <a:cubicBezTo>
                  <a:pt x="11177" y="9306"/>
                  <a:pt x="11175" y="9371"/>
                  <a:pt x="11137" y="9426"/>
                </a:cubicBezTo>
                <a:cubicBezTo>
                  <a:pt x="11106" y="9471"/>
                  <a:pt x="11108" y="9523"/>
                  <a:pt x="11088" y="9575"/>
                </a:cubicBezTo>
                <a:cubicBezTo>
                  <a:pt x="11067" y="9631"/>
                  <a:pt x="11047" y="9689"/>
                  <a:pt x="11038" y="9748"/>
                </a:cubicBezTo>
                <a:cubicBezTo>
                  <a:pt x="11019" y="9878"/>
                  <a:pt x="11044" y="10023"/>
                  <a:pt x="11063" y="10145"/>
                </a:cubicBezTo>
                <a:cubicBezTo>
                  <a:pt x="11075" y="10220"/>
                  <a:pt x="11102" y="10274"/>
                  <a:pt x="11137" y="10344"/>
                </a:cubicBezTo>
                <a:cubicBezTo>
                  <a:pt x="11177" y="10423"/>
                  <a:pt x="11249" y="10480"/>
                  <a:pt x="11311" y="10542"/>
                </a:cubicBezTo>
                <a:cubicBezTo>
                  <a:pt x="11366" y="10597"/>
                  <a:pt x="11409" y="10634"/>
                  <a:pt x="11460" y="10691"/>
                </a:cubicBezTo>
                <a:cubicBezTo>
                  <a:pt x="11468" y="10699"/>
                  <a:pt x="11477" y="10708"/>
                  <a:pt x="11485" y="10716"/>
                </a:cubicBezTo>
              </a:path>
              <a:path w="2059" h="1539">
                <a:moveTo>
                  <a:pt x="11609" y="9525"/>
                </a:moveTo>
                <a:cubicBezTo>
                  <a:pt x="11582" y="9516"/>
                  <a:pt x="11563" y="9507"/>
                  <a:pt x="11559" y="9475"/>
                </a:cubicBezTo>
                <a:cubicBezTo>
                  <a:pt x="11551" y="9416"/>
                  <a:pt x="11574" y="9425"/>
                  <a:pt x="11609" y="9401"/>
                </a:cubicBezTo>
                <a:cubicBezTo>
                  <a:pt x="11644" y="9377"/>
                  <a:pt x="11684" y="9360"/>
                  <a:pt x="11733" y="9376"/>
                </a:cubicBezTo>
                <a:cubicBezTo>
                  <a:pt x="11779" y="9391"/>
                  <a:pt x="11827" y="9428"/>
                  <a:pt x="11832" y="9475"/>
                </a:cubicBezTo>
                <a:cubicBezTo>
                  <a:pt x="11839" y="9536"/>
                  <a:pt x="11819" y="9575"/>
                  <a:pt x="11782" y="9624"/>
                </a:cubicBezTo>
                <a:cubicBezTo>
                  <a:pt x="11747" y="9670"/>
                  <a:pt x="11720" y="9688"/>
                  <a:pt x="11708" y="9748"/>
                </a:cubicBezTo>
                <a:cubicBezTo>
                  <a:pt x="11757" y="9748"/>
                  <a:pt x="11794" y="9731"/>
                  <a:pt x="11832" y="9723"/>
                </a:cubicBezTo>
                <a:cubicBezTo>
                  <a:pt x="11884" y="9712"/>
                  <a:pt x="11952" y="9723"/>
                  <a:pt x="12005" y="9723"/>
                </a:cubicBezTo>
              </a:path>
              <a:path w="2059" h="1539">
                <a:moveTo>
                  <a:pt x="11733" y="10344"/>
                </a:moveTo>
                <a:cubicBezTo>
                  <a:pt x="11733" y="10352"/>
                  <a:pt x="11733" y="10360"/>
                  <a:pt x="11733" y="10368"/>
                </a:cubicBezTo>
                <a:cubicBezTo>
                  <a:pt x="11716" y="10346"/>
                  <a:pt x="11689" y="10303"/>
                  <a:pt x="11708" y="10269"/>
                </a:cubicBezTo>
                <a:cubicBezTo>
                  <a:pt x="11744" y="10204"/>
                  <a:pt x="11721" y="10177"/>
                  <a:pt x="11807" y="10170"/>
                </a:cubicBezTo>
                <a:cubicBezTo>
                  <a:pt x="11876" y="10164"/>
                  <a:pt x="11877" y="10212"/>
                  <a:pt x="11906" y="10269"/>
                </a:cubicBezTo>
                <a:cubicBezTo>
                  <a:pt x="11926" y="10309"/>
                  <a:pt x="11954" y="10397"/>
                  <a:pt x="11931" y="10443"/>
                </a:cubicBezTo>
                <a:cubicBezTo>
                  <a:pt x="11904" y="10496"/>
                  <a:pt x="11817" y="10465"/>
                  <a:pt x="11782" y="10443"/>
                </a:cubicBezTo>
                <a:cubicBezTo>
                  <a:pt x="11757" y="10418"/>
                  <a:pt x="11749" y="10410"/>
                  <a:pt x="11733" y="10393"/>
                </a:cubicBezTo>
              </a:path>
              <a:path w="2059" h="1539">
                <a:moveTo>
                  <a:pt x="9947" y="9302"/>
                </a:moveTo>
                <a:cubicBezTo>
                  <a:pt x="9947" y="9294"/>
                  <a:pt x="9947" y="9285"/>
                  <a:pt x="9947" y="9277"/>
                </a:cubicBezTo>
                <a:cubicBezTo>
                  <a:pt x="9947" y="9330"/>
                  <a:pt x="9968" y="9347"/>
                  <a:pt x="9971" y="9401"/>
                </a:cubicBezTo>
                <a:cubicBezTo>
                  <a:pt x="9971" y="9442"/>
                  <a:pt x="9971" y="9450"/>
                  <a:pt x="9971" y="9475"/>
                </a:cubicBezTo>
              </a:path>
              <a:path w="2059" h="1539">
                <a:moveTo>
                  <a:pt x="10170" y="9351"/>
                </a:moveTo>
                <a:cubicBezTo>
                  <a:pt x="10178" y="9351"/>
                  <a:pt x="10187" y="9351"/>
                  <a:pt x="10195" y="9351"/>
                </a:cubicBezTo>
                <a:cubicBezTo>
                  <a:pt x="10195" y="9402"/>
                  <a:pt x="10198" y="9428"/>
                  <a:pt x="10170" y="9475"/>
                </a:cubicBezTo>
                <a:cubicBezTo>
                  <a:pt x="10128" y="9545"/>
                  <a:pt x="10093" y="9633"/>
                  <a:pt x="10046" y="9699"/>
                </a:cubicBezTo>
                <a:cubicBezTo>
                  <a:pt x="10023" y="9721"/>
                  <a:pt x="10015" y="9726"/>
                  <a:pt x="10021" y="9748"/>
                </a:cubicBezTo>
              </a:path>
              <a:path w="2059" h="1539">
                <a:moveTo>
                  <a:pt x="10244" y="9649"/>
                </a:moveTo>
                <a:cubicBezTo>
                  <a:pt x="10220" y="9649"/>
                  <a:pt x="10211" y="9649"/>
                  <a:pt x="10195" y="9649"/>
                </a:cubicBezTo>
                <a:cubicBezTo>
                  <a:pt x="10204" y="9612"/>
                  <a:pt x="10231" y="9587"/>
                  <a:pt x="10269" y="9575"/>
                </a:cubicBezTo>
                <a:cubicBezTo>
                  <a:pt x="10306" y="9563"/>
                  <a:pt x="10353" y="9589"/>
                  <a:pt x="10368" y="9624"/>
                </a:cubicBezTo>
                <a:cubicBezTo>
                  <a:pt x="10380" y="9651"/>
                  <a:pt x="10331" y="9725"/>
                  <a:pt x="10319" y="9748"/>
                </a:cubicBezTo>
                <a:cubicBezTo>
                  <a:pt x="10306" y="9772"/>
                  <a:pt x="10276" y="9839"/>
                  <a:pt x="10294" y="9872"/>
                </a:cubicBezTo>
                <a:cubicBezTo>
                  <a:pt x="10328" y="9932"/>
                  <a:pt x="10386" y="9876"/>
                  <a:pt x="10418" y="9847"/>
                </a:cubicBezTo>
                <a:cubicBezTo>
                  <a:pt x="10448" y="9821"/>
                  <a:pt x="10461" y="9822"/>
                  <a:pt x="10492" y="9798"/>
                </a:cubicBezTo>
              </a:path>
              <a:path w="2059" h="1539">
                <a:moveTo>
                  <a:pt x="10269" y="10344"/>
                </a:moveTo>
                <a:cubicBezTo>
                  <a:pt x="10229" y="10364"/>
                  <a:pt x="10222" y="10372"/>
                  <a:pt x="10195" y="10368"/>
                </a:cubicBezTo>
                <a:cubicBezTo>
                  <a:pt x="10195" y="10329"/>
                  <a:pt x="10184" y="10295"/>
                  <a:pt x="10220" y="10269"/>
                </a:cubicBezTo>
                <a:cubicBezTo>
                  <a:pt x="10268" y="10235"/>
                  <a:pt x="10336" y="10233"/>
                  <a:pt x="10368" y="10294"/>
                </a:cubicBezTo>
                <a:cubicBezTo>
                  <a:pt x="10402" y="10358"/>
                  <a:pt x="10440" y="10434"/>
                  <a:pt x="10393" y="10492"/>
                </a:cubicBezTo>
                <a:cubicBezTo>
                  <a:pt x="10369" y="10522"/>
                  <a:pt x="10280" y="10535"/>
                  <a:pt x="10244" y="10517"/>
                </a:cubicBezTo>
                <a:cubicBezTo>
                  <a:pt x="10207" y="10498"/>
                  <a:pt x="10202" y="10452"/>
                  <a:pt x="10195" y="1041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62640" y="3303720"/>
            <a:ext cx="385560" cy="455400"/>
          </a:xfrm>
          <a:custGeom>
            <a:avLst/>
            <a:gdLst/>
            <a:ahLst/>
            <a:rect l="l" t="t" r="r" b="b"/>
            <a:pathLst>
              <a:path w="1068" h="1266">
                <a:moveTo>
                  <a:pt x="12725" y="9401"/>
                </a:moveTo>
                <a:cubicBezTo>
                  <a:pt x="12716" y="9373"/>
                  <a:pt x="12646" y="9378"/>
                  <a:pt x="12675" y="9327"/>
                </a:cubicBezTo>
                <a:cubicBezTo>
                  <a:pt x="12697" y="9287"/>
                  <a:pt x="12764" y="9259"/>
                  <a:pt x="12799" y="9252"/>
                </a:cubicBezTo>
                <a:cubicBezTo>
                  <a:pt x="12851" y="9242"/>
                  <a:pt x="12912" y="9250"/>
                  <a:pt x="12923" y="9302"/>
                </a:cubicBezTo>
                <a:cubicBezTo>
                  <a:pt x="12939" y="9374"/>
                  <a:pt x="12920" y="9401"/>
                  <a:pt x="12874" y="9451"/>
                </a:cubicBezTo>
                <a:cubicBezTo>
                  <a:pt x="12834" y="9494"/>
                  <a:pt x="12756" y="9539"/>
                  <a:pt x="12750" y="9599"/>
                </a:cubicBezTo>
                <a:cubicBezTo>
                  <a:pt x="12750" y="9607"/>
                  <a:pt x="12750" y="9616"/>
                  <a:pt x="12750" y="9624"/>
                </a:cubicBezTo>
                <a:cubicBezTo>
                  <a:pt x="12807" y="9624"/>
                  <a:pt x="12853" y="9608"/>
                  <a:pt x="12898" y="9599"/>
                </a:cubicBezTo>
                <a:cubicBezTo>
                  <a:pt x="12951" y="9588"/>
                  <a:pt x="13017" y="9599"/>
                  <a:pt x="13072" y="9599"/>
                </a:cubicBezTo>
              </a:path>
              <a:path w="1068" h="1266">
                <a:moveTo>
                  <a:pt x="12923" y="10120"/>
                </a:moveTo>
                <a:cubicBezTo>
                  <a:pt x="12891" y="10110"/>
                  <a:pt x="12884" y="10103"/>
                  <a:pt x="12874" y="10071"/>
                </a:cubicBezTo>
                <a:cubicBezTo>
                  <a:pt x="12905" y="10063"/>
                  <a:pt x="12941" y="10057"/>
                  <a:pt x="12973" y="10046"/>
                </a:cubicBezTo>
                <a:cubicBezTo>
                  <a:pt x="13028" y="10026"/>
                  <a:pt x="13089" y="9997"/>
                  <a:pt x="13122" y="10071"/>
                </a:cubicBezTo>
                <a:cubicBezTo>
                  <a:pt x="13141" y="10115"/>
                  <a:pt x="13098" y="10144"/>
                  <a:pt x="13072" y="10170"/>
                </a:cubicBezTo>
                <a:cubicBezTo>
                  <a:pt x="13038" y="10204"/>
                  <a:pt x="12969" y="10222"/>
                  <a:pt x="12948" y="10269"/>
                </a:cubicBezTo>
                <a:cubicBezTo>
                  <a:pt x="12948" y="10277"/>
                  <a:pt x="12948" y="10286"/>
                  <a:pt x="12948" y="10294"/>
                </a:cubicBezTo>
                <a:cubicBezTo>
                  <a:pt x="12980" y="10318"/>
                  <a:pt x="13030" y="10333"/>
                  <a:pt x="13072" y="10344"/>
                </a:cubicBezTo>
                <a:cubicBezTo>
                  <a:pt x="13118" y="10355"/>
                  <a:pt x="13135" y="10372"/>
                  <a:pt x="13146" y="10418"/>
                </a:cubicBezTo>
                <a:cubicBezTo>
                  <a:pt x="13100" y="10454"/>
                  <a:pt x="13059" y="10443"/>
                  <a:pt x="12998" y="10443"/>
                </a:cubicBezTo>
                <a:cubicBezTo>
                  <a:pt x="12990" y="10443"/>
                  <a:pt x="12981" y="10443"/>
                  <a:pt x="12973" y="10443"/>
                </a:cubicBezTo>
              </a:path>
              <a:path w="1068" h="1266">
                <a:moveTo>
                  <a:pt x="13395" y="9252"/>
                </a:moveTo>
                <a:cubicBezTo>
                  <a:pt x="13386" y="9224"/>
                  <a:pt x="13386" y="9224"/>
                  <a:pt x="13370" y="9203"/>
                </a:cubicBezTo>
                <a:cubicBezTo>
                  <a:pt x="13394" y="9189"/>
                  <a:pt x="13434" y="9158"/>
                  <a:pt x="13469" y="9178"/>
                </a:cubicBezTo>
                <a:cubicBezTo>
                  <a:pt x="13518" y="9205"/>
                  <a:pt x="13587" y="9284"/>
                  <a:pt x="13618" y="9327"/>
                </a:cubicBezTo>
                <a:cubicBezTo>
                  <a:pt x="13679" y="9411"/>
                  <a:pt x="13730" y="9546"/>
                  <a:pt x="13742" y="9649"/>
                </a:cubicBezTo>
                <a:cubicBezTo>
                  <a:pt x="13756" y="9772"/>
                  <a:pt x="13746" y="9903"/>
                  <a:pt x="13717" y="10021"/>
                </a:cubicBezTo>
                <a:cubicBezTo>
                  <a:pt x="13688" y="10140"/>
                  <a:pt x="13630" y="10221"/>
                  <a:pt x="13568" y="10319"/>
                </a:cubicBezTo>
                <a:cubicBezTo>
                  <a:pt x="13537" y="10367"/>
                  <a:pt x="13538" y="10396"/>
                  <a:pt x="13494" y="1041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87960" y="3295800"/>
            <a:ext cx="527040" cy="463320"/>
          </a:xfrm>
          <a:custGeom>
            <a:avLst/>
            <a:gdLst/>
            <a:ahLst/>
            <a:rect l="l" t="t" r="r" b="b"/>
            <a:pathLst>
              <a:path w="1464" h="1291">
                <a:moveTo>
                  <a:pt x="14660" y="9624"/>
                </a:moveTo>
                <a:cubicBezTo>
                  <a:pt x="14660" y="9632"/>
                  <a:pt x="14660" y="9641"/>
                  <a:pt x="14660" y="9649"/>
                </a:cubicBezTo>
                <a:cubicBezTo>
                  <a:pt x="14577" y="9649"/>
                  <a:pt x="14495" y="9649"/>
                  <a:pt x="14412" y="9649"/>
                </a:cubicBezTo>
              </a:path>
              <a:path w="1464" h="1291">
                <a:moveTo>
                  <a:pt x="14635" y="9723"/>
                </a:moveTo>
                <a:cubicBezTo>
                  <a:pt x="14675" y="9743"/>
                  <a:pt x="14691" y="9742"/>
                  <a:pt x="14684" y="9773"/>
                </a:cubicBezTo>
                <a:cubicBezTo>
                  <a:pt x="14618" y="9773"/>
                  <a:pt x="14552" y="9773"/>
                  <a:pt x="14486" y="9773"/>
                </a:cubicBezTo>
              </a:path>
              <a:path w="1464" h="1291">
                <a:moveTo>
                  <a:pt x="15230" y="9203"/>
                </a:moveTo>
                <a:cubicBezTo>
                  <a:pt x="15230" y="9178"/>
                  <a:pt x="15230" y="9170"/>
                  <a:pt x="15230" y="9153"/>
                </a:cubicBezTo>
                <a:cubicBezTo>
                  <a:pt x="15215" y="9211"/>
                  <a:pt x="15192" y="9223"/>
                  <a:pt x="15156" y="9277"/>
                </a:cubicBezTo>
                <a:cubicBezTo>
                  <a:pt x="15106" y="9352"/>
                  <a:pt x="15080" y="9464"/>
                  <a:pt x="15056" y="9550"/>
                </a:cubicBezTo>
                <a:cubicBezTo>
                  <a:pt x="15022" y="9673"/>
                  <a:pt x="15032" y="9795"/>
                  <a:pt x="15032" y="9922"/>
                </a:cubicBezTo>
                <a:cubicBezTo>
                  <a:pt x="15032" y="10032"/>
                  <a:pt x="15079" y="10126"/>
                  <a:pt x="15131" y="10220"/>
                </a:cubicBezTo>
                <a:cubicBezTo>
                  <a:pt x="15178" y="10304"/>
                  <a:pt x="15246" y="10372"/>
                  <a:pt x="15329" y="10418"/>
                </a:cubicBezTo>
                <a:cubicBezTo>
                  <a:pt x="15370" y="10438"/>
                  <a:pt x="15376" y="10447"/>
                  <a:pt x="15404" y="10443"/>
                </a:cubicBezTo>
              </a:path>
              <a:path w="1464" h="1291">
                <a:moveTo>
                  <a:pt x="15652" y="9376"/>
                </a:moveTo>
                <a:cubicBezTo>
                  <a:pt x="15645" y="9350"/>
                  <a:pt x="15609" y="9309"/>
                  <a:pt x="15627" y="9277"/>
                </a:cubicBezTo>
                <a:cubicBezTo>
                  <a:pt x="15647" y="9242"/>
                  <a:pt x="15658" y="9208"/>
                  <a:pt x="15701" y="9203"/>
                </a:cubicBezTo>
                <a:cubicBezTo>
                  <a:pt x="15747" y="9198"/>
                  <a:pt x="15761" y="9245"/>
                  <a:pt x="15776" y="9252"/>
                </a:cubicBezTo>
                <a:cubicBezTo>
                  <a:pt x="15798" y="9263"/>
                  <a:pt x="15844" y="9289"/>
                  <a:pt x="15850" y="9302"/>
                </a:cubicBezTo>
                <a:cubicBezTo>
                  <a:pt x="15866" y="9334"/>
                  <a:pt x="15875" y="9361"/>
                  <a:pt x="15875" y="9401"/>
                </a:cubicBezTo>
                <a:cubicBezTo>
                  <a:pt x="15875" y="9452"/>
                  <a:pt x="15864" y="9459"/>
                  <a:pt x="15850" y="9500"/>
                </a:cubicBezTo>
                <a:cubicBezTo>
                  <a:pt x="15842" y="9524"/>
                  <a:pt x="15812" y="9569"/>
                  <a:pt x="15801" y="9575"/>
                </a:cubicBezTo>
                <a:cubicBezTo>
                  <a:pt x="15777" y="9587"/>
                  <a:pt x="15744" y="9597"/>
                  <a:pt x="15726" y="9599"/>
                </a:cubicBezTo>
                <a:cubicBezTo>
                  <a:pt x="15691" y="9603"/>
                  <a:pt x="15620" y="9611"/>
                  <a:pt x="15602" y="9575"/>
                </a:cubicBezTo>
                <a:cubicBezTo>
                  <a:pt x="15592" y="9556"/>
                  <a:pt x="15561" y="9502"/>
                  <a:pt x="15577" y="9475"/>
                </a:cubicBezTo>
                <a:cubicBezTo>
                  <a:pt x="15591" y="9450"/>
                  <a:pt x="15623" y="9409"/>
                  <a:pt x="15627" y="9401"/>
                </a:cubicBezTo>
                <a:cubicBezTo>
                  <a:pt x="15627" y="9376"/>
                  <a:pt x="15627" y="9368"/>
                  <a:pt x="15627" y="9351"/>
                </a:cubicBezTo>
              </a:path>
              <a:path w="1464" h="1291">
                <a:moveTo>
                  <a:pt x="15751" y="9971"/>
                </a:moveTo>
                <a:cubicBezTo>
                  <a:pt x="15751" y="10095"/>
                  <a:pt x="15751" y="10220"/>
                  <a:pt x="15751" y="1034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8120" y="3259080"/>
            <a:ext cx="403200" cy="563760"/>
          </a:xfrm>
          <a:custGeom>
            <a:avLst/>
            <a:gdLst/>
            <a:ahLst/>
            <a:rect l="l" t="t" r="r" b="b"/>
            <a:pathLst>
              <a:path w="1118" h="1563">
                <a:moveTo>
                  <a:pt x="17562" y="9103"/>
                </a:moveTo>
                <a:cubicBezTo>
                  <a:pt x="17562" y="9079"/>
                  <a:pt x="17562" y="9070"/>
                  <a:pt x="17562" y="9054"/>
                </a:cubicBezTo>
                <a:cubicBezTo>
                  <a:pt x="17597" y="9074"/>
                  <a:pt x="17627" y="9094"/>
                  <a:pt x="17661" y="9128"/>
                </a:cubicBezTo>
                <a:cubicBezTo>
                  <a:pt x="17718" y="9184"/>
                  <a:pt x="17728" y="9228"/>
                  <a:pt x="17760" y="9302"/>
                </a:cubicBezTo>
                <a:cubicBezTo>
                  <a:pt x="17798" y="9389"/>
                  <a:pt x="17831" y="9456"/>
                  <a:pt x="17835" y="9550"/>
                </a:cubicBezTo>
                <a:cubicBezTo>
                  <a:pt x="17839" y="9663"/>
                  <a:pt x="17849" y="9789"/>
                  <a:pt x="17810" y="9897"/>
                </a:cubicBezTo>
                <a:cubicBezTo>
                  <a:pt x="17768" y="10012"/>
                  <a:pt x="17720" y="10137"/>
                  <a:pt x="17661" y="10244"/>
                </a:cubicBezTo>
                <a:cubicBezTo>
                  <a:pt x="17606" y="10344"/>
                  <a:pt x="17524" y="10425"/>
                  <a:pt x="17462" y="10517"/>
                </a:cubicBezTo>
                <a:cubicBezTo>
                  <a:pt x="17438" y="10567"/>
                  <a:pt x="17430" y="10583"/>
                  <a:pt x="17413" y="10616"/>
                </a:cubicBezTo>
              </a:path>
              <a:path w="1118" h="1563">
                <a:moveTo>
                  <a:pt x="16743" y="9153"/>
                </a:moveTo>
                <a:cubicBezTo>
                  <a:pt x="16731" y="9149"/>
                  <a:pt x="16688" y="9102"/>
                  <a:pt x="16718" y="9079"/>
                </a:cubicBezTo>
                <a:cubicBezTo>
                  <a:pt x="16750" y="9054"/>
                  <a:pt x="16798" y="9054"/>
                  <a:pt x="16842" y="9054"/>
                </a:cubicBezTo>
                <a:cubicBezTo>
                  <a:pt x="16894" y="9054"/>
                  <a:pt x="16917" y="9051"/>
                  <a:pt x="16942" y="9079"/>
                </a:cubicBezTo>
                <a:cubicBezTo>
                  <a:pt x="16964" y="9101"/>
                  <a:pt x="16972" y="9106"/>
                  <a:pt x="16966" y="9128"/>
                </a:cubicBezTo>
                <a:cubicBezTo>
                  <a:pt x="16948" y="9142"/>
                  <a:pt x="16874" y="9168"/>
                  <a:pt x="16867" y="9178"/>
                </a:cubicBezTo>
                <a:cubicBezTo>
                  <a:pt x="16832" y="9231"/>
                  <a:pt x="16919" y="9260"/>
                  <a:pt x="16942" y="9277"/>
                </a:cubicBezTo>
                <a:cubicBezTo>
                  <a:pt x="16972" y="9300"/>
                  <a:pt x="16983" y="9355"/>
                  <a:pt x="16942" y="9376"/>
                </a:cubicBezTo>
                <a:cubicBezTo>
                  <a:pt x="16918" y="9388"/>
                  <a:pt x="16845" y="9398"/>
                  <a:pt x="16818" y="9401"/>
                </a:cubicBezTo>
                <a:cubicBezTo>
                  <a:pt x="16810" y="9401"/>
                  <a:pt x="16801" y="9401"/>
                  <a:pt x="16793" y="9401"/>
                </a:cubicBezTo>
              </a:path>
              <a:path w="1118" h="1563">
                <a:moveTo>
                  <a:pt x="17165" y="9252"/>
                </a:moveTo>
                <a:cubicBezTo>
                  <a:pt x="17173" y="9244"/>
                  <a:pt x="17182" y="9235"/>
                  <a:pt x="17190" y="9227"/>
                </a:cubicBezTo>
                <a:cubicBezTo>
                  <a:pt x="17175" y="9288"/>
                  <a:pt x="17125" y="9322"/>
                  <a:pt x="17090" y="9376"/>
                </a:cubicBezTo>
                <a:cubicBezTo>
                  <a:pt x="17059" y="9423"/>
                  <a:pt x="17027" y="9471"/>
                  <a:pt x="17016" y="9525"/>
                </a:cubicBezTo>
              </a:path>
              <a:path w="1118" h="1563">
                <a:moveTo>
                  <a:pt x="17190" y="9475"/>
                </a:moveTo>
                <a:cubicBezTo>
                  <a:pt x="17182" y="9467"/>
                  <a:pt x="17173" y="9459"/>
                  <a:pt x="17165" y="9451"/>
                </a:cubicBezTo>
                <a:cubicBezTo>
                  <a:pt x="17208" y="9418"/>
                  <a:pt x="17232" y="9406"/>
                  <a:pt x="17289" y="9401"/>
                </a:cubicBezTo>
                <a:cubicBezTo>
                  <a:pt x="17346" y="9396"/>
                  <a:pt x="17357" y="9418"/>
                  <a:pt x="17363" y="9475"/>
                </a:cubicBezTo>
                <a:cubicBezTo>
                  <a:pt x="17365" y="9491"/>
                  <a:pt x="17321" y="9570"/>
                  <a:pt x="17314" y="9575"/>
                </a:cubicBezTo>
                <a:cubicBezTo>
                  <a:pt x="17289" y="9575"/>
                  <a:pt x="17281" y="9575"/>
                  <a:pt x="17289" y="9599"/>
                </a:cubicBezTo>
                <a:cubicBezTo>
                  <a:pt x="17302" y="9639"/>
                  <a:pt x="17337" y="9624"/>
                  <a:pt x="17388" y="9624"/>
                </a:cubicBezTo>
                <a:cubicBezTo>
                  <a:pt x="17396" y="9624"/>
                  <a:pt x="17405" y="9624"/>
                  <a:pt x="17413" y="9624"/>
                </a:cubicBezTo>
              </a:path>
              <a:path w="1118" h="1563">
                <a:moveTo>
                  <a:pt x="17016" y="9996"/>
                </a:moveTo>
                <a:cubicBezTo>
                  <a:pt x="17016" y="9929"/>
                  <a:pt x="17016" y="10035"/>
                  <a:pt x="17016" y="10046"/>
                </a:cubicBezTo>
                <a:cubicBezTo>
                  <a:pt x="17016" y="10178"/>
                  <a:pt x="17016" y="10311"/>
                  <a:pt x="17016" y="1044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2060640"/>
            <a:ext cx="151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1840" y="1989000"/>
            <a:ext cx="165744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9840" y="2349360"/>
            <a:ext cx="7489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      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349360"/>
            <a:ext cx="505080" cy="57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42920" y="2997000"/>
            <a:ext cx="7308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2060640"/>
            <a:ext cx="3816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1989000"/>
            <a:ext cx="302400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933720"/>
            <a:ext cx="2016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6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2560" y="3862440"/>
            <a:ext cx="1873440" cy="136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422100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04000" y="4292640"/>
            <a:ext cx="3240000" cy="1944720"/>
          </a:xfrm>
          <a:prstGeom prst="cloudCallout">
            <a:avLst>
              <a:gd name="adj1" fmla="val -64111"/>
              <a:gd name="adj2" fmla="val 5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sy... multiply each element of the matrix by the sca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2060640"/>
            <a:ext cx="720720" cy="574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148428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2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1052640"/>
            <a:ext cx="18000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149720"/>
            <a:ext cx="5182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3) x (3 x 2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 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14972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407664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413000"/>
            <a:ext cx="20890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2492280"/>
            <a:ext cx="1656000" cy="165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4797360"/>
            <a:ext cx="4464000" cy="151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columns in the first must equal the number of rows in the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0:06:07Z</dcterms:created>
  <dc:creator>N Holden</dc:creator>
  <dc:description/>
  <dc:language>en-US</dc:language>
  <cp:lastModifiedBy>N Holden</cp:lastModifiedBy>
  <dcterms:modified xsi:type="dcterms:W3CDTF">2009-03-04T15:59:10Z</dcterms:modified>
  <cp:revision>8</cp:revision>
  <dc:subject/>
  <dc:title>L.O. Multiply matrices by scalars and other matrices</dc:title>
</cp:coreProperties>
</file>